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D96-D95A-468F-8CF3-6B6443ED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7BA7-66C3-4F14-86B1-BA72616E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A23D-A71F-4E15-A00E-708E4065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FC3-A589-4AB8-89C2-B2B9C653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F31A-E4C9-49A9-BDE6-02F0BE90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C876-FF53-48FB-87F9-B8C234D6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88F3-7623-47A6-B880-5E0625A1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C105-8E8C-435D-A14A-66CE85C4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D0D2-BBCA-4804-8DB1-6554A751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139D-FF25-449D-A310-76979613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9350-71A5-4F82-B87A-99D53F0E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C0CE-A76D-4EAA-B84C-FBE1E831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B3CD-182F-441A-AFBA-6A6B19DB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5402-456C-40E4-82E1-E71E86CB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5FB4-659E-46C2-B9C9-2C5A7259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4586-2C07-48BC-A382-009A470C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5787-F277-47B9-9DD6-7564B8F9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E065-5BA5-4F35-A17D-8A5CEC0F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C4A8-09E4-422C-B1E1-0BAE3B1F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01C8-F204-4CE7-A771-95717D4C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1AF4-14FC-4A78-AEBE-4BC08FB8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0B4C-4ABF-4CAC-90D2-2A00D4D3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ADEF-F87F-44AB-AE54-F8C1C648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ED22-C7A1-48B4-B3F2-102DDAA2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386B-07AA-4D32-9244-6C7020869D0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65EB-8793-4E76-8CD7-3C75F5D6869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Warm-up</a:t>
            </a:r>
            <a:br>
              <a:rPr sz="4000"/>
            </a:b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Write as ratios in simplest form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4477de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 out of 12 students got 100% on the quiz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4477de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d Sox lost to the Orioles 9 runs to 1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4477de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e the following Rat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:12 ____ 2: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5759280" y="2384280"/>
            <a:ext cx="63720" cy="231840"/>
          </a:xfrm>
          <a:custGeom>
            <a:avLst/>
            <a:gdLst/>
            <a:ahLst/>
            <a:rect l="l" t="t" r="r" b="b"/>
            <a:pathLst>
              <a:path w="175" h="646">
                <a:moveTo>
                  <a:pt x="15999" y="6623"/>
                </a:moveTo>
                <a:cubicBezTo>
                  <a:pt x="16019" y="6821"/>
                  <a:pt x="16064" y="7004"/>
                  <a:pt x="16123" y="7193"/>
                </a:cubicBezTo>
                <a:cubicBezTo>
                  <a:pt x="16142" y="7251"/>
                  <a:pt x="16133" y="7276"/>
                  <a:pt x="16173" y="7268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0200" y="2251080"/>
            <a:ext cx="598680" cy="704880"/>
          </a:xfrm>
          <a:custGeom>
            <a:avLst/>
            <a:gdLst/>
            <a:ahLst/>
            <a:rect l="l" t="t" r="r" b="b"/>
            <a:pathLst>
              <a:path w="1663" h="1960">
                <a:moveTo>
                  <a:pt x="7516" y="6276"/>
                </a:moveTo>
                <a:cubicBezTo>
                  <a:pt x="7516" y="6191"/>
                  <a:pt x="7493" y="6389"/>
                  <a:pt x="7491" y="6474"/>
                </a:cubicBezTo>
                <a:cubicBezTo>
                  <a:pt x="7491" y="6531"/>
                  <a:pt x="7491" y="6573"/>
                  <a:pt x="7491" y="6524"/>
                </a:cubicBezTo>
                <a:cubicBezTo>
                  <a:pt x="7491" y="6441"/>
                  <a:pt x="7491" y="6359"/>
                  <a:pt x="7491" y="6276"/>
                </a:cubicBezTo>
                <a:cubicBezTo>
                  <a:pt x="7665" y="6276"/>
                  <a:pt x="7838" y="6276"/>
                  <a:pt x="8012" y="6276"/>
                </a:cubicBezTo>
                <a:cubicBezTo>
                  <a:pt x="7945" y="6320"/>
                  <a:pt x="7880" y="6644"/>
                  <a:pt x="7863" y="6697"/>
                </a:cubicBezTo>
                <a:cubicBezTo>
                  <a:pt x="7830" y="6802"/>
                  <a:pt x="7751" y="6983"/>
                  <a:pt x="7739" y="7094"/>
                </a:cubicBezTo>
                <a:cubicBezTo>
                  <a:pt x="7739" y="7102"/>
                  <a:pt x="7739" y="7111"/>
                  <a:pt x="7739" y="7119"/>
                </a:cubicBezTo>
              </a:path>
              <a:path w="1663" h="1960">
                <a:moveTo>
                  <a:pt x="6945" y="7392"/>
                </a:moveTo>
                <a:cubicBezTo>
                  <a:pt x="7157" y="7329"/>
                  <a:pt x="7333" y="7302"/>
                  <a:pt x="7565" y="7293"/>
                </a:cubicBezTo>
                <a:cubicBezTo>
                  <a:pt x="7906" y="7279"/>
                  <a:pt x="8243" y="7306"/>
                  <a:pt x="8582" y="7317"/>
                </a:cubicBezTo>
                <a:cubicBezTo>
                  <a:pt x="8590" y="7317"/>
                  <a:pt x="8599" y="7317"/>
                  <a:pt x="8607" y="7317"/>
                </a:cubicBezTo>
              </a:path>
              <a:path w="1663" h="1960">
                <a:moveTo>
                  <a:pt x="7317" y="7516"/>
                </a:moveTo>
                <a:cubicBezTo>
                  <a:pt x="7317" y="7374"/>
                  <a:pt x="7305" y="7747"/>
                  <a:pt x="7293" y="7888"/>
                </a:cubicBezTo>
                <a:cubicBezTo>
                  <a:pt x="7281" y="8030"/>
                  <a:pt x="7215" y="8223"/>
                  <a:pt x="7367" y="8086"/>
                </a:cubicBezTo>
              </a:path>
              <a:path w="1663" h="1960">
                <a:moveTo>
                  <a:pt x="7665" y="7640"/>
                </a:moveTo>
                <a:cubicBezTo>
                  <a:pt x="7665" y="7548"/>
                  <a:pt x="7810" y="7510"/>
                  <a:pt x="7888" y="7491"/>
                </a:cubicBezTo>
                <a:cubicBezTo>
                  <a:pt x="7913" y="7491"/>
                  <a:pt x="7937" y="7491"/>
                  <a:pt x="7962" y="7491"/>
                </a:cubicBezTo>
                <a:cubicBezTo>
                  <a:pt x="7944" y="7710"/>
                  <a:pt x="7865" y="7854"/>
                  <a:pt x="7739" y="8037"/>
                </a:cubicBezTo>
                <a:cubicBezTo>
                  <a:pt x="7662" y="8134"/>
                  <a:pt x="7644" y="8145"/>
                  <a:pt x="7615" y="8210"/>
                </a:cubicBezTo>
                <a:cubicBezTo>
                  <a:pt x="7763" y="8168"/>
                  <a:pt x="7912" y="8119"/>
                  <a:pt x="8062" y="8086"/>
                </a:cubicBezTo>
                <a:cubicBezTo>
                  <a:pt x="8070" y="8086"/>
                  <a:pt x="8078" y="8086"/>
                  <a:pt x="8086" y="808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3840" y="2419200"/>
            <a:ext cx="804960" cy="304920"/>
          </a:xfrm>
          <a:custGeom>
            <a:avLst/>
            <a:gdLst/>
            <a:ahLst/>
            <a:rect l="l" t="t" r="r" b="b"/>
            <a:pathLst>
              <a:path w="2233" h="844">
                <a:moveTo>
                  <a:pt x="10096" y="6821"/>
                </a:moveTo>
                <a:cubicBezTo>
                  <a:pt x="10107" y="6898"/>
                  <a:pt x="10120" y="6966"/>
                  <a:pt x="10120" y="7045"/>
                </a:cubicBezTo>
                <a:cubicBezTo>
                  <a:pt x="10129" y="6973"/>
                  <a:pt x="10149" y="6872"/>
                  <a:pt x="10220" y="6846"/>
                </a:cubicBezTo>
                <a:cubicBezTo>
                  <a:pt x="10357" y="6796"/>
                  <a:pt x="10521" y="6805"/>
                  <a:pt x="10666" y="6772"/>
                </a:cubicBezTo>
                <a:cubicBezTo>
                  <a:pt x="10628" y="7026"/>
                  <a:pt x="10558" y="7265"/>
                  <a:pt x="10517" y="7516"/>
                </a:cubicBezTo>
                <a:cubicBezTo>
                  <a:pt x="10517" y="7532"/>
                  <a:pt x="10517" y="7549"/>
                  <a:pt x="10517" y="7565"/>
                </a:cubicBezTo>
              </a:path>
              <a:path w="2233" h="844">
                <a:moveTo>
                  <a:pt x="11013" y="6896"/>
                </a:moveTo>
                <a:cubicBezTo>
                  <a:pt x="10912" y="6969"/>
                  <a:pt x="10956" y="7018"/>
                  <a:pt x="11038" y="6945"/>
                </a:cubicBezTo>
                <a:cubicBezTo>
                  <a:pt x="11123" y="6869"/>
                  <a:pt x="10945" y="6920"/>
                  <a:pt x="10939" y="6921"/>
                </a:cubicBezTo>
              </a:path>
              <a:path w="2233" h="844">
                <a:moveTo>
                  <a:pt x="10988" y="7342"/>
                </a:moveTo>
                <a:cubicBezTo>
                  <a:pt x="10968" y="7382"/>
                  <a:pt x="10934" y="7426"/>
                  <a:pt x="10914" y="7466"/>
                </a:cubicBezTo>
                <a:cubicBezTo>
                  <a:pt x="10938" y="7462"/>
                  <a:pt x="11113" y="7409"/>
                  <a:pt x="11038" y="7342"/>
                </a:cubicBezTo>
                <a:cubicBezTo>
                  <a:pt x="10988" y="7342"/>
                  <a:pt x="10972" y="7342"/>
                  <a:pt x="10939" y="7342"/>
                </a:cubicBezTo>
              </a:path>
              <a:path w="2233" h="844">
                <a:moveTo>
                  <a:pt x="11385" y="6821"/>
                </a:moveTo>
                <a:cubicBezTo>
                  <a:pt x="11394" y="7029"/>
                  <a:pt x="11410" y="7232"/>
                  <a:pt x="11410" y="7441"/>
                </a:cubicBezTo>
                <a:cubicBezTo>
                  <a:pt x="11410" y="7486"/>
                  <a:pt x="11407" y="7506"/>
                  <a:pt x="11435" y="7466"/>
                </a:cubicBezTo>
              </a:path>
              <a:path w="2233" h="844">
                <a:moveTo>
                  <a:pt x="11708" y="6796"/>
                </a:moveTo>
                <a:cubicBezTo>
                  <a:pt x="11894" y="6703"/>
                  <a:pt x="12068" y="6696"/>
                  <a:pt x="12204" y="6896"/>
                </a:cubicBezTo>
                <a:cubicBezTo>
                  <a:pt x="12339" y="7094"/>
                  <a:pt x="12215" y="7373"/>
                  <a:pt x="12005" y="7441"/>
                </a:cubicBezTo>
                <a:cubicBezTo>
                  <a:pt x="11887" y="7441"/>
                  <a:pt x="11851" y="7446"/>
                  <a:pt x="11807" y="7367"/>
                </a:cubicBezTo>
                <a:cubicBezTo>
                  <a:pt x="11848" y="7232"/>
                  <a:pt x="11975" y="7224"/>
                  <a:pt x="12129" y="7268"/>
                </a:cubicBezTo>
                <a:cubicBezTo>
                  <a:pt x="12223" y="7295"/>
                  <a:pt x="12275" y="7346"/>
                  <a:pt x="12328" y="741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27760" y="2347920"/>
            <a:ext cx="608040" cy="366840"/>
          </a:xfrm>
          <a:custGeom>
            <a:avLst/>
            <a:gdLst/>
            <a:ahLst/>
            <a:rect l="l" t="t" r="r" b="b"/>
            <a:pathLst>
              <a:path w="1688" h="1018">
                <a:moveTo>
                  <a:pt x="13965" y="6772"/>
                </a:moveTo>
                <a:cubicBezTo>
                  <a:pt x="13965" y="6797"/>
                  <a:pt x="13965" y="6821"/>
                  <a:pt x="13965" y="6846"/>
                </a:cubicBezTo>
                <a:cubicBezTo>
                  <a:pt x="13985" y="6705"/>
                  <a:pt x="13977" y="6701"/>
                  <a:pt x="14114" y="6697"/>
                </a:cubicBezTo>
                <a:cubicBezTo>
                  <a:pt x="14211" y="6694"/>
                  <a:pt x="14292" y="6672"/>
                  <a:pt x="14387" y="6672"/>
                </a:cubicBezTo>
                <a:cubicBezTo>
                  <a:pt x="14387" y="6887"/>
                  <a:pt x="14334" y="7059"/>
                  <a:pt x="14288" y="7268"/>
                </a:cubicBezTo>
                <a:cubicBezTo>
                  <a:pt x="14250" y="7439"/>
                  <a:pt x="14217" y="7490"/>
                  <a:pt x="14337" y="7516"/>
                </a:cubicBezTo>
              </a:path>
              <a:path w="1688" h="1018">
                <a:moveTo>
                  <a:pt x="14858" y="6524"/>
                </a:moveTo>
                <a:cubicBezTo>
                  <a:pt x="14930" y="6753"/>
                  <a:pt x="14920" y="6909"/>
                  <a:pt x="14908" y="7144"/>
                </a:cubicBezTo>
                <a:cubicBezTo>
                  <a:pt x="14902" y="7276"/>
                  <a:pt x="14901" y="7489"/>
                  <a:pt x="15106" y="7417"/>
                </a:cubicBezTo>
                <a:cubicBezTo>
                  <a:pt x="15211" y="7354"/>
                  <a:pt x="15245" y="7350"/>
                  <a:pt x="15255" y="7268"/>
                </a:cubicBezTo>
              </a:path>
              <a:path w="1688" h="1018">
                <a:moveTo>
                  <a:pt x="14709" y="7069"/>
                </a:moveTo>
                <a:cubicBezTo>
                  <a:pt x="14900" y="7014"/>
                  <a:pt x="15056" y="6995"/>
                  <a:pt x="15255" y="6995"/>
                </a:cubicBezTo>
                <a:cubicBezTo>
                  <a:pt x="15308" y="6995"/>
                  <a:pt x="15353" y="6979"/>
                  <a:pt x="15404" y="6970"/>
                </a:cubicBezTo>
                <a:cubicBezTo>
                  <a:pt x="15372" y="7080"/>
                  <a:pt x="15354" y="7149"/>
                  <a:pt x="15354" y="7268"/>
                </a:cubicBezTo>
                <a:cubicBezTo>
                  <a:pt x="15460" y="7291"/>
                  <a:pt x="15746" y="7306"/>
                  <a:pt x="15652" y="7094"/>
                </a:cubicBezTo>
                <a:cubicBezTo>
                  <a:pt x="15601" y="6980"/>
                  <a:pt x="15476" y="6956"/>
                  <a:pt x="15379" y="6921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38920" y="2367000"/>
            <a:ext cx="258840" cy="231840"/>
          </a:xfrm>
          <a:custGeom>
            <a:avLst/>
            <a:gdLst/>
            <a:ahLst/>
            <a:rect l="l" t="t" r="r" b="b"/>
            <a:pathLst>
              <a:path w="720" h="646">
                <a:moveTo>
                  <a:pt x="16520" y="6648"/>
                </a:moveTo>
                <a:cubicBezTo>
                  <a:pt x="16678" y="6549"/>
                  <a:pt x="16834" y="6565"/>
                  <a:pt x="16942" y="6747"/>
                </a:cubicBezTo>
                <a:cubicBezTo>
                  <a:pt x="17076" y="6973"/>
                  <a:pt x="16894" y="7227"/>
                  <a:pt x="16644" y="7218"/>
                </a:cubicBezTo>
                <a:cubicBezTo>
                  <a:pt x="16511" y="7213"/>
                  <a:pt x="16506" y="7160"/>
                  <a:pt x="16495" y="7069"/>
                </a:cubicBezTo>
                <a:cubicBezTo>
                  <a:pt x="16650" y="7069"/>
                  <a:pt x="16747" y="7088"/>
                  <a:pt x="16892" y="7144"/>
                </a:cubicBezTo>
                <a:cubicBezTo>
                  <a:pt x="17013" y="7190"/>
                  <a:pt x="17088" y="7210"/>
                  <a:pt x="17214" y="7218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36920" y="3919680"/>
            <a:ext cx="660240" cy="787320"/>
          </a:xfrm>
          <a:custGeom>
            <a:avLst/>
            <a:gdLst/>
            <a:ahLst/>
            <a:rect l="l" t="t" r="r" b="b"/>
            <a:pathLst>
              <a:path w="1836" h="2184">
                <a:moveTo>
                  <a:pt x="8037" y="11137"/>
                </a:moveTo>
                <a:cubicBezTo>
                  <a:pt x="8037" y="11178"/>
                  <a:pt x="8058" y="11099"/>
                  <a:pt x="8037" y="11063"/>
                </a:cubicBezTo>
                <a:cubicBezTo>
                  <a:pt x="7994" y="10991"/>
                  <a:pt x="7899" y="10942"/>
                  <a:pt x="7838" y="10889"/>
                </a:cubicBezTo>
                <a:cubicBezTo>
                  <a:pt x="7693" y="10938"/>
                  <a:pt x="7665" y="11116"/>
                  <a:pt x="7665" y="11261"/>
                </a:cubicBezTo>
                <a:cubicBezTo>
                  <a:pt x="7673" y="11302"/>
                  <a:pt x="7681" y="11344"/>
                  <a:pt x="7689" y="11385"/>
                </a:cubicBezTo>
                <a:cubicBezTo>
                  <a:pt x="7918" y="11462"/>
                  <a:pt x="8024" y="11449"/>
                  <a:pt x="8136" y="11212"/>
                </a:cubicBezTo>
                <a:cubicBezTo>
                  <a:pt x="8155" y="11171"/>
                  <a:pt x="8230" y="11011"/>
                  <a:pt x="8161" y="10988"/>
                </a:cubicBezTo>
                <a:cubicBezTo>
                  <a:pt x="8107" y="11258"/>
                  <a:pt x="8058" y="11529"/>
                  <a:pt x="8037" y="11807"/>
                </a:cubicBezTo>
                <a:cubicBezTo>
                  <a:pt x="8031" y="11884"/>
                  <a:pt x="8015" y="11915"/>
                  <a:pt x="8062" y="11931"/>
                </a:cubicBezTo>
              </a:path>
              <a:path w="1836" h="2184">
                <a:moveTo>
                  <a:pt x="7045" y="12229"/>
                </a:moveTo>
                <a:cubicBezTo>
                  <a:pt x="7498" y="12229"/>
                  <a:pt x="7933" y="12171"/>
                  <a:pt x="8384" y="12129"/>
                </a:cubicBezTo>
                <a:cubicBezTo>
                  <a:pt x="8558" y="12113"/>
                  <a:pt x="8824" y="11939"/>
                  <a:pt x="8880" y="12105"/>
                </a:cubicBezTo>
                <a:cubicBezTo>
                  <a:pt x="8844" y="12175"/>
                  <a:pt x="8822" y="12210"/>
                  <a:pt x="8781" y="12254"/>
                </a:cubicBezTo>
              </a:path>
              <a:path w="1836" h="2184">
                <a:moveTo>
                  <a:pt x="7541" y="12353"/>
                </a:moveTo>
                <a:cubicBezTo>
                  <a:pt x="7541" y="12544"/>
                  <a:pt x="7469" y="12907"/>
                  <a:pt x="7565" y="13072"/>
                </a:cubicBezTo>
              </a:path>
              <a:path w="1836" h="2184">
                <a:moveTo>
                  <a:pt x="7838" y="12427"/>
                </a:moveTo>
                <a:cubicBezTo>
                  <a:pt x="7920" y="12412"/>
                  <a:pt x="8185" y="12283"/>
                  <a:pt x="8260" y="12378"/>
                </a:cubicBezTo>
                <a:cubicBezTo>
                  <a:pt x="8421" y="12582"/>
                  <a:pt x="8112" y="12866"/>
                  <a:pt x="7987" y="12973"/>
                </a:cubicBezTo>
                <a:cubicBezTo>
                  <a:pt x="7954" y="12998"/>
                  <a:pt x="7921" y="13022"/>
                  <a:pt x="7888" y="13047"/>
                </a:cubicBezTo>
                <a:cubicBezTo>
                  <a:pt x="8038" y="13064"/>
                  <a:pt x="8179" y="13051"/>
                  <a:pt x="8334" y="13047"/>
                </a:cubicBezTo>
                <a:cubicBezTo>
                  <a:pt x="8392" y="13047"/>
                  <a:pt x="8401" y="13047"/>
                  <a:pt x="8434" y="1304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4152960"/>
            <a:ext cx="3179520" cy="330120"/>
          </a:xfrm>
          <a:custGeom>
            <a:avLst/>
            <a:gdLst/>
            <a:ahLst/>
            <a:rect l="l" t="t" r="r" b="b"/>
            <a:pathLst>
              <a:path w="8832" h="919">
                <a:moveTo>
                  <a:pt x="9500" y="12129"/>
                </a:moveTo>
                <a:cubicBezTo>
                  <a:pt x="9579" y="12091"/>
                  <a:pt x="9627" y="12078"/>
                  <a:pt x="9699" y="12080"/>
                </a:cubicBezTo>
              </a:path>
              <a:path w="8832" h="919">
                <a:moveTo>
                  <a:pt x="10740" y="12278"/>
                </a:moveTo>
                <a:cubicBezTo>
                  <a:pt x="10844" y="12227"/>
                  <a:pt x="10881" y="12211"/>
                  <a:pt x="10964" y="12229"/>
                </a:cubicBezTo>
              </a:path>
              <a:path w="8832" h="919">
                <a:moveTo>
                  <a:pt x="10864" y="12452"/>
                </a:moveTo>
                <a:cubicBezTo>
                  <a:pt x="10939" y="12435"/>
                  <a:pt x="11013" y="12419"/>
                  <a:pt x="11088" y="12402"/>
                </a:cubicBezTo>
              </a:path>
              <a:path w="8832" h="919">
                <a:moveTo>
                  <a:pt x="17859" y="11534"/>
                </a:moveTo>
                <a:cubicBezTo>
                  <a:pt x="17831" y="11738"/>
                  <a:pt x="17786" y="11920"/>
                  <a:pt x="18058" y="11931"/>
                </a:cubicBezTo>
                <a:cubicBezTo>
                  <a:pt x="18209" y="11906"/>
                  <a:pt x="18261" y="11896"/>
                  <a:pt x="18331" y="1180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1800" y="3963960"/>
            <a:ext cx="276120" cy="671400"/>
          </a:xfrm>
          <a:custGeom>
            <a:avLst/>
            <a:gdLst/>
            <a:ahLst/>
            <a:rect l="l" t="t" r="r" b="b"/>
            <a:pathLst>
              <a:path w="770" h="1862">
                <a:moveTo>
                  <a:pt x="9401" y="11063"/>
                </a:moveTo>
                <a:cubicBezTo>
                  <a:pt x="9467" y="11039"/>
                  <a:pt x="9527" y="11022"/>
                  <a:pt x="9599" y="11013"/>
                </a:cubicBezTo>
                <a:cubicBezTo>
                  <a:pt x="9558" y="11104"/>
                  <a:pt x="9509" y="11178"/>
                  <a:pt x="9451" y="11261"/>
                </a:cubicBezTo>
                <a:cubicBezTo>
                  <a:pt x="9548" y="11275"/>
                  <a:pt x="9650" y="11295"/>
                  <a:pt x="9748" y="11311"/>
                </a:cubicBezTo>
                <a:cubicBezTo>
                  <a:pt x="9704" y="11453"/>
                  <a:pt x="9655" y="11470"/>
                  <a:pt x="9525" y="11559"/>
                </a:cubicBezTo>
              </a:path>
              <a:path w="770" h="1862">
                <a:moveTo>
                  <a:pt x="9004" y="12551"/>
                </a:moveTo>
                <a:cubicBezTo>
                  <a:pt x="9125" y="12551"/>
                  <a:pt x="9160" y="12533"/>
                  <a:pt x="9302" y="12502"/>
                </a:cubicBezTo>
              </a:path>
              <a:path w="770" h="1862">
                <a:moveTo>
                  <a:pt x="9550" y="12353"/>
                </a:moveTo>
                <a:cubicBezTo>
                  <a:pt x="9612" y="12321"/>
                  <a:pt x="9644" y="12313"/>
                  <a:pt x="9699" y="12328"/>
                </a:cubicBezTo>
                <a:cubicBezTo>
                  <a:pt x="9681" y="12436"/>
                  <a:pt x="9611" y="12489"/>
                  <a:pt x="9550" y="12576"/>
                </a:cubicBezTo>
                <a:cubicBezTo>
                  <a:pt x="9684" y="12632"/>
                  <a:pt x="9853" y="12631"/>
                  <a:pt x="9699" y="12774"/>
                </a:cubicBezTo>
                <a:cubicBezTo>
                  <a:pt x="9612" y="12840"/>
                  <a:pt x="9593" y="12860"/>
                  <a:pt x="9525" y="12874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56080" y="3911760"/>
            <a:ext cx="411120" cy="866520"/>
          </a:xfrm>
          <a:custGeom>
            <a:avLst/>
            <a:gdLst/>
            <a:ahLst/>
            <a:rect l="l" t="t" r="r" b="b"/>
            <a:pathLst>
              <a:path w="1142" h="2408">
                <a:moveTo>
                  <a:pt x="12378" y="11038"/>
                </a:moveTo>
                <a:cubicBezTo>
                  <a:pt x="12397" y="10978"/>
                  <a:pt x="12709" y="10878"/>
                  <a:pt x="12774" y="10864"/>
                </a:cubicBezTo>
                <a:cubicBezTo>
                  <a:pt x="12815" y="10864"/>
                  <a:pt x="12857" y="10864"/>
                  <a:pt x="12898" y="10864"/>
                </a:cubicBezTo>
                <a:cubicBezTo>
                  <a:pt x="12858" y="11015"/>
                  <a:pt x="12789" y="11098"/>
                  <a:pt x="12675" y="11212"/>
                </a:cubicBezTo>
                <a:cubicBezTo>
                  <a:pt x="12808" y="11185"/>
                  <a:pt x="12972" y="11215"/>
                  <a:pt x="13022" y="11385"/>
                </a:cubicBezTo>
                <a:cubicBezTo>
                  <a:pt x="13108" y="11680"/>
                  <a:pt x="12703" y="11718"/>
                  <a:pt x="12526" y="11683"/>
                </a:cubicBezTo>
                <a:cubicBezTo>
                  <a:pt x="12479" y="11634"/>
                  <a:pt x="12502" y="11614"/>
                  <a:pt x="12626" y="11609"/>
                </a:cubicBezTo>
              </a:path>
              <a:path w="1142" h="2408">
                <a:moveTo>
                  <a:pt x="12477" y="12005"/>
                </a:moveTo>
                <a:cubicBezTo>
                  <a:pt x="12819" y="11982"/>
                  <a:pt x="13181" y="11917"/>
                  <a:pt x="13519" y="11981"/>
                </a:cubicBezTo>
                <a:cubicBezTo>
                  <a:pt x="13511" y="11981"/>
                  <a:pt x="13502" y="11981"/>
                  <a:pt x="13494" y="11981"/>
                </a:cubicBezTo>
              </a:path>
              <a:path w="1142" h="2408">
                <a:moveTo>
                  <a:pt x="13146" y="12278"/>
                </a:moveTo>
                <a:cubicBezTo>
                  <a:pt x="13086" y="12522"/>
                  <a:pt x="13051" y="12746"/>
                  <a:pt x="13047" y="12998"/>
                </a:cubicBezTo>
                <a:cubicBezTo>
                  <a:pt x="13047" y="13009"/>
                  <a:pt x="13072" y="13302"/>
                  <a:pt x="13072" y="1324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07000" y="4116240"/>
            <a:ext cx="733320" cy="312840"/>
          </a:xfrm>
          <a:custGeom>
            <a:avLst/>
            <a:gdLst/>
            <a:ahLst/>
            <a:rect l="l" t="t" r="r" b="b"/>
            <a:pathLst>
              <a:path w="2035" h="869">
                <a:moveTo>
                  <a:pt x="15577" y="11609"/>
                </a:moveTo>
                <a:cubicBezTo>
                  <a:pt x="15709" y="11590"/>
                  <a:pt x="15906" y="11531"/>
                  <a:pt x="16024" y="11633"/>
                </a:cubicBezTo>
                <a:cubicBezTo>
                  <a:pt x="16181" y="11769"/>
                  <a:pt x="15862" y="11914"/>
                  <a:pt x="15801" y="11956"/>
                </a:cubicBezTo>
                <a:cubicBezTo>
                  <a:pt x="15793" y="11964"/>
                  <a:pt x="15784" y="11973"/>
                  <a:pt x="15776" y="11981"/>
                </a:cubicBezTo>
                <a:cubicBezTo>
                  <a:pt x="15868" y="11988"/>
                  <a:pt x="16239" y="12020"/>
                  <a:pt x="16049" y="12204"/>
                </a:cubicBezTo>
                <a:cubicBezTo>
                  <a:pt x="15849" y="12397"/>
                  <a:pt x="15622" y="12365"/>
                  <a:pt x="15726" y="12105"/>
                </a:cubicBezTo>
              </a:path>
              <a:path w="2035" h="869">
                <a:moveTo>
                  <a:pt x="16644" y="11435"/>
                </a:moveTo>
                <a:cubicBezTo>
                  <a:pt x="16763" y="11686"/>
                  <a:pt x="16668" y="11869"/>
                  <a:pt x="16718" y="12129"/>
                </a:cubicBezTo>
                <a:cubicBezTo>
                  <a:pt x="16769" y="12395"/>
                  <a:pt x="16983" y="12218"/>
                  <a:pt x="17090" y="12129"/>
                </a:cubicBezTo>
              </a:path>
              <a:path w="2035" h="869">
                <a:moveTo>
                  <a:pt x="16446" y="11906"/>
                </a:moveTo>
                <a:cubicBezTo>
                  <a:pt x="16757" y="11868"/>
                  <a:pt x="17050" y="11857"/>
                  <a:pt x="17363" y="11857"/>
                </a:cubicBezTo>
                <a:cubicBezTo>
                  <a:pt x="17342" y="11916"/>
                  <a:pt x="17229" y="12053"/>
                  <a:pt x="17264" y="12154"/>
                </a:cubicBezTo>
                <a:cubicBezTo>
                  <a:pt x="17332" y="12351"/>
                  <a:pt x="17647" y="12250"/>
                  <a:pt x="17611" y="12055"/>
                </a:cubicBezTo>
                <a:cubicBezTo>
                  <a:pt x="17593" y="11958"/>
                  <a:pt x="17454" y="11906"/>
                  <a:pt x="17388" y="1185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72160" y="4089240"/>
            <a:ext cx="9720" cy="349560"/>
          </a:xfrm>
          <a:custGeom>
            <a:avLst/>
            <a:gdLst/>
            <a:ahLst/>
            <a:rect l="l" t="t" r="r" b="b"/>
            <a:pathLst>
              <a:path w="26" h="968">
                <a:moveTo>
                  <a:pt x="18256" y="11361"/>
                </a:moveTo>
                <a:cubicBezTo>
                  <a:pt x="18256" y="11684"/>
                  <a:pt x="18239" y="12009"/>
                  <a:pt x="18281" y="12328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37080" y="4464000"/>
            <a:ext cx="231840" cy="144360"/>
          </a:xfrm>
          <a:custGeom>
            <a:avLst/>
            <a:gdLst/>
            <a:ahLst/>
            <a:rect l="l" t="t" r="r" b="b"/>
            <a:pathLst>
              <a:path w="646" h="398">
                <a:moveTo>
                  <a:pt x="12675" y="12402"/>
                </a:moveTo>
                <a:cubicBezTo>
                  <a:pt x="12622" y="12456"/>
                  <a:pt x="12567" y="12632"/>
                  <a:pt x="12626" y="12725"/>
                </a:cubicBezTo>
                <a:cubicBezTo>
                  <a:pt x="12712" y="12861"/>
                  <a:pt x="13091" y="12805"/>
                  <a:pt x="13196" y="12725"/>
                </a:cubicBezTo>
                <a:cubicBezTo>
                  <a:pt x="13213" y="12692"/>
                  <a:pt x="13229" y="12659"/>
                  <a:pt x="13246" y="1262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66920" y="6411960"/>
            <a:ext cx="177840" cy="196920"/>
          </a:xfrm>
          <a:custGeom>
            <a:avLst/>
            <a:gdLst/>
            <a:ahLst/>
            <a:rect l="l" t="t" r="r" b="b"/>
            <a:pathLst>
              <a:path w="497" h="546">
                <a:moveTo>
                  <a:pt x="3894" y="17835"/>
                </a:moveTo>
                <a:cubicBezTo>
                  <a:pt x="3887" y="17896"/>
                  <a:pt x="3870" y="17945"/>
                  <a:pt x="3870" y="18008"/>
                </a:cubicBezTo>
                <a:cubicBezTo>
                  <a:pt x="3870" y="17928"/>
                  <a:pt x="3895" y="17828"/>
                  <a:pt x="3994" y="17810"/>
                </a:cubicBezTo>
                <a:cubicBezTo>
                  <a:pt x="4157" y="17780"/>
                  <a:pt x="4015" y="18207"/>
                  <a:pt x="3969" y="18256"/>
                </a:cubicBezTo>
                <a:cubicBezTo>
                  <a:pt x="3904" y="18325"/>
                  <a:pt x="3831" y="18361"/>
                  <a:pt x="3795" y="18306"/>
                </a:cubicBezTo>
                <a:cubicBezTo>
                  <a:pt x="3825" y="18205"/>
                  <a:pt x="3936" y="18135"/>
                  <a:pt x="4068" y="18207"/>
                </a:cubicBezTo>
                <a:cubicBezTo>
                  <a:pt x="4079" y="18213"/>
                  <a:pt x="4262" y="18326"/>
                  <a:pt x="4266" y="18331"/>
                </a:cubicBezTo>
                <a:cubicBezTo>
                  <a:pt x="4266" y="18355"/>
                  <a:pt x="4266" y="18363"/>
                  <a:pt x="4291" y="18355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28840" y="6054840"/>
            <a:ext cx="90360" cy="142920"/>
          </a:xfrm>
          <a:custGeom>
            <a:avLst/>
            <a:gdLst/>
            <a:ahLst/>
            <a:rect l="l" t="t" r="r" b="b"/>
            <a:pathLst>
              <a:path w="249" h="397">
                <a:moveTo>
                  <a:pt x="4018" y="17214"/>
                </a:moveTo>
                <a:cubicBezTo>
                  <a:pt x="3994" y="17214"/>
                  <a:pt x="3985" y="17214"/>
                  <a:pt x="3969" y="17214"/>
                </a:cubicBezTo>
                <a:cubicBezTo>
                  <a:pt x="4002" y="17150"/>
                  <a:pt x="4115" y="17132"/>
                  <a:pt x="4192" y="17115"/>
                </a:cubicBezTo>
                <a:cubicBezTo>
                  <a:pt x="4200" y="17115"/>
                  <a:pt x="4209" y="17115"/>
                  <a:pt x="4217" y="17115"/>
                </a:cubicBezTo>
              </a:path>
              <a:path w="249" h="397">
                <a:moveTo>
                  <a:pt x="4068" y="16818"/>
                </a:moveTo>
                <a:cubicBezTo>
                  <a:pt x="4068" y="16875"/>
                  <a:pt x="4068" y="16917"/>
                  <a:pt x="4068" y="1696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97000" y="3963960"/>
            <a:ext cx="2054160" cy="2697120"/>
          </a:xfrm>
          <a:custGeom>
            <a:avLst/>
            <a:gdLst/>
            <a:ahLst/>
            <a:rect l="l" t="t" r="r" b="b"/>
            <a:pathLst>
              <a:path w="5706" h="7492">
                <a:moveTo>
                  <a:pt x="8781" y="11435"/>
                </a:moveTo>
                <a:cubicBezTo>
                  <a:pt x="8847" y="11428"/>
                  <a:pt x="8893" y="11412"/>
                  <a:pt x="8954" y="11385"/>
                </a:cubicBezTo>
              </a:path>
              <a:path w="5706" h="7492">
                <a:moveTo>
                  <a:pt x="8830" y="11013"/>
                </a:moveTo>
                <a:cubicBezTo>
                  <a:pt x="8838" y="11030"/>
                  <a:pt x="8847" y="11046"/>
                  <a:pt x="8855" y="11063"/>
                </a:cubicBezTo>
              </a:path>
              <a:path w="5706" h="7492">
                <a:moveTo>
                  <a:pt x="8930" y="11782"/>
                </a:moveTo>
                <a:cubicBezTo>
                  <a:pt x="8963" y="11766"/>
                  <a:pt x="8996" y="11749"/>
                  <a:pt x="9029" y="11733"/>
                </a:cubicBezTo>
              </a:path>
              <a:path w="5706" h="7492">
                <a:moveTo>
                  <a:pt x="9029" y="11733"/>
                </a:moveTo>
                <a:lnTo>
                  <a:pt x="9029" y="11733"/>
                </a:lnTo>
              </a:path>
              <a:path w="5706" h="7492">
                <a:moveTo>
                  <a:pt x="3373" y="18083"/>
                </a:moveTo>
                <a:cubicBezTo>
                  <a:pt x="3355" y="18224"/>
                  <a:pt x="3342" y="18363"/>
                  <a:pt x="3324" y="18504"/>
                </a:cubicBezTo>
              </a:path>
              <a:path w="5706" h="7492">
                <a:moveTo>
                  <a:pt x="4118" y="17438"/>
                </a:moveTo>
                <a:lnTo>
                  <a:pt x="4118" y="17438"/>
                </a:lnTo>
              </a:path>
              <a:path w="5706" h="7492">
                <a:moveTo>
                  <a:pt x="4118" y="17438"/>
                </a:moveTo>
                <a:lnTo>
                  <a:pt x="4118" y="17438"/>
                </a:lnTo>
              </a:path>
              <a:path w="5706" h="7492">
                <a:moveTo>
                  <a:pt x="4465" y="17686"/>
                </a:moveTo>
                <a:cubicBezTo>
                  <a:pt x="4432" y="17686"/>
                  <a:pt x="4424" y="17694"/>
                  <a:pt x="4440" y="17735"/>
                </a:cubicBezTo>
              </a:path>
              <a:path w="5706" h="7492">
                <a:moveTo>
                  <a:pt x="4440" y="18182"/>
                </a:moveTo>
                <a:lnTo>
                  <a:pt x="4440" y="18182"/>
                </a:ln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00960" y="4125960"/>
            <a:ext cx="187200" cy="241200"/>
          </a:xfrm>
          <a:custGeom>
            <a:avLst/>
            <a:gdLst/>
            <a:ahLst/>
            <a:rect l="l" t="t" r="r" b="b"/>
            <a:pathLst>
              <a:path w="522" h="670">
                <a:moveTo>
                  <a:pt x="20836" y="11460"/>
                </a:moveTo>
                <a:cubicBezTo>
                  <a:pt x="20911" y="11460"/>
                  <a:pt x="21418" y="11431"/>
                  <a:pt x="21332" y="11534"/>
                </a:cubicBezTo>
                <a:cubicBezTo>
                  <a:pt x="21186" y="11631"/>
                  <a:pt x="21140" y="11662"/>
                  <a:pt x="21034" y="11708"/>
                </a:cubicBezTo>
                <a:cubicBezTo>
                  <a:pt x="21018" y="11708"/>
                  <a:pt x="21001" y="11708"/>
                  <a:pt x="20985" y="11708"/>
                </a:cubicBezTo>
                <a:cubicBezTo>
                  <a:pt x="21133" y="11754"/>
                  <a:pt x="21455" y="11783"/>
                  <a:pt x="21307" y="12005"/>
                </a:cubicBezTo>
                <a:cubicBezTo>
                  <a:pt x="21202" y="12164"/>
                  <a:pt x="20997" y="12166"/>
                  <a:pt x="20910" y="12055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03240" y="4133880"/>
            <a:ext cx="6064560" cy="2268360"/>
          </a:xfrm>
          <a:custGeom>
            <a:avLst/>
            <a:gdLst/>
            <a:ahLst/>
            <a:rect l="l" t="t" r="r" b="b"/>
            <a:pathLst>
              <a:path w="16843" h="6301">
                <a:moveTo>
                  <a:pt x="21779" y="11485"/>
                </a:moveTo>
                <a:cubicBezTo>
                  <a:pt x="21779" y="11493"/>
                  <a:pt x="21779" y="11501"/>
                  <a:pt x="21779" y="11509"/>
                </a:cubicBezTo>
              </a:path>
              <a:path w="16843" h="6301">
                <a:moveTo>
                  <a:pt x="21853" y="11857"/>
                </a:moveTo>
                <a:cubicBezTo>
                  <a:pt x="21853" y="11865"/>
                  <a:pt x="21853" y="11873"/>
                  <a:pt x="21853" y="11881"/>
                </a:cubicBezTo>
              </a:path>
              <a:path w="16843" h="6301">
                <a:moveTo>
                  <a:pt x="5011" y="17611"/>
                </a:moveTo>
                <a:cubicBezTo>
                  <a:pt x="5099" y="17582"/>
                  <a:pt x="5122" y="17543"/>
                  <a:pt x="5209" y="17587"/>
                </a:cubicBezTo>
              </a:path>
              <a:path w="16843" h="6301">
                <a:moveTo>
                  <a:pt x="5110" y="17785"/>
                </a:moveTo>
                <a:cubicBezTo>
                  <a:pt x="5143" y="17777"/>
                  <a:pt x="5176" y="17768"/>
                  <a:pt x="5209" y="17760"/>
                </a:cubicBezTo>
              </a:path>
              <a:path w="16843" h="6301">
                <a:moveTo>
                  <a:pt x="5209" y="17760"/>
                </a:moveTo>
                <a:lnTo>
                  <a:pt x="5209" y="17760"/>
                </a:ln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983360" y="4062240"/>
            <a:ext cx="187560" cy="358920"/>
          </a:xfrm>
          <a:custGeom>
            <a:avLst/>
            <a:gdLst/>
            <a:ahLst/>
            <a:rect l="l" t="t" r="r" b="b"/>
            <a:pathLst>
              <a:path w="522" h="993">
                <a:moveTo>
                  <a:pt x="22225" y="11435"/>
                </a:moveTo>
                <a:cubicBezTo>
                  <a:pt x="22257" y="11541"/>
                  <a:pt x="22247" y="11506"/>
                  <a:pt x="22225" y="11584"/>
                </a:cubicBezTo>
                <a:cubicBezTo>
                  <a:pt x="22203" y="11692"/>
                  <a:pt x="22200" y="11718"/>
                  <a:pt x="22175" y="11782"/>
                </a:cubicBezTo>
                <a:cubicBezTo>
                  <a:pt x="22319" y="11830"/>
                  <a:pt x="22509" y="11807"/>
                  <a:pt x="22671" y="11807"/>
                </a:cubicBezTo>
                <a:cubicBezTo>
                  <a:pt x="22679" y="11807"/>
                  <a:pt x="22688" y="11807"/>
                  <a:pt x="22696" y="11807"/>
                </a:cubicBezTo>
              </a:path>
              <a:path w="522" h="993">
                <a:moveTo>
                  <a:pt x="22647" y="11286"/>
                </a:moveTo>
                <a:cubicBezTo>
                  <a:pt x="22635" y="11568"/>
                  <a:pt x="22622" y="11846"/>
                  <a:pt x="22622" y="12129"/>
                </a:cubicBezTo>
                <a:cubicBezTo>
                  <a:pt x="22622" y="12212"/>
                  <a:pt x="22622" y="12228"/>
                  <a:pt x="22622" y="12278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98720" y="6062760"/>
            <a:ext cx="374400" cy="349200"/>
          </a:xfrm>
          <a:custGeom>
            <a:avLst/>
            <a:gdLst/>
            <a:ahLst/>
            <a:rect l="l" t="t" r="r" b="b"/>
            <a:pathLst>
              <a:path w="1043" h="969">
                <a:moveTo>
                  <a:pt x="3696" y="16867"/>
                </a:moveTo>
                <a:cubicBezTo>
                  <a:pt x="3673" y="16798"/>
                  <a:pt x="3492" y="16892"/>
                  <a:pt x="3448" y="16917"/>
                </a:cubicBezTo>
                <a:cubicBezTo>
                  <a:pt x="3415" y="16942"/>
                  <a:pt x="3382" y="16966"/>
                  <a:pt x="3349" y="16991"/>
                </a:cubicBezTo>
                <a:cubicBezTo>
                  <a:pt x="3294" y="17155"/>
                  <a:pt x="3553" y="17170"/>
                  <a:pt x="3621" y="17314"/>
                </a:cubicBezTo>
                <a:cubicBezTo>
                  <a:pt x="3691" y="17460"/>
                  <a:pt x="3530" y="17563"/>
                  <a:pt x="3423" y="17587"/>
                </a:cubicBezTo>
                <a:cubicBezTo>
                  <a:pt x="3446" y="17377"/>
                  <a:pt x="3549" y="17237"/>
                  <a:pt x="3621" y="17041"/>
                </a:cubicBezTo>
                <a:cubicBezTo>
                  <a:pt x="3621" y="17033"/>
                  <a:pt x="3621" y="17024"/>
                  <a:pt x="3621" y="17016"/>
                </a:cubicBezTo>
              </a:path>
              <a:path w="1043" h="969">
                <a:moveTo>
                  <a:pt x="3051" y="17810"/>
                </a:moveTo>
                <a:cubicBezTo>
                  <a:pt x="3324" y="17744"/>
                  <a:pt x="3598" y="17681"/>
                  <a:pt x="3870" y="17611"/>
                </a:cubicBezTo>
                <a:cubicBezTo>
                  <a:pt x="4003" y="17573"/>
                  <a:pt x="4024" y="17538"/>
                  <a:pt x="4093" y="1758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35040" y="6081840"/>
            <a:ext cx="250920" cy="490320"/>
          </a:xfrm>
          <a:custGeom>
            <a:avLst/>
            <a:gdLst/>
            <a:ahLst/>
            <a:rect l="l" t="t" r="r" b="b"/>
            <a:pathLst>
              <a:path w="696" h="1365">
                <a:moveTo>
                  <a:pt x="4415" y="17041"/>
                </a:moveTo>
                <a:cubicBezTo>
                  <a:pt x="4415" y="17057"/>
                  <a:pt x="4415" y="17074"/>
                  <a:pt x="4415" y="17090"/>
                </a:cubicBezTo>
                <a:cubicBezTo>
                  <a:pt x="4540" y="17090"/>
                  <a:pt x="4587" y="17088"/>
                  <a:pt x="4688" y="17016"/>
                </a:cubicBezTo>
              </a:path>
              <a:path w="696" h="1365">
                <a:moveTo>
                  <a:pt x="4638" y="16892"/>
                </a:moveTo>
                <a:cubicBezTo>
                  <a:pt x="4606" y="17079"/>
                  <a:pt x="4614" y="17270"/>
                  <a:pt x="4614" y="17462"/>
                </a:cubicBezTo>
              </a:path>
              <a:path w="696" h="1365">
                <a:moveTo>
                  <a:pt x="4266" y="18058"/>
                </a:moveTo>
                <a:cubicBezTo>
                  <a:pt x="4353" y="17981"/>
                  <a:pt x="4402" y="18000"/>
                  <a:pt x="4490" y="17959"/>
                </a:cubicBezTo>
                <a:cubicBezTo>
                  <a:pt x="4498" y="17951"/>
                  <a:pt x="4506" y="17942"/>
                  <a:pt x="4514" y="17934"/>
                </a:cubicBezTo>
              </a:path>
              <a:path w="696" h="1365">
                <a:moveTo>
                  <a:pt x="4738" y="17859"/>
                </a:moveTo>
                <a:cubicBezTo>
                  <a:pt x="4713" y="17909"/>
                  <a:pt x="4705" y="17926"/>
                  <a:pt x="4688" y="17959"/>
                </a:cubicBezTo>
                <a:cubicBezTo>
                  <a:pt x="4752" y="17996"/>
                  <a:pt x="4871" y="17985"/>
                  <a:pt x="4936" y="17934"/>
                </a:cubicBezTo>
                <a:cubicBezTo>
                  <a:pt x="4944" y="17917"/>
                  <a:pt x="4953" y="17901"/>
                  <a:pt x="4961" y="17884"/>
                </a:cubicBezTo>
              </a:path>
              <a:path w="696" h="1365">
                <a:moveTo>
                  <a:pt x="4936" y="17810"/>
                </a:moveTo>
                <a:cubicBezTo>
                  <a:pt x="4934" y="17819"/>
                  <a:pt x="4840" y="18262"/>
                  <a:pt x="4862" y="18256"/>
                </a:cubicBezTo>
                <a:cubicBezTo>
                  <a:pt x="4878" y="18240"/>
                  <a:pt x="4895" y="18223"/>
                  <a:pt x="4911" y="1820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55880" y="6153120"/>
            <a:ext cx="223920" cy="544680"/>
          </a:xfrm>
          <a:custGeom>
            <a:avLst/>
            <a:gdLst/>
            <a:ahLst/>
            <a:rect l="l" t="t" r="r" b="b"/>
            <a:pathLst>
              <a:path w="621" h="1515">
                <a:moveTo>
                  <a:pt x="5556" y="17165"/>
                </a:moveTo>
                <a:cubicBezTo>
                  <a:pt x="5511" y="17076"/>
                  <a:pt x="5667" y="17084"/>
                  <a:pt x="5730" y="17115"/>
                </a:cubicBezTo>
                <a:cubicBezTo>
                  <a:pt x="5868" y="17182"/>
                  <a:pt x="5677" y="17390"/>
                  <a:pt x="5631" y="17462"/>
                </a:cubicBezTo>
                <a:cubicBezTo>
                  <a:pt x="5724" y="17452"/>
                  <a:pt x="5808" y="17438"/>
                  <a:pt x="5904" y="17438"/>
                </a:cubicBezTo>
              </a:path>
              <a:path w="621" h="1515">
                <a:moveTo>
                  <a:pt x="5432" y="17735"/>
                </a:moveTo>
                <a:cubicBezTo>
                  <a:pt x="5609" y="17689"/>
                  <a:pt x="5796" y="17655"/>
                  <a:pt x="5978" y="17636"/>
                </a:cubicBezTo>
                <a:cubicBezTo>
                  <a:pt x="6044" y="17636"/>
                  <a:pt x="6069" y="17628"/>
                  <a:pt x="6052" y="17686"/>
                </a:cubicBezTo>
              </a:path>
              <a:path w="621" h="1515">
                <a:moveTo>
                  <a:pt x="5581" y="18058"/>
                </a:moveTo>
                <a:cubicBezTo>
                  <a:pt x="5686" y="18009"/>
                  <a:pt x="5882" y="17975"/>
                  <a:pt x="5854" y="18182"/>
                </a:cubicBezTo>
                <a:cubicBezTo>
                  <a:pt x="5845" y="18246"/>
                  <a:pt x="5747" y="18310"/>
                  <a:pt x="5705" y="18331"/>
                </a:cubicBezTo>
                <a:cubicBezTo>
                  <a:pt x="5781" y="18318"/>
                  <a:pt x="5907" y="18274"/>
                  <a:pt x="5879" y="18430"/>
                </a:cubicBezTo>
                <a:cubicBezTo>
                  <a:pt x="5856" y="18559"/>
                  <a:pt x="5629" y="18583"/>
                  <a:pt x="5531" y="18604"/>
                </a:cubicBezTo>
                <a:cubicBezTo>
                  <a:pt x="5507" y="18604"/>
                  <a:pt x="5499" y="18604"/>
                  <a:pt x="5507" y="18579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78080" y="6161040"/>
            <a:ext cx="243000" cy="536760"/>
          </a:xfrm>
          <a:custGeom>
            <a:avLst/>
            <a:gdLst/>
            <a:ahLst/>
            <a:rect l="l" t="t" r="r" b="b"/>
            <a:pathLst>
              <a:path w="671" h="1490">
                <a:moveTo>
                  <a:pt x="8930" y="17115"/>
                </a:moveTo>
                <a:cubicBezTo>
                  <a:pt x="9029" y="17115"/>
                  <a:pt x="9094" y="17117"/>
                  <a:pt x="9178" y="17165"/>
                </a:cubicBezTo>
                <a:cubicBezTo>
                  <a:pt x="9097" y="17314"/>
                  <a:pt x="8969" y="17389"/>
                  <a:pt x="8855" y="17512"/>
                </a:cubicBezTo>
                <a:cubicBezTo>
                  <a:pt x="8975" y="17502"/>
                  <a:pt x="9303" y="17361"/>
                  <a:pt x="9401" y="17413"/>
                </a:cubicBezTo>
                <a:cubicBezTo>
                  <a:pt x="9401" y="17429"/>
                  <a:pt x="9401" y="17446"/>
                  <a:pt x="9401" y="17462"/>
                </a:cubicBezTo>
              </a:path>
              <a:path w="671" h="1490">
                <a:moveTo>
                  <a:pt x="8855" y="17810"/>
                </a:moveTo>
                <a:cubicBezTo>
                  <a:pt x="9068" y="17751"/>
                  <a:pt x="9285" y="17675"/>
                  <a:pt x="9500" y="17711"/>
                </a:cubicBezTo>
              </a:path>
              <a:path w="671" h="1490">
                <a:moveTo>
                  <a:pt x="8880" y="18132"/>
                </a:moveTo>
                <a:cubicBezTo>
                  <a:pt x="8999" y="18082"/>
                  <a:pt x="9057" y="18076"/>
                  <a:pt x="9178" y="18083"/>
                </a:cubicBezTo>
                <a:cubicBezTo>
                  <a:pt x="9197" y="18178"/>
                  <a:pt x="9096" y="18273"/>
                  <a:pt x="8979" y="18331"/>
                </a:cubicBezTo>
                <a:cubicBezTo>
                  <a:pt x="8971" y="18331"/>
                  <a:pt x="8962" y="18331"/>
                  <a:pt x="8954" y="18331"/>
                </a:cubicBezTo>
                <a:cubicBezTo>
                  <a:pt x="9008" y="18335"/>
                  <a:pt x="9310" y="18347"/>
                  <a:pt x="9178" y="18479"/>
                </a:cubicBezTo>
                <a:cubicBezTo>
                  <a:pt x="9085" y="18573"/>
                  <a:pt x="8949" y="18572"/>
                  <a:pt x="8830" y="18604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5643720"/>
            <a:ext cx="187560" cy="107640"/>
          </a:xfrm>
          <a:custGeom>
            <a:avLst/>
            <a:gdLst/>
            <a:ahLst/>
            <a:rect l="l" t="t" r="r" b="b"/>
            <a:pathLst>
              <a:path w="522" h="298">
                <a:moveTo>
                  <a:pt x="6772" y="15701"/>
                </a:moveTo>
                <a:cubicBezTo>
                  <a:pt x="6905" y="15679"/>
                  <a:pt x="7009" y="15691"/>
                  <a:pt x="7144" y="15701"/>
                </a:cubicBezTo>
                <a:cubicBezTo>
                  <a:pt x="7203" y="15705"/>
                  <a:pt x="7277" y="15678"/>
                  <a:pt x="7293" y="15726"/>
                </a:cubicBezTo>
              </a:path>
              <a:path w="522" h="298">
                <a:moveTo>
                  <a:pt x="6821" y="15974"/>
                </a:moveTo>
                <a:cubicBezTo>
                  <a:pt x="6813" y="15974"/>
                  <a:pt x="6804" y="15974"/>
                  <a:pt x="6796" y="15974"/>
                </a:cubicBezTo>
                <a:cubicBezTo>
                  <a:pt x="6846" y="15899"/>
                  <a:pt x="7056" y="15936"/>
                  <a:pt x="7144" y="15949"/>
                </a:cubicBezTo>
                <a:cubicBezTo>
                  <a:pt x="7214" y="15960"/>
                  <a:pt x="7234" y="15974"/>
                  <a:pt x="7293" y="15974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9240" y="5946840"/>
            <a:ext cx="2625840" cy="581040"/>
          </a:xfrm>
          <a:custGeom>
            <a:avLst/>
            <a:gdLst/>
            <a:ahLst/>
            <a:rect l="l" t="t" r="r" b="b"/>
            <a:pathLst>
              <a:path w="7294" h="1613">
                <a:moveTo>
                  <a:pt x="14660" y="17859"/>
                </a:moveTo>
                <a:cubicBezTo>
                  <a:pt x="14635" y="17959"/>
                  <a:pt x="14577" y="18049"/>
                  <a:pt x="14635" y="18107"/>
                </a:cubicBezTo>
              </a:path>
              <a:path w="7294" h="1613">
                <a:moveTo>
                  <a:pt x="19298" y="16892"/>
                </a:moveTo>
                <a:cubicBezTo>
                  <a:pt x="19195" y="17065"/>
                  <a:pt x="19105" y="17229"/>
                  <a:pt x="19025" y="17413"/>
                </a:cubicBezTo>
              </a:path>
              <a:path w="7294" h="1613">
                <a:moveTo>
                  <a:pt x="19918" y="16520"/>
                </a:moveTo>
                <a:cubicBezTo>
                  <a:pt x="19864" y="16715"/>
                  <a:pt x="19973" y="16677"/>
                  <a:pt x="20141" y="16669"/>
                </a:cubicBezTo>
              </a:path>
              <a:path w="7294" h="1613">
                <a:moveTo>
                  <a:pt x="19745" y="17165"/>
                </a:moveTo>
                <a:cubicBezTo>
                  <a:pt x="19960" y="17126"/>
                  <a:pt x="20175" y="17067"/>
                  <a:pt x="20389" y="17041"/>
                </a:cubicBezTo>
              </a:path>
              <a:path w="7294" h="1613">
                <a:moveTo>
                  <a:pt x="19794" y="17512"/>
                </a:moveTo>
                <a:cubicBezTo>
                  <a:pt x="19785" y="17546"/>
                  <a:pt x="19727" y="17776"/>
                  <a:pt x="19869" y="17686"/>
                </a:cubicBezTo>
                <a:cubicBezTo>
                  <a:pt x="19902" y="17653"/>
                  <a:pt x="19935" y="17620"/>
                  <a:pt x="19968" y="17587"/>
                </a:cubicBezTo>
              </a:path>
              <a:path w="7294" h="1613">
                <a:moveTo>
                  <a:pt x="19993" y="17462"/>
                </a:moveTo>
                <a:cubicBezTo>
                  <a:pt x="19949" y="17619"/>
                  <a:pt x="19925" y="17746"/>
                  <a:pt x="19918" y="17909"/>
                </a:cubicBezTo>
              </a:path>
              <a:path w="7294" h="1613">
                <a:moveTo>
                  <a:pt x="20489" y="17289"/>
                </a:moveTo>
                <a:cubicBezTo>
                  <a:pt x="20644" y="17289"/>
                  <a:pt x="20698" y="17286"/>
                  <a:pt x="20786" y="17214"/>
                </a:cubicBezTo>
              </a:path>
              <a:path w="7294" h="1613">
                <a:moveTo>
                  <a:pt x="20786" y="17214"/>
                </a:moveTo>
                <a:lnTo>
                  <a:pt x="20786" y="17214"/>
                </a:lnTo>
              </a:path>
              <a:path w="7294" h="1613">
                <a:moveTo>
                  <a:pt x="21034" y="17413"/>
                </a:moveTo>
                <a:cubicBezTo>
                  <a:pt x="21292" y="17363"/>
                  <a:pt x="21562" y="17290"/>
                  <a:pt x="21828" y="17314"/>
                </a:cubicBezTo>
                <a:cubicBezTo>
                  <a:pt x="21853" y="17322"/>
                  <a:pt x="21878" y="17330"/>
                  <a:pt x="21903" y="17338"/>
                </a:cubicBezTo>
              </a:path>
              <a:path w="7294" h="1613">
                <a:moveTo>
                  <a:pt x="21084" y="17587"/>
                </a:moveTo>
                <a:cubicBezTo>
                  <a:pt x="20968" y="17722"/>
                  <a:pt x="20864" y="17909"/>
                  <a:pt x="20886" y="18107"/>
                </a:cubicBezTo>
                <a:cubicBezTo>
                  <a:pt x="20931" y="18154"/>
                  <a:pt x="20957" y="18138"/>
                  <a:pt x="20985" y="18033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67160" y="6000840"/>
            <a:ext cx="357120" cy="214200"/>
          </a:xfrm>
          <a:custGeom>
            <a:avLst/>
            <a:gdLst/>
            <a:ahLst/>
            <a:rect l="l" t="t" r="r" b="b"/>
            <a:pathLst>
              <a:path w="994" h="596">
                <a:moveTo>
                  <a:pt x="12303" y="16694"/>
                </a:moveTo>
                <a:cubicBezTo>
                  <a:pt x="12187" y="16848"/>
                  <a:pt x="12154" y="17041"/>
                  <a:pt x="12154" y="17239"/>
                </a:cubicBezTo>
                <a:cubicBezTo>
                  <a:pt x="12329" y="17240"/>
                  <a:pt x="12547" y="17100"/>
                  <a:pt x="12502" y="16867"/>
                </a:cubicBezTo>
                <a:cubicBezTo>
                  <a:pt x="12487" y="16788"/>
                  <a:pt x="12334" y="16809"/>
                  <a:pt x="12303" y="16818"/>
                </a:cubicBezTo>
              </a:path>
              <a:path w="994" h="596">
                <a:moveTo>
                  <a:pt x="12849" y="17066"/>
                </a:moveTo>
                <a:cubicBezTo>
                  <a:pt x="12849" y="17107"/>
                  <a:pt x="12849" y="17131"/>
                  <a:pt x="12849" y="17090"/>
                </a:cubicBezTo>
                <a:cubicBezTo>
                  <a:pt x="12849" y="16960"/>
                  <a:pt x="12838" y="16734"/>
                  <a:pt x="12998" y="16669"/>
                </a:cubicBezTo>
                <a:cubicBezTo>
                  <a:pt x="13039" y="16669"/>
                  <a:pt x="13081" y="16669"/>
                  <a:pt x="13122" y="16669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97320" y="5732640"/>
            <a:ext cx="1758960" cy="804600"/>
          </a:xfrm>
          <a:custGeom>
            <a:avLst/>
            <a:gdLst/>
            <a:ahLst/>
            <a:rect l="l" t="t" r="r" b="b"/>
            <a:pathLst>
              <a:path w="4888" h="2233">
                <a:moveTo>
                  <a:pt x="15553" y="15949"/>
                </a:moveTo>
                <a:cubicBezTo>
                  <a:pt x="15265" y="15950"/>
                  <a:pt x="15136" y="16025"/>
                  <a:pt x="15007" y="16272"/>
                </a:cubicBezTo>
                <a:cubicBezTo>
                  <a:pt x="15208" y="16408"/>
                  <a:pt x="15369" y="16520"/>
                  <a:pt x="15528" y="16694"/>
                </a:cubicBezTo>
                <a:cubicBezTo>
                  <a:pt x="15380" y="16795"/>
                  <a:pt x="14985" y="16897"/>
                  <a:pt x="15180" y="16545"/>
                </a:cubicBezTo>
                <a:cubicBezTo>
                  <a:pt x="15253" y="16413"/>
                  <a:pt x="15628" y="16181"/>
                  <a:pt x="15577" y="16148"/>
                </a:cubicBezTo>
              </a:path>
              <a:path w="4888" h="2233">
                <a:moveTo>
                  <a:pt x="14436" y="17289"/>
                </a:moveTo>
                <a:cubicBezTo>
                  <a:pt x="14843" y="17187"/>
                  <a:pt x="15234" y="17107"/>
                  <a:pt x="15652" y="17066"/>
                </a:cubicBezTo>
                <a:cubicBezTo>
                  <a:pt x="15677" y="17066"/>
                  <a:pt x="15685" y="17066"/>
                  <a:pt x="15677" y="17090"/>
                </a:cubicBezTo>
              </a:path>
              <a:path w="4888" h="2233">
                <a:moveTo>
                  <a:pt x="15081" y="17512"/>
                </a:moveTo>
                <a:cubicBezTo>
                  <a:pt x="15287" y="17474"/>
                  <a:pt x="15566" y="17499"/>
                  <a:pt x="15503" y="17810"/>
                </a:cubicBezTo>
                <a:cubicBezTo>
                  <a:pt x="15463" y="18006"/>
                  <a:pt x="15217" y="18045"/>
                  <a:pt x="15106" y="17983"/>
                </a:cubicBezTo>
                <a:cubicBezTo>
                  <a:pt x="15240" y="17829"/>
                  <a:pt x="15375" y="17732"/>
                  <a:pt x="15553" y="17909"/>
                </a:cubicBezTo>
                <a:cubicBezTo>
                  <a:pt x="15553" y="17917"/>
                  <a:pt x="15553" y="17926"/>
                  <a:pt x="15553" y="17934"/>
                </a:cubicBezTo>
              </a:path>
              <a:path w="4888" h="2233">
                <a:moveTo>
                  <a:pt x="14560" y="17562"/>
                </a:moveTo>
                <a:cubicBezTo>
                  <a:pt x="14586" y="17768"/>
                  <a:pt x="14500" y="17905"/>
                  <a:pt x="14486" y="18107"/>
                </a:cubicBezTo>
                <a:cubicBezTo>
                  <a:pt x="14494" y="18124"/>
                  <a:pt x="14503" y="18140"/>
                  <a:pt x="14511" y="18157"/>
                </a:cubicBezTo>
              </a:path>
              <a:path w="4888" h="2233">
                <a:moveTo>
                  <a:pt x="18256" y="16123"/>
                </a:moveTo>
                <a:cubicBezTo>
                  <a:pt x="18339" y="15931"/>
                  <a:pt x="18535" y="16171"/>
                  <a:pt x="18579" y="16297"/>
                </a:cubicBezTo>
                <a:cubicBezTo>
                  <a:pt x="18697" y="16631"/>
                  <a:pt x="18394" y="16944"/>
                  <a:pt x="18107" y="16793"/>
                </a:cubicBezTo>
                <a:cubicBezTo>
                  <a:pt x="18257" y="16644"/>
                  <a:pt x="18408" y="16625"/>
                  <a:pt x="18604" y="16768"/>
                </a:cubicBezTo>
                <a:cubicBezTo>
                  <a:pt x="18629" y="16793"/>
                  <a:pt x="18653" y="16817"/>
                  <a:pt x="18678" y="16842"/>
                </a:cubicBezTo>
              </a:path>
              <a:path w="4888" h="2233">
                <a:moveTo>
                  <a:pt x="17909" y="17214"/>
                </a:moveTo>
                <a:cubicBezTo>
                  <a:pt x="18244" y="17174"/>
                  <a:pt x="18566" y="17117"/>
                  <a:pt x="18901" y="17140"/>
                </a:cubicBezTo>
              </a:path>
              <a:path w="4888" h="2233">
                <a:moveTo>
                  <a:pt x="18430" y="17537"/>
                </a:moveTo>
                <a:cubicBezTo>
                  <a:pt x="18558" y="17527"/>
                  <a:pt x="18876" y="17511"/>
                  <a:pt x="18604" y="17686"/>
                </a:cubicBezTo>
                <a:cubicBezTo>
                  <a:pt x="18554" y="17711"/>
                  <a:pt x="18505" y="17735"/>
                  <a:pt x="18455" y="17760"/>
                </a:cubicBezTo>
                <a:cubicBezTo>
                  <a:pt x="18447" y="17768"/>
                  <a:pt x="18438" y="17777"/>
                  <a:pt x="18430" y="17785"/>
                </a:cubicBezTo>
                <a:cubicBezTo>
                  <a:pt x="18614" y="17799"/>
                  <a:pt x="18721" y="17804"/>
                  <a:pt x="18827" y="17934"/>
                </a:cubicBezTo>
                <a:cubicBezTo>
                  <a:pt x="18611" y="18102"/>
                  <a:pt x="18510" y="18108"/>
                  <a:pt x="18256" y="18008"/>
                </a:cubicBezTo>
              </a:path>
              <a:path w="4888" h="2233">
                <a:moveTo>
                  <a:pt x="16694" y="16272"/>
                </a:moveTo>
                <a:cubicBezTo>
                  <a:pt x="16304" y="16256"/>
                  <a:pt x="16176" y="16419"/>
                  <a:pt x="16073" y="16818"/>
                </a:cubicBezTo>
                <a:cubicBezTo>
                  <a:pt x="15952" y="17288"/>
                  <a:pt x="16120" y="17772"/>
                  <a:pt x="16669" y="17785"/>
                </a:cubicBezTo>
                <a:cubicBezTo>
                  <a:pt x="17106" y="17795"/>
                  <a:pt x="17813" y="17421"/>
                  <a:pt x="17636" y="16892"/>
                </a:cubicBezTo>
                <a:cubicBezTo>
                  <a:pt x="17535" y="16589"/>
                  <a:pt x="16979" y="16262"/>
                  <a:pt x="16694" y="16173"/>
                </a:cubicBezTo>
                <a:cubicBezTo>
                  <a:pt x="16453" y="16097"/>
                  <a:pt x="16356" y="16141"/>
                  <a:pt x="16396" y="16297"/>
                </a:cubicBezTo>
              </a:path>
              <a:path w="4888" h="2233">
                <a:moveTo>
                  <a:pt x="19075" y="16917"/>
                </a:moveTo>
                <a:cubicBezTo>
                  <a:pt x="19142" y="17074"/>
                  <a:pt x="19213" y="17330"/>
                  <a:pt x="19323" y="17413"/>
                </a:cubicBezTo>
              </a:path>
              <a:path w="4888" h="2233">
                <a:moveTo>
                  <a:pt x="16495" y="16842"/>
                </a:moveTo>
                <a:cubicBezTo>
                  <a:pt x="16638" y="16866"/>
                  <a:pt x="16820" y="16877"/>
                  <a:pt x="16966" y="16867"/>
                </a:cubicBezTo>
                <a:cubicBezTo>
                  <a:pt x="17057" y="16861"/>
                  <a:pt x="17041" y="16815"/>
                  <a:pt x="17041" y="16892"/>
                </a:cubicBezTo>
              </a:path>
              <a:path w="4888" h="2233">
                <a:moveTo>
                  <a:pt x="16545" y="17190"/>
                </a:moveTo>
                <a:cubicBezTo>
                  <a:pt x="16694" y="17190"/>
                  <a:pt x="16842" y="17190"/>
                  <a:pt x="16991" y="17190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15120" y="5857920"/>
            <a:ext cx="652680" cy="660240"/>
          </a:xfrm>
          <a:custGeom>
            <a:avLst/>
            <a:gdLst/>
            <a:ahLst/>
            <a:rect l="l" t="t" r="r" b="b"/>
            <a:pathLst>
              <a:path w="1812" h="1836">
                <a:moveTo>
                  <a:pt x="20191" y="16396"/>
                </a:moveTo>
                <a:cubicBezTo>
                  <a:pt x="20151" y="16613"/>
                  <a:pt x="20120" y="16790"/>
                  <a:pt x="20042" y="16991"/>
                </a:cubicBezTo>
              </a:path>
              <a:path w="1812" h="1836">
                <a:moveTo>
                  <a:pt x="20563" y="17066"/>
                </a:moveTo>
                <a:cubicBezTo>
                  <a:pt x="20686" y="17029"/>
                  <a:pt x="20757" y="17016"/>
                  <a:pt x="20886" y="17016"/>
                </a:cubicBezTo>
              </a:path>
              <a:path w="1812" h="1836">
                <a:moveTo>
                  <a:pt x="21084" y="16272"/>
                </a:moveTo>
                <a:cubicBezTo>
                  <a:pt x="21154" y="16438"/>
                  <a:pt x="21548" y="16768"/>
                  <a:pt x="21456" y="16966"/>
                </a:cubicBezTo>
                <a:cubicBezTo>
                  <a:pt x="21330" y="17042"/>
                  <a:pt x="21287" y="17067"/>
                  <a:pt x="21183" y="17066"/>
                </a:cubicBezTo>
                <a:cubicBezTo>
                  <a:pt x="21127" y="16778"/>
                  <a:pt x="21424" y="16655"/>
                  <a:pt x="21580" y="16421"/>
                </a:cubicBezTo>
                <a:cubicBezTo>
                  <a:pt x="21705" y="16234"/>
                  <a:pt x="21449" y="16294"/>
                  <a:pt x="21382" y="16297"/>
                </a:cubicBezTo>
              </a:path>
              <a:path w="1812" h="1836">
                <a:moveTo>
                  <a:pt x="21258" y="17661"/>
                </a:moveTo>
                <a:cubicBezTo>
                  <a:pt x="21417" y="17644"/>
                  <a:pt x="21707" y="17644"/>
                  <a:pt x="21729" y="17884"/>
                </a:cubicBezTo>
                <a:cubicBezTo>
                  <a:pt x="21746" y="18071"/>
                  <a:pt x="21491" y="18153"/>
                  <a:pt x="21357" y="18083"/>
                </a:cubicBezTo>
                <a:cubicBezTo>
                  <a:pt x="21349" y="18066"/>
                  <a:pt x="21340" y="18050"/>
                  <a:pt x="21332" y="18033"/>
                </a:cubicBezTo>
                <a:cubicBezTo>
                  <a:pt x="21498" y="17961"/>
                  <a:pt x="21609" y="17984"/>
                  <a:pt x="21779" y="18058"/>
                </a:cubicBezTo>
                <a:cubicBezTo>
                  <a:pt x="21819" y="18078"/>
                  <a:pt x="21825" y="18087"/>
                  <a:pt x="21853" y="18083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Unit 13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t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ve:  Students will distinguish between rate and unit rate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Objective:  Students will distinguish between rate and unit rate.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cabulary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atio of two measures that have different uni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t Rat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ate with a denominator of 1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901800" y="3384720"/>
            <a:ext cx="3054240" cy="411120"/>
          </a:xfrm>
          <a:custGeom>
            <a:avLst/>
            <a:gdLst/>
            <a:ahLst/>
            <a:rect l="l" t="t" r="r" b="b"/>
            <a:pathLst>
              <a:path w="8484" h="1142">
                <a:moveTo>
                  <a:pt x="2505" y="10517"/>
                </a:moveTo>
                <a:cubicBezTo>
                  <a:pt x="2651" y="10466"/>
                  <a:pt x="2766" y="10460"/>
                  <a:pt x="2927" y="10443"/>
                </a:cubicBezTo>
                <a:cubicBezTo>
                  <a:pt x="3119" y="10422"/>
                  <a:pt x="3302" y="10443"/>
                  <a:pt x="3497" y="10443"/>
                </a:cubicBezTo>
                <a:cubicBezTo>
                  <a:pt x="3665" y="10443"/>
                  <a:pt x="3825" y="10468"/>
                  <a:pt x="3994" y="10468"/>
                </a:cubicBezTo>
                <a:cubicBezTo>
                  <a:pt x="4244" y="10468"/>
                  <a:pt x="4490" y="10477"/>
                  <a:pt x="4738" y="10492"/>
                </a:cubicBezTo>
                <a:cubicBezTo>
                  <a:pt x="4922" y="10503"/>
                  <a:pt x="5158" y="10450"/>
                  <a:pt x="5333" y="10517"/>
                </a:cubicBezTo>
                <a:cubicBezTo>
                  <a:pt x="5341" y="10525"/>
                  <a:pt x="5350" y="10534"/>
                  <a:pt x="5358" y="10542"/>
                </a:cubicBezTo>
              </a:path>
              <a:path w="8484" h="1142">
                <a:moveTo>
                  <a:pt x="10964" y="9426"/>
                </a:moveTo>
                <a:cubicBezTo>
                  <a:pt x="10964" y="9401"/>
                  <a:pt x="10964" y="9393"/>
                  <a:pt x="10988" y="9401"/>
                </a:cubicBezTo>
              </a:path>
              <a:path w="8484" h="1142">
                <a:moveTo>
                  <a:pt x="10988" y="9401"/>
                </a:moveTo>
                <a:lnTo>
                  <a:pt x="10988" y="9401"/>
                </a:ln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54240" y="3367080"/>
            <a:ext cx="1401840" cy="249120"/>
          </a:xfrm>
          <a:custGeom>
            <a:avLst/>
            <a:gdLst/>
            <a:ahLst/>
            <a:rect l="l" t="t" r="r" b="b"/>
            <a:pathLst>
              <a:path w="3896" h="696">
                <a:moveTo>
                  <a:pt x="8731" y="9475"/>
                </a:moveTo>
                <a:cubicBezTo>
                  <a:pt x="8741" y="9447"/>
                  <a:pt x="8862" y="9393"/>
                  <a:pt x="8905" y="9401"/>
                </a:cubicBezTo>
                <a:cubicBezTo>
                  <a:pt x="9192" y="9455"/>
                  <a:pt x="8944" y="9852"/>
                  <a:pt x="8830" y="9947"/>
                </a:cubicBezTo>
                <a:cubicBezTo>
                  <a:pt x="8720" y="10039"/>
                  <a:pt x="8605" y="10041"/>
                  <a:pt x="8483" y="10021"/>
                </a:cubicBezTo>
                <a:cubicBezTo>
                  <a:pt x="8531" y="9894"/>
                  <a:pt x="8664" y="9852"/>
                  <a:pt x="8806" y="9897"/>
                </a:cubicBezTo>
                <a:cubicBezTo>
                  <a:pt x="8884" y="9922"/>
                  <a:pt x="8893" y="9971"/>
                  <a:pt x="8930" y="10021"/>
                </a:cubicBezTo>
              </a:path>
              <a:path w="3896" h="696">
                <a:moveTo>
                  <a:pt x="9624" y="9401"/>
                </a:moveTo>
                <a:cubicBezTo>
                  <a:pt x="9506" y="9418"/>
                  <a:pt x="9398" y="9426"/>
                  <a:pt x="9277" y="9426"/>
                </a:cubicBezTo>
                <a:cubicBezTo>
                  <a:pt x="9208" y="9426"/>
                  <a:pt x="9234" y="9612"/>
                  <a:pt x="9227" y="9649"/>
                </a:cubicBezTo>
                <a:cubicBezTo>
                  <a:pt x="9208" y="9706"/>
                  <a:pt x="9200" y="9713"/>
                  <a:pt x="9203" y="9748"/>
                </a:cubicBezTo>
                <a:cubicBezTo>
                  <a:pt x="9301" y="9731"/>
                  <a:pt x="9374" y="9649"/>
                  <a:pt x="9475" y="9649"/>
                </a:cubicBezTo>
                <a:cubicBezTo>
                  <a:pt x="9601" y="9649"/>
                  <a:pt x="9648" y="9823"/>
                  <a:pt x="9624" y="9922"/>
                </a:cubicBezTo>
                <a:cubicBezTo>
                  <a:pt x="9582" y="10093"/>
                  <a:pt x="9345" y="10053"/>
                  <a:pt x="9227" y="10021"/>
                </a:cubicBezTo>
                <a:cubicBezTo>
                  <a:pt x="9211" y="10013"/>
                  <a:pt x="9194" y="10004"/>
                  <a:pt x="9178" y="9996"/>
                </a:cubicBezTo>
              </a:path>
              <a:path w="3896" h="696">
                <a:moveTo>
                  <a:pt x="10096" y="9723"/>
                </a:moveTo>
                <a:cubicBezTo>
                  <a:pt x="10106" y="9808"/>
                  <a:pt x="10115" y="9886"/>
                  <a:pt x="10120" y="9971"/>
                </a:cubicBezTo>
                <a:cubicBezTo>
                  <a:pt x="10093" y="9850"/>
                  <a:pt x="10072" y="9637"/>
                  <a:pt x="10269" y="9649"/>
                </a:cubicBezTo>
                <a:cubicBezTo>
                  <a:pt x="10381" y="9656"/>
                  <a:pt x="10439" y="9795"/>
                  <a:pt x="10492" y="9872"/>
                </a:cubicBezTo>
                <a:cubicBezTo>
                  <a:pt x="10492" y="9762"/>
                  <a:pt x="10503" y="9678"/>
                  <a:pt x="10641" y="9674"/>
                </a:cubicBezTo>
                <a:cubicBezTo>
                  <a:pt x="10784" y="9670"/>
                  <a:pt x="10834" y="9830"/>
                  <a:pt x="10815" y="9947"/>
                </a:cubicBezTo>
                <a:cubicBezTo>
                  <a:pt x="10801" y="10036"/>
                  <a:pt x="10779" y="10032"/>
                  <a:pt x="10864" y="9947"/>
                </a:cubicBezTo>
              </a:path>
              <a:path w="3896" h="696">
                <a:moveTo>
                  <a:pt x="10988" y="9599"/>
                </a:moveTo>
                <a:cubicBezTo>
                  <a:pt x="10991" y="9630"/>
                  <a:pt x="11038" y="10010"/>
                  <a:pt x="11038" y="9872"/>
                </a:cubicBezTo>
              </a:path>
              <a:path w="3896" h="696">
                <a:moveTo>
                  <a:pt x="11212" y="9376"/>
                </a:moveTo>
                <a:cubicBezTo>
                  <a:pt x="11240" y="9293"/>
                  <a:pt x="11292" y="9464"/>
                  <a:pt x="11311" y="9550"/>
                </a:cubicBezTo>
                <a:cubicBezTo>
                  <a:pt x="11339" y="9677"/>
                  <a:pt x="11345" y="9799"/>
                  <a:pt x="11385" y="9922"/>
                </a:cubicBezTo>
              </a:path>
              <a:path w="3896" h="696">
                <a:moveTo>
                  <a:pt x="11509" y="9748"/>
                </a:moveTo>
                <a:cubicBezTo>
                  <a:pt x="11597" y="9737"/>
                  <a:pt x="11686" y="9700"/>
                  <a:pt x="11757" y="9723"/>
                </a:cubicBezTo>
                <a:cubicBezTo>
                  <a:pt x="11746" y="9679"/>
                  <a:pt x="11702" y="9621"/>
                  <a:pt x="11658" y="9599"/>
                </a:cubicBezTo>
                <a:cubicBezTo>
                  <a:pt x="11573" y="9556"/>
                  <a:pt x="11558" y="9834"/>
                  <a:pt x="11584" y="9872"/>
                </a:cubicBezTo>
                <a:cubicBezTo>
                  <a:pt x="11704" y="10050"/>
                  <a:pt x="11920" y="9865"/>
                  <a:pt x="12030" y="9798"/>
                </a:cubicBezTo>
              </a:path>
              <a:path w="3896" h="696">
                <a:moveTo>
                  <a:pt x="12179" y="9599"/>
                </a:moveTo>
                <a:cubicBezTo>
                  <a:pt x="12084" y="9576"/>
                  <a:pt x="12054" y="9566"/>
                  <a:pt x="12005" y="9624"/>
                </a:cubicBezTo>
                <a:cubicBezTo>
                  <a:pt x="12063" y="9726"/>
                  <a:pt x="12254" y="9731"/>
                  <a:pt x="12353" y="9847"/>
                </a:cubicBezTo>
                <a:cubicBezTo>
                  <a:pt x="12484" y="10001"/>
                  <a:pt x="12112" y="9993"/>
                  <a:pt x="12055" y="999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19920" y="3232080"/>
            <a:ext cx="1403280" cy="46080"/>
          </a:xfrm>
          <a:custGeom>
            <a:avLst/>
            <a:gdLst/>
            <a:ahLst/>
            <a:rect l="l" t="t" r="r" b="b"/>
            <a:pathLst>
              <a:path w="3895" h="125">
                <a:moveTo>
                  <a:pt x="19224" y="9103"/>
                </a:moveTo>
                <a:cubicBezTo>
                  <a:pt x="19353" y="9084"/>
                  <a:pt x="19490" y="9060"/>
                  <a:pt x="19621" y="9054"/>
                </a:cubicBezTo>
                <a:cubicBezTo>
                  <a:pt x="19901" y="9041"/>
                  <a:pt x="20184" y="9040"/>
                  <a:pt x="20464" y="9029"/>
                </a:cubicBezTo>
                <a:cubicBezTo>
                  <a:pt x="20729" y="9019"/>
                  <a:pt x="20994" y="9008"/>
                  <a:pt x="21258" y="9004"/>
                </a:cubicBezTo>
                <a:cubicBezTo>
                  <a:pt x="21548" y="9000"/>
                  <a:pt x="21835" y="8979"/>
                  <a:pt x="22126" y="8979"/>
                </a:cubicBezTo>
                <a:cubicBezTo>
                  <a:pt x="22405" y="8979"/>
                  <a:pt x="22902" y="8979"/>
                  <a:pt x="23093" y="8979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35840" y="3384720"/>
            <a:ext cx="189000" cy="214200"/>
          </a:xfrm>
          <a:custGeom>
            <a:avLst/>
            <a:gdLst/>
            <a:ahLst/>
            <a:rect l="l" t="t" r="r" b="b"/>
            <a:pathLst>
              <a:path w="522" h="596">
                <a:moveTo>
                  <a:pt x="19596" y="9823"/>
                </a:moveTo>
                <a:cubicBezTo>
                  <a:pt x="19603" y="9889"/>
                  <a:pt x="19613" y="9939"/>
                  <a:pt x="19645" y="9996"/>
                </a:cubicBezTo>
              </a:path>
              <a:path w="522" h="596">
                <a:moveTo>
                  <a:pt x="19546" y="9599"/>
                </a:moveTo>
                <a:cubicBezTo>
                  <a:pt x="19546" y="9583"/>
                  <a:pt x="19546" y="9566"/>
                  <a:pt x="19546" y="9550"/>
                </a:cubicBezTo>
              </a:path>
              <a:path w="522" h="596">
                <a:moveTo>
                  <a:pt x="19546" y="9550"/>
                </a:moveTo>
                <a:lnTo>
                  <a:pt x="19546" y="9550"/>
                </a:lnTo>
              </a:path>
              <a:path w="522" h="596">
                <a:moveTo>
                  <a:pt x="19869" y="9401"/>
                </a:moveTo>
                <a:cubicBezTo>
                  <a:pt x="19917" y="9561"/>
                  <a:pt x="20028" y="9720"/>
                  <a:pt x="20067" y="9897"/>
                </a:cubicBezTo>
                <a:cubicBezTo>
                  <a:pt x="20067" y="9922"/>
                  <a:pt x="20067" y="9946"/>
                  <a:pt x="20067" y="9971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28960" y="3224160"/>
            <a:ext cx="5081400" cy="901800"/>
          </a:xfrm>
          <a:custGeom>
            <a:avLst/>
            <a:gdLst/>
            <a:ahLst/>
            <a:rect l="l" t="t" r="r" b="b"/>
            <a:pathLst>
              <a:path w="14115" h="2507">
                <a:moveTo>
                  <a:pt x="8136" y="10294"/>
                </a:moveTo>
                <a:cubicBezTo>
                  <a:pt x="8175" y="10318"/>
                  <a:pt x="8197" y="10305"/>
                  <a:pt x="8260" y="10319"/>
                </a:cubicBezTo>
                <a:cubicBezTo>
                  <a:pt x="8371" y="10343"/>
                  <a:pt x="8467" y="10344"/>
                  <a:pt x="8582" y="10344"/>
                </a:cubicBezTo>
                <a:cubicBezTo>
                  <a:pt x="8682" y="10344"/>
                  <a:pt x="8762" y="10324"/>
                  <a:pt x="8855" y="10319"/>
                </a:cubicBezTo>
                <a:cubicBezTo>
                  <a:pt x="8974" y="10312"/>
                  <a:pt x="9100" y="10324"/>
                  <a:pt x="9203" y="10344"/>
                </a:cubicBezTo>
                <a:cubicBezTo>
                  <a:pt x="9265" y="10356"/>
                  <a:pt x="9337" y="10377"/>
                  <a:pt x="9401" y="10368"/>
                </a:cubicBezTo>
                <a:cubicBezTo>
                  <a:pt x="9488" y="10356"/>
                  <a:pt x="9559" y="10344"/>
                  <a:pt x="9649" y="10344"/>
                </a:cubicBezTo>
                <a:cubicBezTo>
                  <a:pt x="9732" y="10344"/>
                  <a:pt x="9814" y="10344"/>
                  <a:pt x="9897" y="10344"/>
                </a:cubicBezTo>
              </a:path>
              <a:path w="14115" h="2507">
                <a:moveTo>
                  <a:pt x="9054" y="10542"/>
                </a:moveTo>
                <a:cubicBezTo>
                  <a:pt x="9054" y="10450"/>
                  <a:pt x="9074" y="10674"/>
                  <a:pt x="9079" y="10765"/>
                </a:cubicBezTo>
                <a:cubicBezTo>
                  <a:pt x="9085" y="10868"/>
                  <a:pt x="9089" y="10940"/>
                  <a:pt x="9103" y="11038"/>
                </a:cubicBezTo>
              </a:path>
              <a:path w="14115" h="2507">
                <a:moveTo>
                  <a:pt x="10269" y="10815"/>
                </a:moveTo>
                <a:cubicBezTo>
                  <a:pt x="10259" y="10735"/>
                  <a:pt x="10225" y="10641"/>
                  <a:pt x="10120" y="10641"/>
                </a:cubicBezTo>
                <a:cubicBezTo>
                  <a:pt x="9901" y="10641"/>
                  <a:pt x="9863" y="10849"/>
                  <a:pt x="9922" y="10988"/>
                </a:cubicBezTo>
                <a:cubicBezTo>
                  <a:pt x="10106" y="10959"/>
                  <a:pt x="10096" y="10913"/>
                  <a:pt x="10220" y="10815"/>
                </a:cubicBezTo>
                <a:cubicBezTo>
                  <a:pt x="10309" y="11011"/>
                  <a:pt x="10405" y="11253"/>
                  <a:pt x="10170" y="11410"/>
                </a:cubicBezTo>
                <a:cubicBezTo>
                  <a:pt x="9927" y="11572"/>
                  <a:pt x="9835" y="11431"/>
                  <a:pt x="9922" y="11237"/>
                </a:cubicBezTo>
              </a:path>
              <a:path w="14115" h="2507">
                <a:moveTo>
                  <a:pt x="10716" y="10765"/>
                </a:moveTo>
                <a:cubicBezTo>
                  <a:pt x="10608" y="10679"/>
                  <a:pt x="10535" y="10756"/>
                  <a:pt x="10468" y="10864"/>
                </a:cubicBezTo>
                <a:cubicBezTo>
                  <a:pt x="10398" y="10978"/>
                  <a:pt x="10578" y="10999"/>
                  <a:pt x="10641" y="10939"/>
                </a:cubicBezTo>
                <a:cubicBezTo>
                  <a:pt x="10658" y="10906"/>
                  <a:pt x="10674" y="10873"/>
                  <a:pt x="10691" y="10840"/>
                </a:cubicBezTo>
                <a:cubicBezTo>
                  <a:pt x="10691" y="10832"/>
                  <a:pt x="10691" y="10823"/>
                  <a:pt x="10691" y="10815"/>
                </a:cubicBezTo>
                <a:cubicBezTo>
                  <a:pt x="10704" y="10882"/>
                  <a:pt x="10811" y="11000"/>
                  <a:pt x="10889" y="10939"/>
                </a:cubicBezTo>
                <a:cubicBezTo>
                  <a:pt x="10906" y="10906"/>
                  <a:pt x="10922" y="10873"/>
                  <a:pt x="10939" y="10840"/>
                </a:cubicBezTo>
              </a:path>
              <a:path w="14115" h="2507">
                <a:moveTo>
                  <a:pt x="10864" y="10418"/>
                </a:moveTo>
                <a:cubicBezTo>
                  <a:pt x="10894" y="10575"/>
                  <a:pt x="10899" y="10803"/>
                  <a:pt x="10988" y="10939"/>
                </a:cubicBezTo>
                <a:cubicBezTo>
                  <a:pt x="10988" y="10931"/>
                  <a:pt x="10988" y="10922"/>
                  <a:pt x="10988" y="10914"/>
                </a:cubicBezTo>
              </a:path>
              <a:path w="14115" h="2507">
                <a:moveTo>
                  <a:pt x="11162" y="10344"/>
                </a:moveTo>
                <a:cubicBezTo>
                  <a:pt x="11188" y="10490"/>
                  <a:pt x="11170" y="10743"/>
                  <a:pt x="11261" y="10864"/>
                </a:cubicBezTo>
                <a:cubicBezTo>
                  <a:pt x="11269" y="10864"/>
                  <a:pt x="11278" y="10864"/>
                  <a:pt x="11286" y="10864"/>
                </a:cubicBezTo>
              </a:path>
              <a:path w="14115" h="2507">
                <a:moveTo>
                  <a:pt x="11460" y="10567"/>
                </a:moveTo>
                <a:cubicBezTo>
                  <a:pt x="11418" y="10685"/>
                  <a:pt x="11402" y="10718"/>
                  <a:pt x="11435" y="10840"/>
                </a:cubicBezTo>
                <a:cubicBezTo>
                  <a:pt x="11549" y="10849"/>
                  <a:pt x="11684" y="10798"/>
                  <a:pt x="11609" y="10641"/>
                </a:cubicBezTo>
                <a:cubicBezTo>
                  <a:pt x="11570" y="10603"/>
                  <a:pt x="11568" y="10586"/>
                  <a:pt x="11534" y="10592"/>
                </a:cubicBezTo>
              </a:path>
              <a:path w="14115" h="2507">
                <a:moveTo>
                  <a:pt x="11857" y="10691"/>
                </a:moveTo>
                <a:cubicBezTo>
                  <a:pt x="11876" y="10792"/>
                  <a:pt x="11874" y="10812"/>
                  <a:pt x="11906" y="10864"/>
                </a:cubicBezTo>
                <a:cubicBezTo>
                  <a:pt x="11906" y="10780"/>
                  <a:pt x="11923" y="10620"/>
                  <a:pt x="12030" y="10592"/>
                </a:cubicBezTo>
                <a:cubicBezTo>
                  <a:pt x="12170" y="10555"/>
                  <a:pt x="12233" y="10799"/>
                  <a:pt x="12278" y="10889"/>
                </a:cubicBezTo>
              </a:path>
              <a:path w="14115" h="2507">
                <a:moveTo>
                  <a:pt x="12998" y="10616"/>
                </a:moveTo>
                <a:cubicBezTo>
                  <a:pt x="12879" y="10578"/>
                  <a:pt x="12710" y="10655"/>
                  <a:pt x="12750" y="10815"/>
                </a:cubicBezTo>
                <a:cubicBezTo>
                  <a:pt x="12810" y="11055"/>
                  <a:pt x="12994" y="10786"/>
                  <a:pt x="13022" y="10716"/>
                </a:cubicBezTo>
                <a:cubicBezTo>
                  <a:pt x="13022" y="10708"/>
                  <a:pt x="13022" y="10699"/>
                  <a:pt x="13022" y="10691"/>
                </a:cubicBezTo>
                <a:cubicBezTo>
                  <a:pt x="13068" y="10830"/>
                  <a:pt x="13186" y="10945"/>
                  <a:pt x="13146" y="11112"/>
                </a:cubicBezTo>
                <a:cubicBezTo>
                  <a:pt x="13101" y="11299"/>
                  <a:pt x="12944" y="11272"/>
                  <a:pt x="12799" y="11286"/>
                </a:cubicBezTo>
                <a:cubicBezTo>
                  <a:pt x="12744" y="11119"/>
                  <a:pt x="12739" y="11054"/>
                  <a:pt x="12874" y="10964"/>
                </a:cubicBezTo>
              </a:path>
              <a:path w="14115" h="2507">
                <a:moveTo>
                  <a:pt x="13419" y="10567"/>
                </a:moveTo>
                <a:cubicBezTo>
                  <a:pt x="13384" y="10567"/>
                  <a:pt x="13367" y="10562"/>
                  <a:pt x="13345" y="10542"/>
                </a:cubicBezTo>
                <a:cubicBezTo>
                  <a:pt x="13289" y="10669"/>
                  <a:pt x="13222" y="10769"/>
                  <a:pt x="13345" y="10840"/>
                </a:cubicBezTo>
                <a:cubicBezTo>
                  <a:pt x="13441" y="10772"/>
                  <a:pt x="13434" y="10768"/>
                  <a:pt x="13444" y="10641"/>
                </a:cubicBezTo>
                <a:cubicBezTo>
                  <a:pt x="13539" y="10754"/>
                  <a:pt x="13550" y="10786"/>
                  <a:pt x="13692" y="10815"/>
                </a:cubicBezTo>
              </a:path>
              <a:path w="14115" h="2507">
                <a:moveTo>
                  <a:pt x="13791" y="10468"/>
                </a:moveTo>
                <a:cubicBezTo>
                  <a:pt x="13704" y="10536"/>
                  <a:pt x="13717" y="10499"/>
                  <a:pt x="13717" y="10592"/>
                </a:cubicBezTo>
                <a:cubicBezTo>
                  <a:pt x="13882" y="10646"/>
                  <a:pt x="13973" y="10649"/>
                  <a:pt x="14015" y="10815"/>
                </a:cubicBezTo>
                <a:cubicBezTo>
                  <a:pt x="13888" y="10873"/>
                  <a:pt x="13862" y="10862"/>
                  <a:pt x="13717" y="10840"/>
                </a:cubicBezTo>
              </a:path>
              <a:path w="14115" h="2507">
                <a:moveTo>
                  <a:pt x="16917" y="10319"/>
                </a:moveTo>
                <a:cubicBezTo>
                  <a:pt x="16927" y="10304"/>
                  <a:pt x="16991" y="10286"/>
                  <a:pt x="17115" y="10269"/>
                </a:cubicBezTo>
                <a:cubicBezTo>
                  <a:pt x="17495" y="10218"/>
                  <a:pt x="17877" y="10207"/>
                  <a:pt x="18256" y="10170"/>
                </a:cubicBezTo>
                <a:cubicBezTo>
                  <a:pt x="18352" y="10161"/>
                  <a:pt x="18434" y="10145"/>
                  <a:pt x="18529" y="10145"/>
                </a:cubicBezTo>
                <a:cubicBezTo>
                  <a:pt x="18537" y="10145"/>
                  <a:pt x="18546" y="10145"/>
                  <a:pt x="18554" y="10145"/>
                </a:cubicBezTo>
              </a:path>
              <a:path w="14115" h="2507">
                <a:moveTo>
                  <a:pt x="17983" y="10368"/>
                </a:moveTo>
                <a:cubicBezTo>
                  <a:pt x="17849" y="10387"/>
                  <a:pt x="17724" y="10414"/>
                  <a:pt x="17587" y="10418"/>
                </a:cubicBezTo>
                <a:cubicBezTo>
                  <a:pt x="17513" y="10420"/>
                  <a:pt x="17457" y="10564"/>
                  <a:pt x="17438" y="10641"/>
                </a:cubicBezTo>
                <a:cubicBezTo>
                  <a:pt x="17438" y="10658"/>
                  <a:pt x="17438" y="10674"/>
                  <a:pt x="17438" y="10691"/>
                </a:cubicBezTo>
                <a:cubicBezTo>
                  <a:pt x="17525" y="10691"/>
                  <a:pt x="17601" y="10649"/>
                  <a:pt x="17686" y="10641"/>
                </a:cubicBezTo>
                <a:cubicBezTo>
                  <a:pt x="17770" y="10633"/>
                  <a:pt x="17989" y="10673"/>
                  <a:pt x="17934" y="10815"/>
                </a:cubicBezTo>
                <a:cubicBezTo>
                  <a:pt x="17885" y="10943"/>
                  <a:pt x="17638" y="10931"/>
                  <a:pt x="17537" y="10914"/>
                </a:cubicBezTo>
                <a:cubicBezTo>
                  <a:pt x="17496" y="10894"/>
                  <a:pt x="17490" y="10885"/>
                  <a:pt x="17462" y="10889"/>
                </a:cubicBezTo>
              </a:path>
              <a:path w="14115" h="2507">
                <a:moveTo>
                  <a:pt x="17066" y="9575"/>
                </a:moveTo>
                <a:cubicBezTo>
                  <a:pt x="16995" y="9691"/>
                  <a:pt x="17036" y="9861"/>
                  <a:pt x="17016" y="9996"/>
                </a:cubicBezTo>
                <a:cubicBezTo>
                  <a:pt x="17008" y="10021"/>
                  <a:pt x="16999" y="10046"/>
                  <a:pt x="16991" y="10071"/>
                </a:cubicBezTo>
              </a:path>
              <a:path w="14115" h="2507">
                <a:moveTo>
                  <a:pt x="17363" y="9649"/>
                </a:moveTo>
                <a:cubicBezTo>
                  <a:pt x="17414" y="9632"/>
                  <a:pt x="17363" y="9607"/>
                  <a:pt x="17438" y="9575"/>
                </a:cubicBezTo>
                <a:cubicBezTo>
                  <a:pt x="17524" y="9538"/>
                  <a:pt x="17636" y="9497"/>
                  <a:pt x="17636" y="9649"/>
                </a:cubicBezTo>
                <a:cubicBezTo>
                  <a:pt x="17636" y="9761"/>
                  <a:pt x="17473" y="9841"/>
                  <a:pt x="17413" y="9922"/>
                </a:cubicBezTo>
                <a:cubicBezTo>
                  <a:pt x="17384" y="9961"/>
                  <a:pt x="17328" y="10026"/>
                  <a:pt x="17314" y="10071"/>
                </a:cubicBezTo>
                <a:cubicBezTo>
                  <a:pt x="17314" y="10079"/>
                  <a:pt x="17314" y="10088"/>
                  <a:pt x="17314" y="10096"/>
                </a:cubicBezTo>
                <a:cubicBezTo>
                  <a:pt x="17321" y="10068"/>
                  <a:pt x="17353" y="10006"/>
                  <a:pt x="17388" y="9996"/>
                </a:cubicBezTo>
                <a:cubicBezTo>
                  <a:pt x="17438" y="9982"/>
                  <a:pt x="17500" y="9997"/>
                  <a:pt x="17537" y="10021"/>
                </a:cubicBezTo>
                <a:cubicBezTo>
                  <a:pt x="17618" y="10074"/>
                  <a:pt x="17677" y="10100"/>
                  <a:pt x="17735" y="10021"/>
                </a:cubicBezTo>
              </a:path>
              <a:path w="14115" h="2507">
                <a:moveTo>
                  <a:pt x="18281" y="9525"/>
                </a:moveTo>
                <a:cubicBezTo>
                  <a:pt x="18194" y="9525"/>
                  <a:pt x="18092" y="9517"/>
                  <a:pt x="18008" y="9500"/>
                </a:cubicBezTo>
                <a:cubicBezTo>
                  <a:pt x="17868" y="9472"/>
                  <a:pt x="17879" y="9615"/>
                  <a:pt x="17859" y="9748"/>
                </a:cubicBezTo>
                <a:cubicBezTo>
                  <a:pt x="17859" y="9765"/>
                  <a:pt x="17859" y="9781"/>
                  <a:pt x="17859" y="9798"/>
                </a:cubicBezTo>
                <a:cubicBezTo>
                  <a:pt x="17980" y="9781"/>
                  <a:pt x="18085" y="9751"/>
                  <a:pt x="18207" y="9798"/>
                </a:cubicBezTo>
                <a:cubicBezTo>
                  <a:pt x="18232" y="9814"/>
                  <a:pt x="18256" y="9831"/>
                  <a:pt x="18281" y="9847"/>
                </a:cubicBezTo>
                <a:cubicBezTo>
                  <a:pt x="18255" y="10039"/>
                  <a:pt x="18168" y="10086"/>
                  <a:pt x="17959" y="10071"/>
                </a:cubicBezTo>
                <a:cubicBezTo>
                  <a:pt x="17926" y="10063"/>
                  <a:pt x="17892" y="10054"/>
                  <a:pt x="17859" y="10046"/>
                </a:cubicBezTo>
              </a:path>
              <a:path w="14115" h="2507">
                <a:moveTo>
                  <a:pt x="18827" y="9723"/>
                </a:moveTo>
                <a:cubicBezTo>
                  <a:pt x="18873" y="9829"/>
                  <a:pt x="18852" y="9973"/>
                  <a:pt x="18852" y="10096"/>
                </a:cubicBezTo>
                <a:cubicBezTo>
                  <a:pt x="18852" y="10088"/>
                  <a:pt x="18852" y="10079"/>
                  <a:pt x="18852" y="10071"/>
                </a:cubicBezTo>
                <a:cubicBezTo>
                  <a:pt x="18858" y="9956"/>
                  <a:pt x="18858" y="9692"/>
                  <a:pt x="19050" y="9847"/>
                </a:cubicBezTo>
                <a:cubicBezTo>
                  <a:pt x="19169" y="9943"/>
                  <a:pt x="19116" y="10078"/>
                  <a:pt x="19124" y="9947"/>
                </a:cubicBezTo>
                <a:cubicBezTo>
                  <a:pt x="19133" y="9804"/>
                  <a:pt x="19170" y="9814"/>
                  <a:pt x="19273" y="9748"/>
                </a:cubicBezTo>
                <a:cubicBezTo>
                  <a:pt x="19365" y="9840"/>
                  <a:pt x="19388" y="9907"/>
                  <a:pt x="19397" y="10046"/>
                </a:cubicBezTo>
                <a:cubicBezTo>
                  <a:pt x="19397" y="10054"/>
                  <a:pt x="19397" y="10063"/>
                  <a:pt x="19397" y="10071"/>
                </a:cubicBezTo>
              </a:path>
              <a:path w="14115" h="2507">
                <a:moveTo>
                  <a:pt x="17735" y="9178"/>
                </a:moveTo>
                <a:cubicBezTo>
                  <a:pt x="17645" y="9137"/>
                  <a:pt x="17547" y="9070"/>
                  <a:pt x="17438" y="9054"/>
                </a:cubicBezTo>
                <a:cubicBezTo>
                  <a:pt x="17192" y="9017"/>
                  <a:pt x="16906" y="9091"/>
                  <a:pt x="16694" y="9203"/>
                </a:cubicBezTo>
                <a:cubicBezTo>
                  <a:pt x="16550" y="9279"/>
                  <a:pt x="16238" y="9530"/>
                  <a:pt x="16371" y="9748"/>
                </a:cubicBezTo>
                <a:cubicBezTo>
                  <a:pt x="16456" y="9805"/>
                  <a:pt x="16493" y="9824"/>
                  <a:pt x="16570" y="9823"/>
                </a:cubicBezTo>
                <a:cubicBezTo>
                  <a:pt x="16456" y="9894"/>
                  <a:pt x="16512" y="9848"/>
                  <a:pt x="16421" y="9947"/>
                </a:cubicBezTo>
                <a:cubicBezTo>
                  <a:pt x="16301" y="10078"/>
                  <a:pt x="16013" y="10358"/>
                  <a:pt x="16049" y="10567"/>
                </a:cubicBezTo>
                <a:cubicBezTo>
                  <a:pt x="16089" y="10797"/>
                  <a:pt x="16334" y="10732"/>
                  <a:pt x="16495" y="10740"/>
                </a:cubicBezTo>
                <a:cubicBezTo>
                  <a:pt x="16495" y="10732"/>
                  <a:pt x="16495" y="10724"/>
                  <a:pt x="16495" y="10716"/>
                </a:cubicBezTo>
                <a:cubicBezTo>
                  <a:pt x="16431" y="10839"/>
                  <a:pt x="16296" y="11010"/>
                  <a:pt x="16396" y="11162"/>
                </a:cubicBezTo>
                <a:cubicBezTo>
                  <a:pt x="16567" y="11420"/>
                  <a:pt x="17054" y="11195"/>
                  <a:pt x="17264" y="11137"/>
                </a:cubicBezTo>
                <a:cubicBezTo>
                  <a:pt x="17590" y="11047"/>
                  <a:pt x="17179" y="11127"/>
                  <a:pt x="17363" y="11212"/>
                </a:cubicBezTo>
                <a:cubicBezTo>
                  <a:pt x="17628" y="11334"/>
                  <a:pt x="17986" y="11248"/>
                  <a:pt x="18256" y="11187"/>
                </a:cubicBezTo>
                <a:cubicBezTo>
                  <a:pt x="18741" y="11078"/>
                  <a:pt x="18278" y="11161"/>
                  <a:pt x="18479" y="11187"/>
                </a:cubicBezTo>
                <a:cubicBezTo>
                  <a:pt x="18777" y="11226"/>
                  <a:pt x="19027" y="11322"/>
                  <a:pt x="19348" y="11286"/>
                </a:cubicBezTo>
                <a:cubicBezTo>
                  <a:pt x="19446" y="11275"/>
                  <a:pt x="19653" y="11158"/>
                  <a:pt x="19745" y="11162"/>
                </a:cubicBezTo>
                <a:cubicBezTo>
                  <a:pt x="19984" y="11173"/>
                  <a:pt x="20177" y="11251"/>
                  <a:pt x="20464" y="11162"/>
                </a:cubicBezTo>
                <a:cubicBezTo>
                  <a:pt x="20704" y="11088"/>
                  <a:pt x="20647" y="11091"/>
                  <a:pt x="20861" y="11088"/>
                </a:cubicBezTo>
                <a:cubicBezTo>
                  <a:pt x="21120" y="11084"/>
                  <a:pt x="21294" y="10866"/>
                  <a:pt x="21506" y="10840"/>
                </a:cubicBezTo>
                <a:cubicBezTo>
                  <a:pt x="21558" y="10834"/>
                  <a:pt x="21643" y="10907"/>
                  <a:pt x="21779" y="10889"/>
                </a:cubicBezTo>
                <a:cubicBezTo>
                  <a:pt x="21962" y="10865"/>
                  <a:pt x="22329" y="10663"/>
                  <a:pt x="22250" y="10418"/>
                </a:cubicBezTo>
                <a:cubicBezTo>
                  <a:pt x="22230" y="10354"/>
                  <a:pt x="22125" y="10274"/>
                  <a:pt x="22126" y="10269"/>
                </a:cubicBezTo>
                <a:cubicBezTo>
                  <a:pt x="22150" y="10101"/>
                  <a:pt x="22287" y="10030"/>
                  <a:pt x="22101" y="9823"/>
                </a:cubicBezTo>
                <a:cubicBezTo>
                  <a:pt x="21896" y="9595"/>
                  <a:pt x="21697" y="9839"/>
                  <a:pt x="21506" y="9773"/>
                </a:cubicBezTo>
                <a:cubicBezTo>
                  <a:pt x="21447" y="9752"/>
                  <a:pt x="21532" y="9711"/>
                  <a:pt x="21481" y="9674"/>
                </a:cubicBezTo>
                <a:cubicBezTo>
                  <a:pt x="21296" y="9540"/>
                  <a:pt x="21034" y="9573"/>
                  <a:pt x="20886" y="9475"/>
                </a:cubicBezTo>
                <a:cubicBezTo>
                  <a:pt x="20862" y="9459"/>
                  <a:pt x="20908" y="9394"/>
                  <a:pt x="20861" y="9351"/>
                </a:cubicBezTo>
                <a:cubicBezTo>
                  <a:pt x="20707" y="9212"/>
                  <a:pt x="20634" y="9360"/>
                  <a:pt x="20513" y="9302"/>
                </a:cubicBezTo>
                <a:cubicBezTo>
                  <a:pt x="20443" y="9268"/>
                  <a:pt x="20382" y="9140"/>
                  <a:pt x="20265" y="9103"/>
                </a:cubicBezTo>
                <a:cubicBezTo>
                  <a:pt x="20074" y="9043"/>
                  <a:pt x="19876" y="9194"/>
                  <a:pt x="19720" y="9153"/>
                </a:cubicBezTo>
                <a:cubicBezTo>
                  <a:pt x="19490" y="9093"/>
                  <a:pt x="19460" y="9011"/>
                  <a:pt x="19174" y="9103"/>
                </a:cubicBezTo>
                <a:cubicBezTo>
                  <a:pt x="18982" y="9165"/>
                  <a:pt x="19120" y="9125"/>
                  <a:pt x="19025" y="9103"/>
                </a:cubicBezTo>
                <a:cubicBezTo>
                  <a:pt x="18824" y="9056"/>
                  <a:pt x="18807" y="9050"/>
                  <a:pt x="18579" y="9128"/>
                </a:cubicBezTo>
                <a:cubicBezTo>
                  <a:pt x="18546" y="9136"/>
                  <a:pt x="18512" y="9145"/>
                  <a:pt x="18479" y="9153"/>
                </a:cubicBezTo>
                <a:cubicBezTo>
                  <a:pt x="18469" y="9134"/>
                  <a:pt x="18494" y="9058"/>
                  <a:pt x="18430" y="9004"/>
                </a:cubicBezTo>
                <a:cubicBezTo>
                  <a:pt x="18259" y="8860"/>
                  <a:pt x="18039" y="9109"/>
                  <a:pt x="17909" y="9203"/>
                </a:cubicBezTo>
                <a:cubicBezTo>
                  <a:pt x="17901" y="9211"/>
                  <a:pt x="17892" y="9219"/>
                  <a:pt x="17884" y="9227"/>
                </a:cubicBezTo>
                <a:cubicBezTo>
                  <a:pt x="17879" y="9110"/>
                  <a:pt x="18072" y="9060"/>
                  <a:pt x="17859" y="8979"/>
                </a:cubicBezTo>
                <a:cubicBezTo>
                  <a:pt x="17656" y="8902"/>
                  <a:pt x="17538" y="9253"/>
                  <a:pt x="17487" y="9351"/>
                </a:cubicBezTo>
              </a:path>
              <a:path w="14115" h="2507">
                <a:moveTo>
                  <a:pt x="15726" y="10368"/>
                </a:moveTo>
                <a:cubicBezTo>
                  <a:pt x="15918" y="10368"/>
                  <a:pt x="16106" y="10388"/>
                  <a:pt x="16297" y="10393"/>
                </a:cubicBezTo>
                <a:cubicBezTo>
                  <a:pt x="16322" y="10393"/>
                  <a:pt x="16346" y="10393"/>
                  <a:pt x="16371" y="10393"/>
                </a:cubicBezTo>
              </a:path>
              <a:path w="14115" h="2507">
                <a:moveTo>
                  <a:pt x="16148" y="10319"/>
                </a:moveTo>
                <a:cubicBezTo>
                  <a:pt x="16265" y="10348"/>
                  <a:pt x="16376" y="10374"/>
                  <a:pt x="16495" y="10393"/>
                </a:cubicBezTo>
                <a:cubicBezTo>
                  <a:pt x="16584" y="10407"/>
                  <a:pt x="16354" y="10587"/>
                  <a:pt x="16321" y="10616"/>
                </a:cubicBezTo>
              </a:path>
              <a:path w="14115" h="2507">
                <a:moveTo>
                  <a:pt x="16272" y="10145"/>
                </a:moveTo>
                <a:cubicBezTo>
                  <a:pt x="16336" y="10184"/>
                  <a:pt x="16389" y="10278"/>
                  <a:pt x="16446" y="10344"/>
                </a:cubicBezTo>
                <a:cubicBezTo>
                  <a:pt x="16429" y="10277"/>
                  <a:pt x="16322" y="10149"/>
                  <a:pt x="16272" y="10096"/>
                </a:cubicBezTo>
                <a:cubicBezTo>
                  <a:pt x="16256" y="10079"/>
                  <a:pt x="16221" y="10088"/>
                  <a:pt x="16272" y="10071"/>
                </a:cubicBezTo>
              </a:path>
              <a:path w="14115" h="2507">
                <a:moveTo>
                  <a:pt x="15205" y="10319"/>
                </a:moveTo>
                <a:cubicBezTo>
                  <a:pt x="15205" y="10461"/>
                  <a:pt x="15215" y="10602"/>
                  <a:pt x="15255" y="10740"/>
                </a:cubicBezTo>
                <a:cubicBezTo>
                  <a:pt x="15263" y="10757"/>
                  <a:pt x="15272" y="10773"/>
                  <a:pt x="15280" y="10790"/>
                </a:cubicBezTo>
              </a:path>
              <a:path w="14115" h="2507">
                <a:moveTo>
                  <a:pt x="15056" y="10344"/>
                </a:moveTo>
                <a:cubicBezTo>
                  <a:pt x="15112" y="10270"/>
                  <a:pt x="15213" y="10097"/>
                  <a:pt x="15329" y="10195"/>
                </a:cubicBezTo>
                <a:cubicBezTo>
                  <a:pt x="15405" y="10259"/>
                  <a:pt x="15383" y="10388"/>
                  <a:pt x="15304" y="10418"/>
                </a:cubicBezTo>
                <a:cubicBezTo>
                  <a:pt x="15198" y="10458"/>
                  <a:pt x="15182" y="10472"/>
                  <a:pt x="15205" y="10368"/>
                </a:cubicBezTo>
              </a:path>
              <a:path w="14115" h="2507">
                <a:moveTo>
                  <a:pt x="15478" y="10170"/>
                </a:moveTo>
                <a:cubicBezTo>
                  <a:pt x="15496" y="10135"/>
                  <a:pt x="15522" y="10106"/>
                  <a:pt x="15553" y="10096"/>
                </a:cubicBezTo>
                <a:cubicBezTo>
                  <a:pt x="15533" y="10080"/>
                  <a:pt x="15451" y="9992"/>
                  <a:pt x="15429" y="10021"/>
                </a:cubicBezTo>
                <a:cubicBezTo>
                  <a:pt x="15367" y="10101"/>
                  <a:pt x="15342" y="10268"/>
                  <a:pt x="15453" y="10319"/>
                </a:cubicBezTo>
                <a:cubicBezTo>
                  <a:pt x="15595" y="10384"/>
                  <a:pt x="15670" y="10207"/>
                  <a:pt x="15701" y="10120"/>
                </a:cubicBezTo>
              </a:path>
              <a:path w="14115" h="2507">
                <a:moveTo>
                  <a:pt x="15701" y="9971"/>
                </a:moveTo>
                <a:cubicBezTo>
                  <a:pt x="15720" y="10018"/>
                  <a:pt x="15740" y="10054"/>
                  <a:pt x="15751" y="10096"/>
                </a:cubicBezTo>
                <a:cubicBezTo>
                  <a:pt x="15737" y="10028"/>
                  <a:pt x="15693" y="9918"/>
                  <a:pt x="15726" y="9847"/>
                </a:cubicBezTo>
                <a:cubicBezTo>
                  <a:pt x="15771" y="9748"/>
                  <a:pt x="15829" y="9723"/>
                  <a:pt x="15925" y="9723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77000" y="3473280"/>
            <a:ext cx="884160" cy="536760"/>
          </a:xfrm>
          <a:custGeom>
            <a:avLst/>
            <a:gdLst/>
            <a:ahLst/>
            <a:rect l="l" t="t" r="r" b="b"/>
            <a:pathLst>
              <a:path w="2456" h="1489">
                <a:moveTo>
                  <a:pt x="20166" y="9773"/>
                </a:moveTo>
                <a:cubicBezTo>
                  <a:pt x="20242" y="9762"/>
                  <a:pt x="20315" y="9736"/>
                  <a:pt x="20389" y="9723"/>
                </a:cubicBezTo>
                <a:cubicBezTo>
                  <a:pt x="20302" y="9679"/>
                  <a:pt x="20216" y="9592"/>
                  <a:pt x="20141" y="9748"/>
                </a:cubicBezTo>
                <a:cubicBezTo>
                  <a:pt x="20066" y="9902"/>
                  <a:pt x="20138" y="9926"/>
                  <a:pt x="20241" y="9996"/>
                </a:cubicBezTo>
              </a:path>
              <a:path w="2456" h="1489">
                <a:moveTo>
                  <a:pt x="20662" y="9674"/>
                </a:moveTo>
                <a:cubicBezTo>
                  <a:pt x="20583" y="9674"/>
                  <a:pt x="20554" y="9677"/>
                  <a:pt x="20513" y="9723"/>
                </a:cubicBezTo>
                <a:cubicBezTo>
                  <a:pt x="20551" y="9813"/>
                  <a:pt x="20725" y="9824"/>
                  <a:pt x="20712" y="9971"/>
                </a:cubicBezTo>
                <a:cubicBezTo>
                  <a:pt x="20655" y="10084"/>
                  <a:pt x="20624" y="10122"/>
                  <a:pt x="20513" y="10120"/>
                </a:cubicBezTo>
              </a:path>
              <a:path w="2456" h="1489">
                <a:moveTo>
                  <a:pt x="19149" y="10592"/>
                </a:moveTo>
                <a:cubicBezTo>
                  <a:pt x="19057" y="10476"/>
                  <a:pt x="18901" y="10549"/>
                  <a:pt x="18901" y="10716"/>
                </a:cubicBezTo>
                <a:cubicBezTo>
                  <a:pt x="18918" y="10749"/>
                  <a:pt x="18934" y="10782"/>
                  <a:pt x="18951" y="10815"/>
                </a:cubicBezTo>
                <a:cubicBezTo>
                  <a:pt x="19069" y="10785"/>
                  <a:pt x="19074" y="10722"/>
                  <a:pt x="19149" y="10666"/>
                </a:cubicBezTo>
                <a:cubicBezTo>
                  <a:pt x="19214" y="10821"/>
                  <a:pt x="19364" y="11131"/>
                  <a:pt x="19050" y="11137"/>
                </a:cubicBezTo>
                <a:cubicBezTo>
                  <a:pt x="18905" y="11096"/>
                  <a:pt x="18864" y="11105"/>
                  <a:pt x="18827" y="11013"/>
                </a:cubicBezTo>
              </a:path>
              <a:path w="2456" h="1489">
                <a:moveTo>
                  <a:pt x="19496" y="10567"/>
                </a:moveTo>
                <a:cubicBezTo>
                  <a:pt x="19346" y="10592"/>
                  <a:pt x="19347" y="10660"/>
                  <a:pt x="19323" y="10790"/>
                </a:cubicBezTo>
                <a:cubicBezTo>
                  <a:pt x="19430" y="10768"/>
                  <a:pt x="19497" y="10740"/>
                  <a:pt x="19546" y="10641"/>
                </a:cubicBezTo>
                <a:cubicBezTo>
                  <a:pt x="19566" y="10721"/>
                  <a:pt x="19702" y="10747"/>
                  <a:pt x="19769" y="10691"/>
                </a:cubicBezTo>
                <a:cubicBezTo>
                  <a:pt x="19871" y="10605"/>
                  <a:pt x="19812" y="10448"/>
                  <a:pt x="19794" y="10344"/>
                </a:cubicBezTo>
                <a:cubicBezTo>
                  <a:pt x="19794" y="10459"/>
                  <a:pt x="19813" y="10581"/>
                  <a:pt x="19844" y="10691"/>
                </a:cubicBezTo>
                <a:cubicBezTo>
                  <a:pt x="19872" y="10747"/>
                  <a:pt x="19883" y="10756"/>
                  <a:pt x="19893" y="10666"/>
                </a:cubicBezTo>
              </a:path>
              <a:path w="2456" h="1489">
                <a:moveTo>
                  <a:pt x="19943" y="10319"/>
                </a:moveTo>
                <a:cubicBezTo>
                  <a:pt x="19979" y="10425"/>
                  <a:pt x="20020" y="10559"/>
                  <a:pt x="20067" y="10666"/>
                </a:cubicBezTo>
                <a:cubicBezTo>
                  <a:pt x="20075" y="10674"/>
                  <a:pt x="20084" y="10683"/>
                  <a:pt x="20092" y="10691"/>
                </a:cubicBezTo>
              </a:path>
              <a:path w="2456" h="1489">
                <a:moveTo>
                  <a:pt x="20315" y="10344"/>
                </a:moveTo>
                <a:cubicBezTo>
                  <a:pt x="20238" y="10444"/>
                  <a:pt x="20226" y="10465"/>
                  <a:pt x="20216" y="10592"/>
                </a:cubicBezTo>
                <a:cubicBezTo>
                  <a:pt x="20269" y="10596"/>
                  <a:pt x="20564" y="10540"/>
                  <a:pt x="20414" y="10418"/>
                </a:cubicBezTo>
                <a:cubicBezTo>
                  <a:pt x="20332" y="10397"/>
                  <a:pt x="20316" y="10389"/>
                  <a:pt x="20265" y="10393"/>
                </a:cubicBezTo>
              </a:path>
              <a:path w="2456" h="1489">
                <a:moveTo>
                  <a:pt x="20613" y="10592"/>
                </a:moveTo>
                <a:cubicBezTo>
                  <a:pt x="20646" y="10623"/>
                  <a:pt x="20582" y="10523"/>
                  <a:pt x="20638" y="10418"/>
                </a:cubicBezTo>
                <a:cubicBezTo>
                  <a:pt x="20654" y="10410"/>
                  <a:pt x="20671" y="10401"/>
                  <a:pt x="20687" y="10393"/>
                </a:cubicBezTo>
                <a:cubicBezTo>
                  <a:pt x="20762" y="10452"/>
                  <a:pt x="20776" y="10538"/>
                  <a:pt x="20786" y="10641"/>
                </a:cubicBezTo>
              </a:path>
              <a:path w="2456" h="1489">
                <a:moveTo>
                  <a:pt x="21109" y="10344"/>
                </a:moveTo>
                <a:cubicBezTo>
                  <a:pt x="21079" y="10373"/>
                  <a:pt x="21064" y="10384"/>
                  <a:pt x="21034" y="10393"/>
                </a:cubicBezTo>
                <a:cubicBezTo>
                  <a:pt x="21122" y="10457"/>
                  <a:pt x="21214" y="10488"/>
                  <a:pt x="21282" y="10567"/>
                </a:cubicBezTo>
                <a:cubicBezTo>
                  <a:pt x="21158" y="10646"/>
                  <a:pt x="21148" y="10632"/>
                  <a:pt x="21010" y="10592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73240" y="4170240"/>
            <a:ext cx="331920" cy="608040"/>
          </a:xfrm>
          <a:custGeom>
            <a:avLst/>
            <a:gdLst/>
            <a:ahLst/>
            <a:rect l="l" t="t" r="r" b="b"/>
            <a:pathLst>
              <a:path w="919" h="1688">
                <a:moveTo>
                  <a:pt x="8260" y="13271"/>
                </a:moveTo>
                <a:cubicBezTo>
                  <a:pt x="8374" y="13227"/>
                  <a:pt x="8439" y="13186"/>
                  <a:pt x="8533" y="13097"/>
                </a:cubicBezTo>
                <a:cubicBezTo>
                  <a:pt x="8681" y="12957"/>
                  <a:pt x="8731" y="12872"/>
                  <a:pt x="8781" y="12675"/>
                </a:cubicBezTo>
                <a:cubicBezTo>
                  <a:pt x="8816" y="12535"/>
                  <a:pt x="8850" y="12398"/>
                  <a:pt x="8855" y="12254"/>
                </a:cubicBezTo>
                <a:cubicBezTo>
                  <a:pt x="8858" y="12154"/>
                  <a:pt x="8835" y="12076"/>
                  <a:pt x="8830" y="11981"/>
                </a:cubicBezTo>
                <a:cubicBezTo>
                  <a:pt x="8824" y="11866"/>
                  <a:pt x="8830" y="11749"/>
                  <a:pt x="8830" y="11633"/>
                </a:cubicBezTo>
                <a:cubicBezTo>
                  <a:pt x="8727" y="11675"/>
                  <a:pt x="8639" y="11762"/>
                  <a:pt x="8558" y="11857"/>
                </a:cubicBezTo>
                <a:cubicBezTo>
                  <a:pt x="8518" y="11916"/>
                  <a:pt x="8514" y="11928"/>
                  <a:pt x="8483" y="11956"/>
                </a:cubicBezTo>
                <a:cubicBezTo>
                  <a:pt x="8563" y="11876"/>
                  <a:pt x="8639" y="11788"/>
                  <a:pt x="8706" y="11683"/>
                </a:cubicBezTo>
                <a:cubicBezTo>
                  <a:pt x="8751" y="11613"/>
                  <a:pt x="8756" y="11614"/>
                  <a:pt x="8781" y="11584"/>
                </a:cubicBezTo>
                <a:cubicBezTo>
                  <a:pt x="8880" y="11620"/>
                  <a:pt x="8961" y="11690"/>
                  <a:pt x="9054" y="11757"/>
                </a:cubicBezTo>
                <a:cubicBezTo>
                  <a:pt x="9088" y="11781"/>
                  <a:pt x="9165" y="11814"/>
                  <a:pt x="9178" y="11832"/>
                </a:cubicBezTo>
                <a:cubicBezTo>
                  <a:pt x="9178" y="11840"/>
                  <a:pt x="9178" y="11849"/>
                  <a:pt x="9178" y="1185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62160" y="5545080"/>
            <a:ext cx="2975040" cy="54000"/>
          </a:xfrm>
          <a:custGeom>
            <a:avLst/>
            <a:gdLst/>
            <a:ahLst/>
            <a:rect l="l" t="t" r="r" b="b"/>
            <a:pathLst>
              <a:path w="8261" h="150">
                <a:moveTo>
                  <a:pt x="8533" y="15553"/>
                </a:moveTo>
                <a:cubicBezTo>
                  <a:pt x="8607" y="15550"/>
                  <a:pt x="8632" y="15560"/>
                  <a:pt x="8706" y="15553"/>
                </a:cubicBezTo>
                <a:cubicBezTo>
                  <a:pt x="8988" y="15527"/>
                  <a:pt x="9267" y="15489"/>
                  <a:pt x="9550" y="15478"/>
                </a:cubicBezTo>
                <a:cubicBezTo>
                  <a:pt x="9809" y="15468"/>
                  <a:pt x="10061" y="15445"/>
                  <a:pt x="10319" y="15429"/>
                </a:cubicBezTo>
                <a:cubicBezTo>
                  <a:pt x="10534" y="15416"/>
                  <a:pt x="10747" y="15404"/>
                  <a:pt x="10964" y="15404"/>
                </a:cubicBezTo>
                <a:cubicBezTo>
                  <a:pt x="11305" y="15404"/>
                  <a:pt x="11642" y="15411"/>
                  <a:pt x="11981" y="15429"/>
                </a:cubicBezTo>
                <a:cubicBezTo>
                  <a:pt x="12195" y="15440"/>
                  <a:pt x="12414" y="15445"/>
                  <a:pt x="12626" y="15453"/>
                </a:cubicBezTo>
                <a:cubicBezTo>
                  <a:pt x="12915" y="15464"/>
                  <a:pt x="13206" y="15473"/>
                  <a:pt x="13494" y="15478"/>
                </a:cubicBezTo>
                <a:cubicBezTo>
                  <a:pt x="14547" y="15498"/>
                  <a:pt x="15777" y="15478"/>
                  <a:pt x="16743" y="15478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Objective:  Students will distinguish between rate and unit rate.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write a unit rate, the denominator must be o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you have to divide by to get the denominator to be on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4232160" y="2116080"/>
            <a:ext cx="285840" cy="241200"/>
          </a:xfrm>
          <a:custGeom>
            <a:avLst/>
            <a:gdLst/>
            <a:ahLst/>
            <a:rect l="l" t="t" r="r" b="b"/>
            <a:pathLst>
              <a:path w="795" h="670">
                <a:moveTo>
                  <a:pt x="11782" y="6176"/>
                </a:moveTo>
                <a:cubicBezTo>
                  <a:pt x="11721" y="6157"/>
                  <a:pt x="11793" y="6141"/>
                  <a:pt x="11832" y="6127"/>
                </a:cubicBezTo>
                <a:cubicBezTo>
                  <a:pt x="11907" y="6099"/>
                  <a:pt x="12035" y="6068"/>
                  <a:pt x="12005" y="6201"/>
                </a:cubicBezTo>
                <a:cubicBezTo>
                  <a:pt x="11980" y="6311"/>
                  <a:pt x="11892" y="6413"/>
                  <a:pt x="11881" y="6524"/>
                </a:cubicBezTo>
                <a:cubicBezTo>
                  <a:pt x="11881" y="6532"/>
                  <a:pt x="11881" y="6540"/>
                  <a:pt x="11881" y="6548"/>
                </a:cubicBezTo>
                <a:cubicBezTo>
                  <a:pt x="11976" y="6507"/>
                  <a:pt x="12022" y="6457"/>
                  <a:pt x="12105" y="6400"/>
                </a:cubicBezTo>
                <a:cubicBezTo>
                  <a:pt x="12148" y="6378"/>
                  <a:pt x="12160" y="6374"/>
                  <a:pt x="12179" y="6350"/>
                </a:cubicBezTo>
              </a:path>
              <a:path w="795" h="670">
                <a:moveTo>
                  <a:pt x="12303" y="5953"/>
                </a:moveTo>
                <a:cubicBezTo>
                  <a:pt x="12245" y="5972"/>
                  <a:pt x="12221" y="6101"/>
                  <a:pt x="12229" y="6176"/>
                </a:cubicBezTo>
                <a:cubicBezTo>
                  <a:pt x="12244" y="6314"/>
                  <a:pt x="12393" y="6296"/>
                  <a:pt x="12477" y="6226"/>
                </a:cubicBezTo>
                <a:cubicBezTo>
                  <a:pt x="12577" y="6142"/>
                  <a:pt x="12562" y="6021"/>
                  <a:pt x="12502" y="5928"/>
                </a:cubicBezTo>
                <a:cubicBezTo>
                  <a:pt x="12462" y="5866"/>
                  <a:pt x="12357" y="5857"/>
                  <a:pt x="12303" y="5904"/>
                </a:cubicBezTo>
                <a:cubicBezTo>
                  <a:pt x="12303" y="5928"/>
                  <a:pt x="12303" y="5936"/>
                  <a:pt x="12278" y="5928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98960" y="2268360"/>
            <a:ext cx="3456000" cy="320760"/>
          </a:xfrm>
          <a:custGeom>
            <a:avLst/>
            <a:gdLst/>
            <a:ahLst/>
            <a:rect l="l" t="t" r="r" b="b"/>
            <a:pathLst>
              <a:path w="9601" h="894">
                <a:moveTo>
                  <a:pt x="13419" y="6772"/>
                </a:moveTo>
                <a:lnTo>
                  <a:pt x="13419" y="6772"/>
                </a:lnTo>
                <a:lnTo>
                  <a:pt x="13419" y="6772"/>
                </a:lnTo>
              </a:path>
              <a:path w="9601" h="894">
                <a:moveTo>
                  <a:pt x="13419" y="6772"/>
                </a:moveTo>
                <a:lnTo>
                  <a:pt x="13419" y="6772"/>
                </a:lnTo>
              </a:path>
              <a:path w="9601" h="894">
                <a:moveTo>
                  <a:pt x="13643" y="6548"/>
                </a:moveTo>
                <a:cubicBezTo>
                  <a:pt x="13710" y="6739"/>
                  <a:pt x="13762" y="6943"/>
                  <a:pt x="13791" y="7144"/>
                </a:cubicBezTo>
                <a:cubicBezTo>
                  <a:pt x="13791" y="7160"/>
                  <a:pt x="13791" y="7177"/>
                  <a:pt x="13791" y="7193"/>
                </a:cubicBezTo>
              </a:path>
              <a:path w="9601" h="894">
                <a:moveTo>
                  <a:pt x="11385" y="6300"/>
                </a:moveTo>
                <a:lnTo>
                  <a:pt x="11385" y="6300"/>
                </a:lnTo>
                <a:lnTo>
                  <a:pt x="11385" y="6300"/>
                </a:lnTo>
              </a:path>
              <a:path w="9601" h="894">
                <a:moveTo>
                  <a:pt x="11658" y="6772"/>
                </a:moveTo>
                <a:lnTo>
                  <a:pt x="11658" y="6772"/>
                </a:lnTo>
              </a:path>
              <a:path w="9601" h="894">
                <a:moveTo>
                  <a:pt x="20985" y="6672"/>
                </a:moveTo>
                <a:lnTo>
                  <a:pt x="20985" y="6672"/>
                </a:ln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2200" y="2295360"/>
            <a:ext cx="1760760" cy="392400"/>
          </a:xfrm>
          <a:custGeom>
            <a:avLst/>
            <a:gdLst/>
            <a:ahLst/>
            <a:rect l="l" t="t" r="r" b="b"/>
            <a:pathLst>
              <a:path w="4888" h="1092">
                <a:moveTo>
                  <a:pt x="9897" y="7466"/>
                </a:moveTo>
                <a:cubicBezTo>
                  <a:pt x="10066" y="7453"/>
                  <a:pt x="10225" y="7471"/>
                  <a:pt x="10393" y="7466"/>
                </a:cubicBezTo>
                <a:cubicBezTo>
                  <a:pt x="10623" y="7459"/>
                  <a:pt x="10833" y="7453"/>
                  <a:pt x="11063" y="7466"/>
                </a:cubicBezTo>
                <a:cubicBezTo>
                  <a:pt x="11244" y="7476"/>
                  <a:pt x="11426" y="7441"/>
                  <a:pt x="11609" y="7441"/>
                </a:cubicBezTo>
                <a:cubicBezTo>
                  <a:pt x="11868" y="7441"/>
                  <a:pt x="12123" y="7441"/>
                  <a:pt x="12378" y="7417"/>
                </a:cubicBezTo>
                <a:cubicBezTo>
                  <a:pt x="12436" y="7417"/>
                  <a:pt x="12444" y="7417"/>
                  <a:pt x="12477" y="7417"/>
                </a:cubicBezTo>
              </a:path>
              <a:path w="4888" h="1092">
                <a:moveTo>
                  <a:pt x="10666" y="6672"/>
                </a:moveTo>
                <a:cubicBezTo>
                  <a:pt x="10713" y="6780"/>
                  <a:pt x="10686" y="6831"/>
                  <a:pt x="10616" y="6921"/>
                </a:cubicBezTo>
                <a:cubicBezTo>
                  <a:pt x="10735" y="6934"/>
                  <a:pt x="10945" y="6990"/>
                  <a:pt x="11063" y="6945"/>
                </a:cubicBezTo>
                <a:cubicBezTo>
                  <a:pt x="11071" y="6929"/>
                  <a:pt x="11080" y="6912"/>
                  <a:pt x="11088" y="6896"/>
                </a:cubicBezTo>
              </a:path>
              <a:path w="4888" h="1092">
                <a:moveTo>
                  <a:pt x="11013" y="6449"/>
                </a:moveTo>
                <a:cubicBezTo>
                  <a:pt x="11023" y="6694"/>
                  <a:pt x="11084" y="6949"/>
                  <a:pt x="11063" y="7193"/>
                </a:cubicBezTo>
                <a:cubicBezTo>
                  <a:pt x="11043" y="7271"/>
                  <a:pt x="11019" y="7320"/>
                  <a:pt x="11063" y="7268"/>
                </a:cubicBezTo>
              </a:path>
              <a:path w="4888" h="1092">
                <a:moveTo>
                  <a:pt x="12502" y="6970"/>
                </a:moveTo>
                <a:cubicBezTo>
                  <a:pt x="12526" y="7094"/>
                  <a:pt x="12534" y="7135"/>
                  <a:pt x="12551" y="7218"/>
                </a:cubicBezTo>
                <a:cubicBezTo>
                  <a:pt x="12594" y="7390"/>
                  <a:pt x="12550" y="7128"/>
                  <a:pt x="12576" y="7045"/>
                </a:cubicBezTo>
                <a:cubicBezTo>
                  <a:pt x="12593" y="7012"/>
                  <a:pt x="12609" y="6978"/>
                  <a:pt x="12626" y="6945"/>
                </a:cubicBezTo>
                <a:cubicBezTo>
                  <a:pt x="12790" y="6974"/>
                  <a:pt x="12792" y="7107"/>
                  <a:pt x="12874" y="7268"/>
                </a:cubicBezTo>
                <a:cubicBezTo>
                  <a:pt x="12874" y="7260"/>
                  <a:pt x="12874" y="7251"/>
                  <a:pt x="12874" y="7243"/>
                </a:cubicBezTo>
                <a:cubicBezTo>
                  <a:pt x="12859" y="7175"/>
                  <a:pt x="12792" y="6947"/>
                  <a:pt x="12948" y="6970"/>
                </a:cubicBezTo>
                <a:cubicBezTo>
                  <a:pt x="13131" y="6996"/>
                  <a:pt x="13184" y="7190"/>
                  <a:pt x="13196" y="7342"/>
                </a:cubicBezTo>
                <a:cubicBezTo>
                  <a:pt x="13196" y="7359"/>
                  <a:pt x="13196" y="7375"/>
                  <a:pt x="13196" y="7392"/>
                </a:cubicBezTo>
              </a:path>
              <a:path w="4888" h="1092">
                <a:moveTo>
                  <a:pt x="13370" y="7045"/>
                </a:moveTo>
                <a:cubicBezTo>
                  <a:pt x="13409" y="7131"/>
                  <a:pt x="13443" y="7372"/>
                  <a:pt x="13469" y="7218"/>
                </a:cubicBezTo>
              </a:path>
              <a:path w="4888" h="1092">
                <a:moveTo>
                  <a:pt x="13915" y="7020"/>
                </a:moveTo>
                <a:cubicBezTo>
                  <a:pt x="14000" y="7020"/>
                  <a:pt x="14144" y="7040"/>
                  <a:pt x="14188" y="6995"/>
                </a:cubicBezTo>
                <a:cubicBezTo>
                  <a:pt x="14140" y="6909"/>
                  <a:pt x="14054" y="6863"/>
                  <a:pt x="13990" y="6995"/>
                </a:cubicBezTo>
                <a:cubicBezTo>
                  <a:pt x="13876" y="7230"/>
                  <a:pt x="14170" y="7178"/>
                  <a:pt x="14288" y="7169"/>
                </a:cubicBezTo>
              </a:path>
              <a:path w="4888" h="1092">
                <a:moveTo>
                  <a:pt x="14660" y="6846"/>
                </a:moveTo>
                <a:cubicBezTo>
                  <a:pt x="14580" y="6858"/>
                  <a:pt x="14485" y="6853"/>
                  <a:pt x="14461" y="6945"/>
                </a:cubicBezTo>
                <a:cubicBezTo>
                  <a:pt x="14604" y="6981"/>
                  <a:pt x="14678" y="7046"/>
                  <a:pt x="14784" y="7144"/>
                </a:cubicBezTo>
                <a:cubicBezTo>
                  <a:pt x="14684" y="7234"/>
                  <a:pt x="14653" y="7235"/>
                  <a:pt x="14511" y="7243"/>
                </a:cubicBezTo>
              </a:path>
              <a:path w="4888" h="1092">
                <a:moveTo>
                  <a:pt x="11311" y="6623"/>
                </a:moveTo>
                <a:cubicBezTo>
                  <a:pt x="11398" y="6608"/>
                  <a:pt x="11438" y="6568"/>
                  <a:pt x="11509" y="6524"/>
                </a:cubicBezTo>
                <a:cubicBezTo>
                  <a:pt x="11544" y="6502"/>
                  <a:pt x="11637" y="6482"/>
                  <a:pt x="11633" y="6424"/>
                </a:cubicBezTo>
                <a:cubicBezTo>
                  <a:pt x="11625" y="6408"/>
                  <a:pt x="11617" y="6391"/>
                  <a:pt x="11609" y="6375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19880" y="2374920"/>
            <a:ext cx="554040" cy="277920"/>
          </a:xfrm>
          <a:custGeom>
            <a:avLst/>
            <a:gdLst/>
            <a:ahLst/>
            <a:rect l="l" t="t" r="r" b="b"/>
            <a:pathLst>
              <a:path w="1538" h="770">
                <a:moveTo>
                  <a:pt x="18380" y="6672"/>
                </a:moveTo>
                <a:cubicBezTo>
                  <a:pt x="18362" y="6620"/>
                  <a:pt x="18283" y="6577"/>
                  <a:pt x="18207" y="6598"/>
                </a:cubicBezTo>
                <a:cubicBezTo>
                  <a:pt x="18014" y="6652"/>
                  <a:pt x="17860" y="6996"/>
                  <a:pt x="17835" y="7169"/>
                </a:cubicBezTo>
                <a:cubicBezTo>
                  <a:pt x="17843" y="7210"/>
                  <a:pt x="17851" y="7252"/>
                  <a:pt x="17859" y="7293"/>
                </a:cubicBezTo>
                <a:cubicBezTo>
                  <a:pt x="18075" y="7388"/>
                  <a:pt x="18246" y="7354"/>
                  <a:pt x="18380" y="7119"/>
                </a:cubicBezTo>
                <a:cubicBezTo>
                  <a:pt x="18477" y="6949"/>
                  <a:pt x="18414" y="6770"/>
                  <a:pt x="18256" y="6672"/>
                </a:cubicBezTo>
                <a:cubicBezTo>
                  <a:pt x="18199" y="6653"/>
                  <a:pt x="18192" y="6645"/>
                  <a:pt x="18157" y="6648"/>
                </a:cubicBezTo>
              </a:path>
              <a:path w="1538" h="770">
                <a:moveTo>
                  <a:pt x="18628" y="7119"/>
                </a:moveTo>
                <a:cubicBezTo>
                  <a:pt x="18628" y="7111"/>
                  <a:pt x="18628" y="7102"/>
                  <a:pt x="18628" y="7094"/>
                </a:cubicBezTo>
                <a:cubicBezTo>
                  <a:pt x="18647" y="7094"/>
                  <a:pt x="18634" y="7163"/>
                  <a:pt x="18653" y="7144"/>
                </a:cubicBezTo>
                <a:cubicBezTo>
                  <a:pt x="18693" y="7104"/>
                  <a:pt x="18574" y="7129"/>
                  <a:pt x="18579" y="7144"/>
                </a:cubicBezTo>
                <a:cubicBezTo>
                  <a:pt x="18600" y="7207"/>
                  <a:pt x="18664" y="7158"/>
                  <a:pt x="18678" y="7144"/>
                </a:cubicBezTo>
                <a:cubicBezTo>
                  <a:pt x="18633" y="7133"/>
                  <a:pt x="18644" y="7112"/>
                  <a:pt x="18628" y="7144"/>
                </a:cubicBezTo>
              </a:path>
              <a:path w="1538" h="770">
                <a:moveTo>
                  <a:pt x="19050" y="6747"/>
                </a:moveTo>
                <a:cubicBezTo>
                  <a:pt x="19000" y="6730"/>
                  <a:pt x="19035" y="6680"/>
                  <a:pt x="19075" y="6648"/>
                </a:cubicBezTo>
                <a:cubicBezTo>
                  <a:pt x="19123" y="6610"/>
                  <a:pt x="19216" y="6561"/>
                  <a:pt x="19273" y="6623"/>
                </a:cubicBezTo>
                <a:cubicBezTo>
                  <a:pt x="19317" y="6671"/>
                  <a:pt x="19344" y="6699"/>
                  <a:pt x="19348" y="6772"/>
                </a:cubicBezTo>
                <a:cubicBezTo>
                  <a:pt x="19353" y="6867"/>
                  <a:pt x="19272" y="6865"/>
                  <a:pt x="19199" y="6896"/>
                </a:cubicBezTo>
                <a:cubicBezTo>
                  <a:pt x="19123" y="6929"/>
                  <a:pt x="19058" y="6962"/>
                  <a:pt x="19025" y="7045"/>
                </a:cubicBezTo>
                <a:cubicBezTo>
                  <a:pt x="19001" y="7106"/>
                  <a:pt x="19000" y="7137"/>
                  <a:pt x="19000" y="7193"/>
                </a:cubicBezTo>
                <a:cubicBezTo>
                  <a:pt x="19000" y="7118"/>
                  <a:pt x="19023" y="7115"/>
                  <a:pt x="19075" y="7069"/>
                </a:cubicBezTo>
                <a:cubicBezTo>
                  <a:pt x="19166" y="6988"/>
                  <a:pt x="19159" y="7033"/>
                  <a:pt x="19224" y="7119"/>
                </a:cubicBezTo>
                <a:cubicBezTo>
                  <a:pt x="19261" y="7168"/>
                  <a:pt x="19318" y="7198"/>
                  <a:pt x="19372" y="7144"/>
                </a:cubicBezTo>
                <a:cubicBezTo>
                  <a:pt x="19372" y="7136"/>
                  <a:pt x="19372" y="7127"/>
                  <a:pt x="19372" y="7119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32760" y="2330280"/>
            <a:ext cx="812520" cy="258840"/>
          </a:xfrm>
          <a:custGeom>
            <a:avLst/>
            <a:gdLst/>
            <a:ahLst/>
            <a:rect l="l" t="t" r="r" b="b"/>
            <a:pathLst>
              <a:path w="2258" h="720">
                <a:moveTo>
                  <a:pt x="20092" y="7045"/>
                </a:moveTo>
                <a:cubicBezTo>
                  <a:pt x="20139" y="7116"/>
                  <a:pt x="20154" y="7137"/>
                  <a:pt x="20166" y="7193"/>
                </a:cubicBezTo>
                <a:cubicBezTo>
                  <a:pt x="20155" y="7117"/>
                  <a:pt x="20111" y="6984"/>
                  <a:pt x="20191" y="6921"/>
                </a:cubicBezTo>
                <a:cubicBezTo>
                  <a:pt x="20299" y="6836"/>
                  <a:pt x="20440" y="6981"/>
                  <a:pt x="20513" y="7045"/>
                </a:cubicBezTo>
                <a:cubicBezTo>
                  <a:pt x="20513" y="7109"/>
                  <a:pt x="20488" y="6929"/>
                  <a:pt x="20489" y="6921"/>
                </a:cubicBezTo>
                <a:cubicBezTo>
                  <a:pt x="20519" y="6745"/>
                  <a:pt x="20715" y="6853"/>
                  <a:pt x="20786" y="6921"/>
                </a:cubicBezTo>
                <a:cubicBezTo>
                  <a:pt x="20854" y="6986"/>
                  <a:pt x="20872" y="7035"/>
                  <a:pt x="20886" y="7119"/>
                </a:cubicBezTo>
              </a:path>
              <a:path w="2258" h="720">
                <a:moveTo>
                  <a:pt x="21034" y="6970"/>
                </a:moveTo>
                <a:cubicBezTo>
                  <a:pt x="21045" y="6994"/>
                  <a:pt x="21084" y="7127"/>
                  <a:pt x="21084" y="7069"/>
                </a:cubicBezTo>
              </a:path>
              <a:path w="2258" h="720">
                <a:moveTo>
                  <a:pt x="20985" y="6722"/>
                </a:moveTo>
                <a:cubicBezTo>
                  <a:pt x="20985" y="6697"/>
                  <a:pt x="20985" y="6689"/>
                  <a:pt x="20985" y="6672"/>
                </a:cubicBezTo>
              </a:path>
              <a:path w="2258" h="720">
                <a:moveTo>
                  <a:pt x="21258" y="6474"/>
                </a:moveTo>
                <a:cubicBezTo>
                  <a:pt x="21295" y="6644"/>
                  <a:pt x="21373" y="6805"/>
                  <a:pt x="21431" y="6970"/>
                </a:cubicBezTo>
                <a:cubicBezTo>
                  <a:pt x="21441" y="7000"/>
                  <a:pt x="21481" y="7097"/>
                  <a:pt x="21481" y="7045"/>
                </a:cubicBezTo>
              </a:path>
              <a:path w="2258" h="720">
                <a:moveTo>
                  <a:pt x="21630" y="6871"/>
                </a:moveTo>
                <a:cubicBezTo>
                  <a:pt x="21708" y="6871"/>
                  <a:pt x="21755" y="6842"/>
                  <a:pt x="21828" y="6821"/>
                </a:cubicBezTo>
                <a:cubicBezTo>
                  <a:pt x="21836" y="6821"/>
                  <a:pt x="21845" y="6821"/>
                  <a:pt x="21853" y="6821"/>
                </a:cubicBezTo>
                <a:cubicBezTo>
                  <a:pt x="21837" y="6790"/>
                  <a:pt x="21760" y="6697"/>
                  <a:pt x="21704" y="6722"/>
                </a:cubicBezTo>
                <a:cubicBezTo>
                  <a:pt x="21587" y="6774"/>
                  <a:pt x="21623" y="6979"/>
                  <a:pt x="21704" y="7045"/>
                </a:cubicBezTo>
                <a:cubicBezTo>
                  <a:pt x="21786" y="7071"/>
                  <a:pt x="21819" y="7078"/>
                  <a:pt x="21878" y="7045"/>
                </a:cubicBezTo>
              </a:path>
              <a:path w="2258" h="720">
                <a:moveTo>
                  <a:pt x="22126" y="6672"/>
                </a:moveTo>
                <a:cubicBezTo>
                  <a:pt x="22078" y="6706"/>
                  <a:pt x="22063" y="6725"/>
                  <a:pt x="22027" y="6772"/>
                </a:cubicBezTo>
                <a:cubicBezTo>
                  <a:pt x="22103" y="6797"/>
                  <a:pt x="22364" y="6795"/>
                  <a:pt x="22349" y="6921"/>
                </a:cubicBezTo>
                <a:cubicBezTo>
                  <a:pt x="22335" y="7033"/>
                  <a:pt x="22150" y="7029"/>
                  <a:pt x="22076" y="7045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089240" y="2768760"/>
            <a:ext cx="3241800" cy="463320"/>
          </a:xfrm>
          <a:custGeom>
            <a:avLst/>
            <a:gdLst/>
            <a:ahLst/>
            <a:rect l="l" t="t" r="r" b="b"/>
            <a:pathLst>
              <a:path w="9005" h="1291">
                <a:moveTo>
                  <a:pt x="13419" y="7863"/>
                </a:moveTo>
                <a:cubicBezTo>
                  <a:pt x="13419" y="7855"/>
                  <a:pt x="13419" y="7846"/>
                  <a:pt x="13419" y="7838"/>
                </a:cubicBezTo>
              </a:path>
              <a:path w="9005" h="1291">
                <a:moveTo>
                  <a:pt x="13419" y="7838"/>
                </a:moveTo>
                <a:lnTo>
                  <a:pt x="13419" y="7838"/>
                </a:lnTo>
              </a:path>
              <a:path w="9005" h="1291">
                <a:moveTo>
                  <a:pt x="20340" y="7689"/>
                </a:moveTo>
                <a:cubicBezTo>
                  <a:pt x="20348" y="7689"/>
                  <a:pt x="20357" y="7689"/>
                  <a:pt x="20365" y="7689"/>
                </a:cubicBezTo>
              </a:path>
              <a:path w="9005" h="1291">
                <a:moveTo>
                  <a:pt x="11410" y="8409"/>
                </a:moveTo>
                <a:cubicBezTo>
                  <a:pt x="11402" y="8417"/>
                  <a:pt x="11393" y="8426"/>
                  <a:pt x="11385" y="8434"/>
                </a:cubicBezTo>
              </a:path>
              <a:path w="9005" h="1291">
                <a:moveTo>
                  <a:pt x="11385" y="8954"/>
                </a:moveTo>
                <a:cubicBezTo>
                  <a:pt x="11377" y="8962"/>
                  <a:pt x="11369" y="8971"/>
                  <a:pt x="11361" y="8979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43200" y="2830680"/>
            <a:ext cx="517680" cy="304560"/>
          </a:xfrm>
          <a:custGeom>
            <a:avLst/>
            <a:gdLst/>
            <a:ahLst/>
            <a:rect l="l" t="t" r="r" b="b"/>
            <a:pathLst>
              <a:path w="1440" h="844">
                <a:moveTo>
                  <a:pt x="10418" y="7888"/>
                </a:moveTo>
                <a:cubicBezTo>
                  <a:pt x="10367" y="7888"/>
                  <a:pt x="10505" y="7849"/>
                  <a:pt x="10542" y="7888"/>
                </a:cubicBezTo>
                <a:cubicBezTo>
                  <a:pt x="10680" y="8032"/>
                  <a:pt x="10560" y="8253"/>
                  <a:pt x="10418" y="8334"/>
                </a:cubicBezTo>
                <a:cubicBezTo>
                  <a:pt x="10308" y="8397"/>
                  <a:pt x="10217" y="8351"/>
                  <a:pt x="10120" y="8310"/>
                </a:cubicBezTo>
                <a:cubicBezTo>
                  <a:pt x="10138" y="8184"/>
                  <a:pt x="10272" y="8166"/>
                  <a:pt x="10393" y="8186"/>
                </a:cubicBezTo>
                <a:cubicBezTo>
                  <a:pt x="10513" y="8206"/>
                  <a:pt x="10549" y="8294"/>
                  <a:pt x="10641" y="8334"/>
                </a:cubicBezTo>
                <a:cubicBezTo>
                  <a:pt x="10649" y="8334"/>
                  <a:pt x="10658" y="8334"/>
                  <a:pt x="10666" y="8334"/>
                </a:cubicBezTo>
              </a:path>
              <a:path w="1440" h="844">
                <a:moveTo>
                  <a:pt x="11038" y="7913"/>
                </a:moveTo>
                <a:cubicBezTo>
                  <a:pt x="10853" y="7897"/>
                  <a:pt x="10794" y="8043"/>
                  <a:pt x="10790" y="8235"/>
                </a:cubicBezTo>
                <a:cubicBezTo>
                  <a:pt x="10813" y="8347"/>
                  <a:pt x="10811" y="8381"/>
                  <a:pt x="10889" y="8409"/>
                </a:cubicBezTo>
                <a:cubicBezTo>
                  <a:pt x="11074" y="8374"/>
                  <a:pt x="11281" y="8310"/>
                  <a:pt x="11237" y="8062"/>
                </a:cubicBezTo>
                <a:cubicBezTo>
                  <a:pt x="11210" y="7909"/>
                  <a:pt x="11101" y="7898"/>
                  <a:pt x="10988" y="7913"/>
                </a:cubicBezTo>
                <a:cubicBezTo>
                  <a:pt x="10980" y="7913"/>
                  <a:pt x="10972" y="7913"/>
                  <a:pt x="10964" y="7913"/>
                </a:cubicBezTo>
              </a:path>
              <a:path w="1440" h="844">
                <a:moveTo>
                  <a:pt x="11286" y="8582"/>
                </a:moveTo>
                <a:cubicBezTo>
                  <a:pt x="11363" y="8644"/>
                  <a:pt x="11431" y="8697"/>
                  <a:pt x="11534" y="8706"/>
                </a:cubicBezTo>
                <a:cubicBezTo>
                  <a:pt x="11542" y="8706"/>
                  <a:pt x="11551" y="8706"/>
                  <a:pt x="11559" y="870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37080" y="2741760"/>
            <a:ext cx="1187280" cy="258480"/>
          </a:xfrm>
          <a:custGeom>
            <a:avLst/>
            <a:gdLst/>
            <a:ahLst/>
            <a:rect l="l" t="t" r="r" b="b"/>
            <a:pathLst>
              <a:path w="3300" h="720">
                <a:moveTo>
                  <a:pt x="12601" y="8062"/>
                </a:moveTo>
                <a:cubicBezTo>
                  <a:pt x="12601" y="8157"/>
                  <a:pt x="12617" y="8241"/>
                  <a:pt x="12626" y="8334"/>
                </a:cubicBezTo>
                <a:cubicBezTo>
                  <a:pt x="12611" y="8231"/>
                  <a:pt x="12597" y="8064"/>
                  <a:pt x="12700" y="7987"/>
                </a:cubicBezTo>
                <a:cubicBezTo>
                  <a:pt x="12817" y="7900"/>
                  <a:pt x="12897" y="8161"/>
                  <a:pt x="12923" y="8210"/>
                </a:cubicBezTo>
                <a:cubicBezTo>
                  <a:pt x="12931" y="8227"/>
                  <a:pt x="12940" y="8243"/>
                  <a:pt x="12948" y="8260"/>
                </a:cubicBezTo>
                <a:cubicBezTo>
                  <a:pt x="12926" y="8152"/>
                  <a:pt x="12878" y="8047"/>
                  <a:pt x="12998" y="7962"/>
                </a:cubicBezTo>
                <a:cubicBezTo>
                  <a:pt x="13133" y="7866"/>
                  <a:pt x="13254" y="8185"/>
                  <a:pt x="13271" y="8260"/>
                </a:cubicBezTo>
                <a:cubicBezTo>
                  <a:pt x="13271" y="8302"/>
                  <a:pt x="13271" y="8327"/>
                  <a:pt x="13271" y="8285"/>
                </a:cubicBezTo>
              </a:path>
              <a:path w="3300" h="720">
                <a:moveTo>
                  <a:pt x="13395" y="8012"/>
                </a:moveTo>
                <a:cubicBezTo>
                  <a:pt x="13424" y="8112"/>
                  <a:pt x="13474" y="8212"/>
                  <a:pt x="13494" y="8310"/>
                </a:cubicBezTo>
              </a:path>
              <a:path w="3300" h="720">
                <a:moveTo>
                  <a:pt x="13692" y="8086"/>
                </a:moveTo>
                <a:cubicBezTo>
                  <a:pt x="13713" y="8192"/>
                  <a:pt x="13709" y="8220"/>
                  <a:pt x="13767" y="8260"/>
                </a:cubicBezTo>
                <a:cubicBezTo>
                  <a:pt x="13747" y="8138"/>
                  <a:pt x="13746" y="8073"/>
                  <a:pt x="13816" y="7962"/>
                </a:cubicBezTo>
                <a:cubicBezTo>
                  <a:pt x="13916" y="7804"/>
                  <a:pt x="14095" y="8123"/>
                  <a:pt x="14114" y="8186"/>
                </a:cubicBezTo>
                <a:cubicBezTo>
                  <a:pt x="14114" y="8244"/>
                  <a:pt x="14130" y="8268"/>
                  <a:pt x="14089" y="8260"/>
                </a:cubicBezTo>
              </a:path>
              <a:path w="3300" h="720">
                <a:moveTo>
                  <a:pt x="14238" y="7913"/>
                </a:moveTo>
                <a:cubicBezTo>
                  <a:pt x="14238" y="8013"/>
                  <a:pt x="14245" y="8128"/>
                  <a:pt x="14312" y="8210"/>
                </a:cubicBezTo>
                <a:cubicBezTo>
                  <a:pt x="14439" y="8366"/>
                  <a:pt x="14545" y="8136"/>
                  <a:pt x="14560" y="8037"/>
                </a:cubicBezTo>
                <a:cubicBezTo>
                  <a:pt x="14560" y="8004"/>
                  <a:pt x="14560" y="7971"/>
                  <a:pt x="14560" y="7938"/>
                </a:cubicBezTo>
                <a:cubicBezTo>
                  <a:pt x="14570" y="8009"/>
                  <a:pt x="14579" y="8227"/>
                  <a:pt x="14660" y="8260"/>
                </a:cubicBezTo>
                <a:cubicBezTo>
                  <a:pt x="14685" y="8252"/>
                  <a:pt x="14709" y="8243"/>
                  <a:pt x="14734" y="8235"/>
                </a:cubicBezTo>
              </a:path>
              <a:path w="3300" h="720">
                <a:moveTo>
                  <a:pt x="14759" y="7615"/>
                </a:moveTo>
                <a:cubicBezTo>
                  <a:pt x="14759" y="7791"/>
                  <a:pt x="14801" y="7963"/>
                  <a:pt x="14833" y="8136"/>
                </a:cubicBezTo>
                <a:cubicBezTo>
                  <a:pt x="14851" y="8227"/>
                  <a:pt x="14860" y="8234"/>
                  <a:pt x="14858" y="8285"/>
                </a:cubicBezTo>
              </a:path>
              <a:path w="3300" h="720">
                <a:moveTo>
                  <a:pt x="14585" y="7913"/>
                </a:moveTo>
                <a:cubicBezTo>
                  <a:pt x="14750" y="7913"/>
                  <a:pt x="14916" y="7913"/>
                  <a:pt x="15081" y="7913"/>
                </a:cubicBezTo>
              </a:path>
              <a:path w="3300" h="720">
                <a:moveTo>
                  <a:pt x="15180" y="7962"/>
                </a:moveTo>
                <a:cubicBezTo>
                  <a:pt x="15245" y="7972"/>
                  <a:pt x="15355" y="8008"/>
                  <a:pt x="15379" y="7938"/>
                </a:cubicBezTo>
                <a:cubicBezTo>
                  <a:pt x="15371" y="7890"/>
                  <a:pt x="15284" y="7785"/>
                  <a:pt x="15205" y="7838"/>
                </a:cubicBezTo>
                <a:cubicBezTo>
                  <a:pt x="15050" y="7942"/>
                  <a:pt x="15089" y="8154"/>
                  <a:pt x="15230" y="8235"/>
                </a:cubicBezTo>
                <a:cubicBezTo>
                  <a:pt x="15339" y="8263"/>
                  <a:pt x="15382" y="8267"/>
                  <a:pt x="15453" y="8210"/>
                </a:cubicBezTo>
              </a:path>
              <a:path w="3300" h="720">
                <a:moveTo>
                  <a:pt x="15701" y="7888"/>
                </a:moveTo>
                <a:cubicBezTo>
                  <a:pt x="15640" y="7910"/>
                  <a:pt x="15602" y="7923"/>
                  <a:pt x="15553" y="7962"/>
                </a:cubicBezTo>
                <a:cubicBezTo>
                  <a:pt x="15632" y="7978"/>
                  <a:pt x="15790" y="8038"/>
                  <a:pt x="15850" y="8086"/>
                </a:cubicBezTo>
                <a:cubicBezTo>
                  <a:pt x="15992" y="8198"/>
                  <a:pt x="15833" y="8271"/>
                  <a:pt x="15726" y="8260"/>
                </a:cubicBezTo>
                <a:cubicBezTo>
                  <a:pt x="15701" y="8252"/>
                  <a:pt x="15677" y="8243"/>
                  <a:pt x="15652" y="8235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91160" y="2643120"/>
            <a:ext cx="1679760" cy="330120"/>
          </a:xfrm>
          <a:custGeom>
            <a:avLst/>
            <a:gdLst/>
            <a:ahLst/>
            <a:rect l="l" t="t" r="r" b="b"/>
            <a:pathLst>
              <a:path w="4664" h="919">
                <a:moveTo>
                  <a:pt x="18033" y="7417"/>
                </a:moveTo>
                <a:cubicBezTo>
                  <a:pt x="18316" y="7417"/>
                  <a:pt x="18595" y="7405"/>
                  <a:pt x="18876" y="7392"/>
                </a:cubicBezTo>
                <a:cubicBezTo>
                  <a:pt x="19076" y="7383"/>
                  <a:pt x="19272" y="7367"/>
                  <a:pt x="19472" y="7367"/>
                </a:cubicBezTo>
                <a:cubicBezTo>
                  <a:pt x="19567" y="7367"/>
                  <a:pt x="19652" y="7347"/>
                  <a:pt x="19745" y="7342"/>
                </a:cubicBezTo>
                <a:cubicBezTo>
                  <a:pt x="19753" y="7342"/>
                  <a:pt x="19761" y="7342"/>
                  <a:pt x="19769" y="7342"/>
                </a:cubicBezTo>
              </a:path>
              <a:path w="4664" h="919">
                <a:moveTo>
                  <a:pt x="18430" y="7640"/>
                </a:moveTo>
                <a:cubicBezTo>
                  <a:pt x="18430" y="7522"/>
                  <a:pt x="18461" y="7822"/>
                  <a:pt x="18479" y="7938"/>
                </a:cubicBezTo>
                <a:cubicBezTo>
                  <a:pt x="18503" y="8078"/>
                  <a:pt x="18509" y="8120"/>
                  <a:pt x="18529" y="8210"/>
                </a:cubicBezTo>
              </a:path>
              <a:path w="4664" h="919">
                <a:moveTo>
                  <a:pt x="19447" y="7987"/>
                </a:moveTo>
                <a:cubicBezTo>
                  <a:pt x="19378" y="8010"/>
                  <a:pt x="19457" y="8171"/>
                  <a:pt x="19472" y="8235"/>
                </a:cubicBezTo>
                <a:cubicBezTo>
                  <a:pt x="19452" y="8113"/>
                  <a:pt x="19451" y="8049"/>
                  <a:pt x="19521" y="7938"/>
                </a:cubicBezTo>
                <a:cubicBezTo>
                  <a:pt x="19591" y="7826"/>
                  <a:pt x="19760" y="8094"/>
                  <a:pt x="19794" y="8136"/>
                </a:cubicBezTo>
                <a:cubicBezTo>
                  <a:pt x="19794" y="8153"/>
                  <a:pt x="19794" y="8169"/>
                  <a:pt x="19794" y="8186"/>
                </a:cubicBezTo>
                <a:cubicBezTo>
                  <a:pt x="19794" y="8066"/>
                  <a:pt x="19759" y="7953"/>
                  <a:pt x="19893" y="7913"/>
                </a:cubicBezTo>
                <a:cubicBezTo>
                  <a:pt x="20027" y="7873"/>
                  <a:pt x="20079" y="8046"/>
                  <a:pt x="20117" y="8136"/>
                </a:cubicBezTo>
                <a:cubicBezTo>
                  <a:pt x="20138" y="8201"/>
                  <a:pt x="20146" y="8217"/>
                  <a:pt x="20141" y="8260"/>
                </a:cubicBezTo>
              </a:path>
              <a:path w="4664" h="919">
                <a:moveTo>
                  <a:pt x="20315" y="7938"/>
                </a:moveTo>
                <a:cubicBezTo>
                  <a:pt x="20358" y="7909"/>
                  <a:pt x="20392" y="8046"/>
                  <a:pt x="20414" y="8111"/>
                </a:cubicBezTo>
                <a:cubicBezTo>
                  <a:pt x="20447" y="8207"/>
                  <a:pt x="20529" y="8304"/>
                  <a:pt x="20662" y="8210"/>
                </a:cubicBezTo>
                <a:cubicBezTo>
                  <a:pt x="20687" y="8177"/>
                  <a:pt x="20712" y="8144"/>
                  <a:pt x="20737" y="8111"/>
                </a:cubicBezTo>
              </a:path>
              <a:path w="4664" h="919">
                <a:moveTo>
                  <a:pt x="20687" y="7913"/>
                </a:moveTo>
                <a:cubicBezTo>
                  <a:pt x="20702" y="8004"/>
                  <a:pt x="20728" y="8092"/>
                  <a:pt x="20737" y="8186"/>
                </a:cubicBezTo>
                <a:cubicBezTo>
                  <a:pt x="20737" y="8098"/>
                  <a:pt x="20731" y="7974"/>
                  <a:pt x="20811" y="7913"/>
                </a:cubicBezTo>
                <a:cubicBezTo>
                  <a:pt x="20921" y="7829"/>
                  <a:pt x="20966" y="8038"/>
                  <a:pt x="20985" y="8086"/>
                </a:cubicBezTo>
                <a:cubicBezTo>
                  <a:pt x="21009" y="8134"/>
                  <a:pt x="21017" y="8149"/>
                  <a:pt x="21010" y="8186"/>
                </a:cubicBezTo>
              </a:path>
              <a:path w="4664" h="919">
                <a:moveTo>
                  <a:pt x="21134" y="7863"/>
                </a:moveTo>
                <a:cubicBezTo>
                  <a:pt x="21134" y="7820"/>
                  <a:pt x="21196" y="8020"/>
                  <a:pt x="21208" y="8062"/>
                </a:cubicBezTo>
                <a:cubicBezTo>
                  <a:pt x="21227" y="8136"/>
                  <a:pt x="21209" y="8169"/>
                  <a:pt x="21258" y="8161"/>
                </a:cubicBezTo>
                <a:cubicBezTo>
                  <a:pt x="21445" y="8132"/>
                  <a:pt x="21465" y="8092"/>
                  <a:pt x="21456" y="7913"/>
                </a:cubicBezTo>
                <a:cubicBezTo>
                  <a:pt x="21456" y="7905"/>
                  <a:pt x="21456" y="7896"/>
                  <a:pt x="21456" y="7888"/>
                </a:cubicBezTo>
                <a:cubicBezTo>
                  <a:pt x="21462" y="7982"/>
                  <a:pt x="21444" y="8215"/>
                  <a:pt x="21580" y="8210"/>
                </a:cubicBezTo>
                <a:cubicBezTo>
                  <a:pt x="21605" y="8202"/>
                  <a:pt x="21629" y="8194"/>
                  <a:pt x="21654" y="8186"/>
                </a:cubicBezTo>
              </a:path>
              <a:path w="4664" h="919">
                <a:moveTo>
                  <a:pt x="21828" y="7491"/>
                </a:moveTo>
                <a:cubicBezTo>
                  <a:pt x="21852" y="7659"/>
                  <a:pt x="21917" y="7820"/>
                  <a:pt x="21952" y="7987"/>
                </a:cubicBezTo>
                <a:cubicBezTo>
                  <a:pt x="21972" y="8083"/>
                  <a:pt x="21985" y="8095"/>
                  <a:pt x="22002" y="8161"/>
                </a:cubicBezTo>
              </a:path>
              <a:path w="4664" h="919">
                <a:moveTo>
                  <a:pt x="21704" y="7863"/>
                </a:moveTo>
                <a:cubicBezTo>
                  <a:pt x="21831" y="7850"/>
                  <a:pt x="22029" y="7798"/>
                  <a:pt x="22151" y="7813"/>
                </a:cubicBezTo>
                <a:cubicBezTo>
                  <a:pt x="22151" y="7821"/>
                  <a:pt x="22151" y="7830"/>
                  <a:pt x="22151" y="7838"/>
                </a:cubicBezTo>
              </a:path>
              <a:path w="4664" h="919">
                <a:moveTo>
                  <a:pt x="22349" y="7888"/>
                </a:moveTo>
                <a:cubicBezTo>
                  <a:pt x="22442" y="7919"/>
                  <a:pt x="22483" y="7909"/>
                  <a:pt x="22572" y="7888"/>
                </a:cubicBezTo>
                <a:cubicBezTo>
                  <a:pt x="22605" y="7888"/>
                  <a:pt x="22614" y="7880"/>
                  <a:pt x="22597" y="7838"/>
                </a:cubicBezTo>
                <a:cubicBezTo>
                  <a:pt x="22576" y="7755"/>
                  <a:pt x="22461" y="7735"/>
                  <a:pt x="22399" y="7813"/>
                </a:cubicBezTo>
                <a:cubicBezTo>
                  <a:pt x="22301" y="7936"/>
                  <a:pt x="22394" y="8144"/>
                  <a:pt x="22547" y="8161"/>
                </a:cubicBezTo>
                <a:cubicBezTo>
                  <a:pt x="22601" y="8167"/>
                  <a:pt x="22658" y="8140"/>
                  <a:pt x="22696" y="8111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24240" y="3143160"/>
            <a:ext cx="231840" cy="152640"/>
          </a:xfrm>
          <a:custGeom>
            <a:avLst/>
            <a:gdLst/>
            <a:ahLst/>
            <a:rect l="l" t="t" r="r" b="b"/>
            <a:pathLst>
              <a:path w="646" h="423">
                <a:moveTo>
                  <a:pt x="11782" y="8781"/>
                </a:moveTo>
                <a:cubicBezTo>
                  <a:pt x="11811" y="8752"/>
                  <a:pt x="11820" y="8740"/>
                  <a:pt x="11857" y="8731"/>
                </a:cubicBezTo>
                <a:cubicBezTo>
                  <a:pt x="12009" y="8797"/>
                  <a:pt x="11888" y="8969"/>
                  <a:pt x="11807" y="9079"/>
                </a:cubicBezTo>
                <a:cubicBezTo>
                  <a:pt x="11782" y="9104"/>
                  <a:pt x="11758" y="9128"/>
                  <a:pt x="11733" y="9153"/>
                </a:cubicBezTo>
                <a:cubicBezTo>
                  <a:pt x="11848" y="9133"/>
                  <a:pt x="11944" y="9066"/>
                  <a:pt x="12055" y="9029"/>
                </a:cubicBezTo>
                <a:cubicBezTo>
                  <a:pt x="12080" y="9029"/>
                  <a:pt x="12088" y="9029"/>
                  <a:pt x="12105" y="9029"/>
                </a:cubicBezTo>
              </a:path>
              <a:path w="646" h="423">
                <a:moveTo>
                  <a:pt x="12204" y="8756"/>
                </a:moveTo>
                <a:cubicBezTo>
                  <a:pt x="12118" y="8713"/>
                  <a:pt x="12111" y="8889"/>
                  <a:pt x="12129" y="8954"/>
                </a:cubicBezTo>
                <a:cubicBezTo>
                  <a:pt x="12161" y="9069"/>
                  <a:pt x="12326" y="9104"/>
                  <a:pt x="12378" y="8979"/>
                </a:cubicBezTo>
                <a:cubicBezTo>
                  <a:pt x="12423" y="8870"/>
                  <a:pt x="12308" y="8756"/>
                  <a:pt x="12204" y="8756"/>
                </a:cubicBezTo>
                <a:cubicBezTo>
                  <a:pt x="12179" y="8764"/>
                  <a:pt x="12154" y="8773"/>
                  <a:pt x="12129" y="8781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56200" y="4010040"/>
            <a:ext cx="1278000" cy="642960"/>
          </a:xfrm>
          <a:custGeom>
            <a:avLst/>
            <a:gdLst/>
            <a:ahLst/>
            <a:rect l="l" t="t" r="r" b="b"/>
            <a:pathLst>
              <a:path w="3548" h="1787">
                <a:moveTo>
                  <a:pt x="16545" y="11137"/>
                </a:moveTo>
                <a:cubicBezTo>
                  <a:pt x="16553" y="11137"/>
                  <a:pt x="16562" y="11137"/>
                  <a:pt x="16570" y="11137"/>
                </a:cubicBezTo>
              </a:path>
              <a:path w="3548" h="1787">
                <a:moveTo>
                  <a:pt x="16570" y="11137"/>
                </a:moveTo>
                <a:lnTo>
                  <a:pt x="16570" y="11137"/>
                </a:lnTo>
              </a:path>
              <a:path w="3548" h="1787">
                <a:moveTo>
                  <a:pt x="17487" y="11187"/>
                </a:moveTo>
                <a:cubicBezTo>
                  <a:pt x="17479" y="11179"/>
                  <a:pt x="17470" y="11170"/>
                  <a:pt x="17462" y="11162"/>
                </a:cubicBezTo>
              </a:path>
              <a:path w="3548" h="1787">
                <a:moveTo>
                  <a:pt x="17462" y="11162"/>
                </a:moveTo>
                <a:lnTo>
                  <a:pt x="17462" y="11162"/>
                </a:lnTo>
              </a:path>
              <a:path w="3548" h="1787">
                <a:moveTo>
                  <a:pt x="17214" y="12427"/>
                </a:moveTo>
                <a:cubicBezTo>
                  <a:pt x="17247" y="12435"/>
                  <a:pt x="17281" y="12444"/>
                  <a:pt x="17314" y="12452"/>
                </a:cubicBezTo>
              </a:path>
              <a:path w="3548" h="1787">
                <a:moveTo>
                  <a:pt x="17314" y="12452"/>
                </a:moveTo>
                <a:lnTo>
                  <a:pt x="17314" y="12452"/>
                </a:lnTo>
              </a:path>
              <a:path w="3548" h="1787">
                <a:moveTo>
                  <a:pt x="18281" y="12452"/>
                </a:moveTo>
                <a:lnTo>
                  <a:pt x="18281" y="12452"/>
                </a:lnTo>
                <a:lnTo>
                  <a:pt x="18281" y="12452"/>
                </a:lnTo>
              </a:path>
              <a:path w="3548" h="1787">
                <a:moveTo>
                  <a:pt x="18281" y="12452"/>
                </a:moveTo>
                <a:lnTo>
                  <a:pt x="18281" y="12452"/>
                </a:lnTo>
              </a:path>
              <a:path w="3548" h="1787">
                <a:moveTo>
                  <a:pt x="20017" y="12204"/>
                </a:moveTo>
                <a:cubicBezTo>
                  <a:pt x="20001" y="12455"/>
                  <a:pt x="20041" y="12634"/>
                  <a:pt x="20092" y="12874"/>
                </a:cubicBezTo>
                <a:cubicBezTo>
                  <a:pt x="20092" y="12890"/>
                  <a:pt x="20092" y="12907"/>
                  <a:pt x="20092" y="12923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680080" y="3902040"/>
            <a:ext cx="1143000" cy="366840"/>
          </a:xfrm>
          <a:custGeom>
            <a:avLst/>
            <a:gdLst/>
            <a:ahLst/>
            <a:rect l="l" t="t" r="r" b="b"/>
            <a:pathLst>
              <a:path w="3176" h="1018">
                <a:moveTo>
                  <a:pt x="16421" y="11534"/>
                </a:moveTo>
                <a:cubicBezTo>
                  <a:pt x="16400" y="11428"/>
                  <a:pt x="16368" y="11316"/>
                  <a:pt x="16247" y="11286"/>
                </a:cubicBezTo>
                <a:cubicBezTo>
                  <a:pt x="15938" y="11208"/>
                  <a:pt x="15820" y="11550"/>
                  <a:pt x="15776" y="11757"/>
                </a:cubicBezTo>
                <a:cubicBezTo>
                  <a:pt x="15992" y="11870"/>
                  <a:pt x="16181" y="11930"/>
                  <a:pt x="16346" y="11683"/>
                </a:cubicBezTo>
                <a:cubicBezTo>
                  <a:pt x="16408" y="11530"/>
                  <a:pt x="16418" y="11458"/>
                  <a:pt x="16346" y="11336"/>
                </a:cubicBezTo>
              </a:path>
              <a:path w="3176" h="1018">
                <a:moveTo>
                  <a:pt x="16272" y="10939"/>
                </a:moveTo>
                <a:cubicBezTo>
                  <a:pt x="16328" y="11139"/>
                  <a:pt x="16359" y="11345"/>
                  <a:pt x="16371" y="11559"/>
                </a:cubicBezTo>
                <a:cubicBezTo>
                  <a:pt x="16376" y="11656"/>
                  <a:pt x="16371" y="11759"/>
                  <a:pt x="16371" y="11857"/>
                </a:cubicBezTo>
              </a:path>
              <a:path w="3176" h="1018">
                <a:moveTo>
                  <a:pt x="16594" y="11385"/>
                </a:moveTo>
                <a:cubicBezTo>
                  <a:pt x="16640" y="11536"/>
                  <a:pt x="16644" y="11674"/>
                  <a:pt x="16644" y="11832"/>
                </a:cubicBezTo>
              </a:path>
              <a:path w="3176" h="1018">
                <a:moveTo>
                  <a:pt x="16842" y="11361"/>
                </a:moveTo>
                <a:cubicBezTo>
                  <a:pt x="16926" y="11526"/>
                  <a:pt x="17046" y="11694"/>
                  <a:pt x="17115" y="11857"/>
                </a:cubicBezTo>
                <a:cubicBezTo>
                  <a:pt x="17138" y="11698"/>
                  <a:pt x="17184" y="11537"/>
                  <a:pt x="17239" y="11385"/>
                </a:cubicBezTo>
                <a:cubicBezTo>
                  <a:pt x="17247" y="11369"/>
                  <a:pt x="17256" y="11352"/>
                  <a:pt x="17264" y="11336"/>
                </a:cubicBezTo>
              </a:path>
              <a:path w="3176" h="1018">
                <a:moveTo>
                  <a:pt x="17462" y="11435"/>
                </a:moveTo>
                <a:cubicBezTo>
                  <a:pt x="17462" y="11469"/>
                  <a:pt x="17462" y="11870"/>
                  <a:pt x="17462" y="11733"/>
                </a:cubicBezTo>
              </a:path>
              <a:path w="3176" h="1018">
                <a:moveTo>
                  <a:pt x="18182" y="11435"/>
                </a:moveTo>
                <a:cubicBezTo>
                  <a:pt x="18203" y="11332"/>
                  <a:pt x="18184" y="11308"/>
                  <a:pt x="18132" y="11212"/>
                </a:cubicBezTo>
                <a:cubicBezTo>
                  <a:pt x="17967" y="11231"/>
                  <a:pt x="17680" y="11412"/>
                  <a:pt x="17810" y="11658"/>
                </a:cubicBezTo>
                <a:cubicBezTo>
                  <a:pt x="18033" y="12079"/>
                  <a:pt x="18266" y="11571"/>
                  <a:pt x="18331" y="11410"/>
                </a:cubicBezTo>
              </a:path>
              <a:path w="3176" h="1018">
                <a:moveTo>
                  <a:pt x="18157" y="10840"/>
                </a:moveTo>
                <a:cubicBezTo>
                  <a:pt x="18211" y="11078"/>
                  <a:pt x="18245" y="11316"/>
                  <a:pt x="18281" y="11559"/>
                </a:cubicBezTo>
                <a:cubicBezTo>
                  <a:pt x="18301" y="11660"/>
                  <a:pt x="18299" y="11680"/>
                  <a:pt x="18331" y="11733"/>
                </a:cubicBezTo>
              </a:path>
              <a:path w="3176" h="1018">
                <a:moveTo>
                  <a:pt x="18504" y="11460"/>
                </a:moveTo>
                <a:cubicBezTo>
                  <a:pt x="18638" y="11460"/>
                  <a:pt x="18768" y="11441"/>
                  <a:pt x="18901" y="11435"/>
                </a:cubicBezTo>
                <a:cubicBezTo>
                  <a:pt x="18909" y="11435"/>
                  <a:pt x="18918" y="11435"/>
                  <a:pt x="18926" y="11435"/>
                </a:cubicBezTo>
                <a:cubicBezTo>
                  <a:pt x="18913" y="11396"/>
                  <a:pt x="18831" y="11203"/>
                  <a:pt x="18777" y="11162"/>
                </a:cubicBezTo>
                <a:cubicBezTo>
                  <a:pt x="18605" y="11033"/>
                  <a:pt x="18529" y="11553"/>
                  <a:pt x="18554" y="11633"/>
                </a:cubicBezTo>
                <a:cubicBezTo>
                  <a:pt x="18617" y="11837"/>
                  <a:pt x="18825" y="11740"/>
                  <a:pt x="18951" y="11683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48680" y="3929040"/>
            <a:ext cx="385560" cy="446040"/>
          </a:xfrm>
          <a:custGeom>
            <a:avLst/>
            <a:gdLst/>
            <a:ahLst/>
            <a:rect l="l" t="t" r="r" b="b"/>
            <a:pathLst>
              <a:path w="1068" h="1241">
                <a:moveTo>
                  <a:pt x="20439" y="10914"/>
                </a:moveTo>
                <a:cubicBezTo>
                  <a:pt x="20385" y="11020"/>
                  <a:pt x="20511" y="11425"/>
                  <a:pt x="20538" y="11584"/>
                </a:cubicBezTo>
                <a:cubicBezTo>
                  <a:pt x="20546" y="11634"/>
                  <a:pt x="20555" y="11683"/>
                  <a:pt x="20563" y="11733"/>
                </a:cubicBezTo>
                <a:cubicBezTo>
                  <a:pt x="20468" y="11520"/>
                  <a:pt x="20541" y="11405"/>
                  <a:pt x="20638" y="11212"/>
                </a:cubicBezTo>
                <a:cubicBezTo>
                  <a:pt x="20813" y="11239"/>
                  <a:pt x="21168" y="11438"/>
                  <a:pt x="20886" y="11683"/>
                </a:cubicBezTo>
                <a:cubicBezTo>
                  <a:pt x="20742" y="11808"/>
                  <a:pt x="20633" y="11695"/>
                  <a:pt x="20538" y="11609"/>
                </a:cubicBezTo>
              </a:path>
              <a:path w="1068" h="1241">
                <a:moveTo>
                  <a:pt x="21183" y="11286"/>
                </a:moveTo>
                <a:cubicBezTo>
                  <a:pt x="21183" y="11390"/>
                  <a:pt x="21124" y="11740"/>
                  <a:pt x="21332" y="11683"/>
                </a:cubicBezTo>
                <a:cubicBezTo>
                  <a:pt x="21443" y="11652"/>
                  <a:pt x="21406" y="11416"/>
                  <a:pt x="21406" y="11336"/>
                </a:cubicBezTo>
                <a:cubicBezTo>
                  <a:pt x="21460" y="11561"/>
                  <a:pt x="21569" y="11845"/>
                  <a:pt x="21406" y="12055"/>
                </a:cubicBezTo>
                <a:cubicBezTo>
                  <a:pt x="21270" y="12230"/>
                  <a:pt x="21151" y="12150"/>
                  <a:pt x="21010" y="12080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72280" y="3840120"/>
            <a:ext cx="635040" cy="312840"/>
          </a:xfrm>
          <a:custGeom>
            <a:avLst/>
            <a:gdLst/>
            <a:ahLst/>
            <a:rect l="l" t="t" r="r" b="b"/>
            <a:pathLst>
              <a:path w="1763" h="869">
                <a:moveTo>
                  <a:pt x="22771" y="10666"/>
                </a:moveTo>
                <a:cubicBezTo>
                  <a:pt x="22782" y="10949"/>
                  <a:pt x="22815" y="11228"/>
                  <a:pt x="22845" y="11509"/>
                </a:cubicBezTo>
                <a:cubicBezTo>
                  <a:pt x="22845" y="11534"/>
                  <a:pt x="22845" y="11542"/>
                  <a:pt x="22845" y="11509"/>
                </a:cubicBezTo>
              </a:path>
              <a:path w="1763" h="869">
                <a:moveTo>
                  <a:pt x="22423" y="11137"/>
                </a:moveTo>
                <a:cubicBezTo>
                  <a:pt x="22638" y="11207"/>
                  <a:pt x="22998" y="11353"/>
                  <a:pt x="23118" y="11038"/>
                </a:cubicBezTo>
                <a:cubicBezTo>
                  <a:pt x="23163" y="10921"/>
                  <a:pt x="23124" y="10763"/>
                  <a:pt x="23118" y="10691"/>
                </a:cubicBezTo>
                <a:cubicBezTo>
                  <a:pt x="23144" y="10908"/>
                  <a:pt x="23184" y="11117"/>
                  <a:pt x="23192" y="11336"/>
                </a:cubicBezTo>
                <a:cubicBezTo>
                  <a:pt x="23192" y="11344"/>
                  <a:pt x="23192" y="11353"/>
                  <a:pt x="23192" y="11361"/>
                </a:cubicBezTo>
                <a:cubicBezTo>
                  <a:pt x="23205" y="11208"/>
                  <a:pt x="23215" y="11046"/>
                  <a:pt x="23366" y="10964"/>
                </a:cubicBezTo>
                <a:cubicBezTo>
                  <a:pt x="23383" y="10964"/>
                  <a:pt x="23399" y="10964"/>
                  <a:pt x="23416" y="10964"/>
                </a:cubicBezTo>
                <a:cubicBezTo>
                  <a:pt x="23443" y="11040"/>
                  <a:pt x="23500" y="11383"/>
                  <a:pt x="23564" y="11410"/>
                </a:cubicBezTo>
                <a:cubicBezTo>
                  <a:pt x="23589" y="11410"/>
                  <a:pt x="23614" y="11410"/>
                  <a:pt x="23639" y="11410"/>
                </a:cubicBezTo>
              </a:path>
              <a:path w="1763" h="869">
                <a:moveTo>
                  <a:pt x="23788" y="11162"/>
                </a:moveTo>
                <a:cubicBezTo>
                  <a:pt x="23911" y="11110"/>
                  <a:pt x="24016" y="11095"/>
                  <a:pt x="24061" y="10964"/>
                </a:cubicBezTo>
                <a:cubicBezTo>
                  <a:pt x="23893" y="10952"/>
                  <a:pt x="23681" y="11059"/>
                  <a:pt x="23763" y="11286"/>
                </a:cubicBezTo>
                <a:cubicBezTo>
                  <a:pt x="23834" y="11481"/>
                  <a:pt x="24059" y="11358"/>
                  <a:pt x="24185" y="1133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51000" y="4429080"/>
            <a:ext cx="3429000" cy="777960"/>
          </a:xfrm>
          <a:custGeom>
            <a:avLst/>
            <a:gdLst/>
            <a:ahLst/>
            <a:rect l="l" t="t" r="r" b="b"/>
            <a:pathLst>
              <a:path w="9526" h="2159">
                <a:moveTo>
                  <a:pt x="3944" y="12923"/>
                </a:moveTo>
                <a:cubicBezTo>
                  <a:pt x="4153" y="12947"/>
                  <a:pt x="4489" y="13009"/>
                  <a:pt x="4688" y="12898"/>
                </a:cubicBezTo>
                <a:cubicBezTo>
                  <a:pt x="4705" y="12873"/>
                  <a:pt x="4721" y="12849"/>
                  <a:pt x="4738" y="12824"/>
                </a:cubicBezTo>
              </a:path>
              <a:path w="9526" h="2159">
                <a:moveTo>
                  <a:pt x="8260" y="13692"/>
                </a:moveTo>
                <a:cubicBezTo>
                  <a:pt x="8382" y="13667"/>
                  <a:pt x="8506" y="13658"/>
                  <a:pt x="8632" y="13643"/>
                </a:cubicBezTo>
              </a:path>
              <a:path w="9526" h="2159">
                <a:moveTo>
                  <a:pt x="11733" y="13866"/>
                </a:moveTo>
                <a:cubicBezTo>
                  <a:pt x="11754" y="14038"/>
                  <a:pt x="11770" y="14217"/>
                  <a:pt x="11807" y="14387"/>
                </a:cubicBezTo>
                <a:cubicBezTo>
                  <a:pt x="11815" y="14412"/>
                  <a:pt x="11824" y="14436"/>
                  <a:pt x="11832" y="14461"/>
                </a:cubicBezTo>
              </a:path>
              <a:path w="9526" h="2159">
                <a:moveTo>
                  <a:pt x="12626" y="14039"/>
                </a:moveTo>
                <a:cubicBezTo>
                  <a:pt x="12658" y="14150"/>
                  <a:pt x="12744" y="14353"/>
                  <a:pt x="12898" y="14362"/>
                </a:cubicBezTo>
                <a:cubicBezTo>
                  <a:pt x="12931" y="14354"/>
                  <a:pt x="12965" y="14345"/>
                  <a:pt x="12998" y="14337"/>
                </a:cubicBezTo>
              </a:path>
              <a:path w="9526" h="2159">
                <a:moveTo>
                  <a:pt x="3497" y="12576"/>
                </a:moveTo>
                <a:cubicBezTo>
                  <a:pt x="3568" y="12546"/>
                  <a:pt x="3646" y="12459"/>
                  <a:pt x="3696" y="12427"/>
                </a:cubicBezTo>
                <a:cubicBezTo>
                  <a:pt x="3704" y="12427"/>
                  <a:pt x="3713" y="12427"/>
                  <a:pt x="3721" y="12427"/>
                </a:cubicBezTo>
              </a:path>
              <a:path w="9526" h="2159">
                <a:moveTo>
                  <a:pt x="3473" y="12303"/>
                </a:moveTo>
                <a:lnTo>
                  <a:pt x="3473" y="12303"/>
                </a:lnTo>
              </a:path>
              <a:path w="9526" h="2159">
                <a:moveTo>
                  <a:pt x="3671" y="12626"/>
                </a:moveTo>
                <a:lnTo>
                  <a:pt x="3671" y="12626"/>
                </a:ln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30160" y="4313160"/>
            <a:ext cx="1706760" cy="428760"/>
          </a:xfrm>
          <a:custGeom>
            <a:avLst/>
            <a:gdLst/>
            <a:ahLst/>
            <a:rect l="l" t="t" r="r" b="b"/>
            <a:pathLst>
              <a:path w="4739" h="1191">
                <a:moveTo>
                  <a:pt x="2431" y="12626"/>
                </a:moveTo>
                <a:cubicBezTo>
                  <a:pt x="2498" y="12612"/>
                  <a:pt x="2565" y="12526"/>
                  <a:pt x="2629" y="12526"/>
                </a:cubicBezTo>
                <a:cubicBezTo>
                  <a:pt x="2765" y="12526"/>
                  <a:pt x="2683" y="12753"/>
                  <a:pt x="2654" y="12799"/>
                </a:cubicBezTo>
                <a:cubicBezTo>
                  <a:pt x="2569" y="12934"/>
                  <a:pt x="2438" y="13059"/>
                  <a:pt x="2307" y="13146"/>
                </a:cubicBezTo>
                <a:cubicBezTo>
                  <a:pt x="2431" y="13119"/>
                  <a:pt x="2536" y="13014"/>
                  <a:pt x="2679" y="13047"/>
                </a:cubicBezTo>
                <a:cubicBezTo>
                  <a:pt x="2784" y="13071"/>
                  <a:pt x="2724" y="13156"/>
                  <a:pt x="2803" y="13097"/>
                </a:cubicBezTo>
              </a:path>
              <a:path w="4739" h="1191">
                <a:moveTo>
                  <a:pt x="3274" y="12576"/>
                </a:moveTo>
                <a:cubicBezTo>
                  <a:pt x="3107" y="12566"/>
                  <a:pt x="3018" y="12594"/>
                  <a:pt x="2902" y="12725"/>
                </a:cubicBezTo>
                <a:cubicBezTo>
                  <a:pt x="3036" y="12858"/>
                  <a:pt x="3169" y="12879"/>
                  <a:pt x="3225" y="13047"/>
                </a:cubicBezTo>
                <a:cubicBezTo>
                  <a:pt x="3127" y="13106"/>
                  <a:pt x="2967" y="13134"/>
                  <a:pt x="3001" y="12948"/>
                </a:cubicBezTo>
                <a:cubicBezTo>
                  <a:pt x="3015" y="12870"/>
                  <a:pt x="3208" y="12635"/>
                  <a:pt x="3175" y="12626"/>
                </a:cubicBezTo>
                <a:cubicBezTo>
                  <a:pt x="3158" y="12626"/>
                  <a:pt x="3142" y="12626"/>
                  <a:pt x="3125" y="12626"/>
                </a:cubicBezTo>
              </a:path>
              <a:path w="4739" h="1191">
                <a:moveTo>
                  <a:pt x="4415" y="12601"/>
                </a:moveTo>
                <a:cubicBezTo>
                  <a:pt x="4327" y="12538"/>
                  <a:pt x="4211" y="12468"/>
                  <a:pt x="4118" y="12576"/>
                </a:cubicBezTo>
                <a:cubicBezTo>
                  <a:pt x="4022" y="12688"/>
                  <a:pt x="4238" y="12932"/>
                  <a:pt x="4266" y="13047"/>
                </a:cubicBezTo>
                <a:cubicBezTo>
                  <a:pt x="4300" y="13183"/>
                  <a:pt x="4251" y="13132"/>
                  <a:pt x="4167" y="13097"/>
                </a:cubicBezTo>
              </a:path>
              <a:path w="4739" h="1191">
                <a:moveTo>
                  <a:pt x="4688" y="12601"/>
                </a:moveTo>
                <a:cubicBezTo>
                  <a:pt x="4733" y="12747"/>
                  <a:pt x="4755" y="13056"/>
                  <a:pt x="4837" y="13171"/>
                </a:cubicBezTo>
                <a:cubicBezTo>
                  <a:pt x="4845" y="13163"/>
                  <a:pt x="4854" y="13154"/>
                  <a:pt x="4862" y="13146"/>
                </a:cubicBezTo>
              </a:path>
              <a:path w="4739" h="1191">
                <a:moveTo>
                  <a:pt x="5035" y="12774"/>
                </a:moveTo>
                <a:cubicBezTo>
                  <a:pt x="4871" y="12895"/>
                  <a:pt x="4829" y="12952"/>
                  <a:pt x="4911" y="13146"/>
                </a:cubicBezTo>
                <a:cubicBezTo>
                  <a:pt x="5066" y="13122"/>
                  <a:pt x="5282" y="13031"/>
                  <a:pt x="5110" y="12824"/>
                </a:cubicBezTo>
                <a:cubicBezTo>
                  <a:pt x="5037" y="12787"/>
                  <a:pt x="5032" y="12770"/>
                  <a:pt x="4986" y="12774"/>
                </a:cubicBezTo>
              </a:path>
              <a:path w="4739" h="1191">
                <a:moveTo>
                  <a:pt x="5333" y="12725"/>
                </a:moveTo>
                <a:cubicBezTo>
                  <a:pt x="5333" y="12848"/>
                  <a:pt x="5288" y="13039"/>
                  <a:pt x="5432" y="13097"/>
                </a:cubicBezTo>
                <a:cubicBezTo>
                  <a:pt x="5560" y="13148"/>
                  <a:pt x="5563" y="12964"/>
                  <a:pt x="5581" y="12898"/>
                </a:cubicBezTo>
                <a:cubicBezTo>
                  <a:pt x="5581" y="12873"/>
                  <a:pt x="5581" y="12849"/>
                  <a:pt x="5581" y="12824"/>
                </a:cubicBezTo>
                <a:cubicBezTo>
                  <a:pt x="5513" y="12959"/>
                  <a:pt x="5510" y="13118"/>
                  <a:pt x="5705" y="13146"/>
                </a:cubicBezTo>
                <a:cubicBezTo>
                  <a:pt x="5938" y="13180"/>
                  <a:pt x="5912" y="12950"/>
                  <a:pt x="5854" y="12824"/>
                </a:cubicBezTo>
                <a:cubicBezTo>
                  <a:pt x="5834" y="12783"/>
                  <a:pt x="5836" y="12767"/>
                  <a:pt x="5804" y="12774"/>
                </a:cubicBezTo>
              </a:path>
              <a:path w="4739" h="1191">
                <a:moveTo>
                  <a:pt x="5953" y="12874"/>
                </a:moveTo>
                <a:cubicBezTo>
                  <a:pt x="6040" y="12864"/>
                  <a:pt x="6089" y="12878"/>
                  <a:pt x="6102" y="12799"/>
                </a:cubicBezTo>
                <a:cubicBezTo>
                  <a:pt x="6029" y="12701"/>
                  <a:pt x="5895" y="12798"/>
                  <a:pt x="5904" y="12923"/>
                </a:cubicBezTo>
                <a:cubicBezTo>
                  <a:pt x="5920" y="13144"/>
                  <a:pt x="6104" y="13172"/>
                  <a:pt x="6226" y="13022"/>
                </a:cubicBezTo>
                <a:cubicBezTo>
                  <a:pt x="6267" y="12941"/>
                  <a:pt x="6283" y="12929"/>
                  <a:pt x="6276" y="12874"/>
                </a:cubicBezTo>
                <a:cubicBezTo>
                  <a:pt x="6286" y="12943"/>
                  <a:pt x="6304" y="13005"/>
                  <a:pt x="6325" y="13072"/>
                </a:cubicBezTo>
                <a:cubicBezTo>
                  <a:pt x="6290" y="12929"/>
                  <a:pt x="6236" y="12810"/>
                  <a:pt x="6424" y="12750"/>
                </a:cubicBezTo>
                <a:cubicBezTo>
                  <a:pt x="6517" y="12750"/>
                  <a:pt x="6543" y="12748"/>
                  <a:pt x="6598" y="12774"/>
                </a:cubicBezTo>
              </a:path>
              <a:path w="4739" h="1191">
                <a:moveTo>
                  <a:pt x="6821" y="12725"/>
                </a:moveTo>
                <a:cubicBezTo>
                  <a:pt x="6719" y="12738"/>
                  <a:pt x="6667" y="12752"/>
                  <a:pt x="6573" y="12799"/>
                </a:cubicBezTo>
                <a:cubicBezTo>
                  <a:pt x="6715" y="12888"/>
                  <a:pt x="6885" y="12940"/>
                  <a:pt x="7045" y="12998"/>
                </a:cubicBezTo>
                <a:cubicBezTo>
                  <a:pt x="6966" y="13173"/>
                  <a:pt x="6859" y="13127"/>
                  <a:pt x="6697" y="13072"/>
                </a:cubicBezTo>
              </a:path>
              <a:path w="4739" h="1191">
                <a:moveTo>
                  <a:pt x="3746" y="12179"/>
                </a:moveTo>
                <a:cubicBezTo>
                  <a:pt x="3774" y="12095"/>
                  <a:pt x="3830" y="12045"/>
                  <a:pt x="3894" y="11981"/>
                </a:cubicBezTo>
                <a:cubicBezTo>
                  <a:pt x="4007" y="12070"/>
                  <a:pt x="3992" y="12242"/>
                  <a:pt x="4043" y="12378"/>
                </a:cubicBezTo>
                <a:cubicBezTo>
                  <a:pt x="4051" y="12386"/>
                  <a:pt x="4060" y="12394"/>
                  <a:pt x="4068" y="12402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73240" y="4867200"/>
            <a:ext cx="71640" cy="1800"/>
          </a:xfrm>
          <a:custGeom>
            <a:avLst/>
            <a:gdLst/>
            <a:ahLst/>
            <a:rect l="l" t="t" r="r" b="b"/>
            <a:pathLst>
              <a:path w="199" h="1">
                <a:moveTo>
                  <a:pt x="8260" y="13519"/>
                </a:moveTo>
                <a:cubicBezTo>
                  <a:pt x="8359" y="13519"/>
                  <a:pt x="8392" y="13519"/>
                  <a:pt x="8458" y="13519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57720" y="4848120"/>
            <a:ext cx="1322280" cy="509760"/>
          </a:xfrm>
          <a:custGeom>
            <a:avLst/>
            <a:gdLst/>
            <a:ahLst/>
            <a:rect l="l" t="t" r="r" b="b"/>
            <a:pathLst>
              <a:path w="3672" h="1415">
                <a:moveTo>
                  <a:pt x="9327" y="13667"/>
                </a:moveTo>
                <a:cubicBezTo>
                  <a:pt x="9532" y="13653"/>
                  <a:pt x="9743" y="13637"/>
                  <a:pt x="9947" y="13618"/>
                </a:cubicBezTo>
                <a:cubicBezTo>
                  <a:pt x="10491" y="13566"/>
                  <a:pt x="11043" y="13565"/>
                  <a:pt x="11584" y="13494"/>
                </a:cubicBezTo>
                <a:cubicBezTo>
                  <a:pt x="11661" y="13474"/>
                  <a:pt x="11679" y="13450"/>
                  <a:pt x="11708" y="13494"/>
                </a:cubicBezTo>
              </a:path>
              <a:path w="3672" h="1415">
                <a:moveTo>
                  <a:pt x="10096" y="13841"/>
                </a:moveTo>
                <a:cubicBezTo>
                  <a:pt x="10096" y="13833"/>
                  <a:pt x="10096" y="13824"/>
                  <a:pt x="10096" y="13816"/>
                </a:cubicBezTo>
                <a:cubicBezTo>
                  <a:pt x="10141" y="13832"/>
                  <a:pt x="10142" y="14213"/>
                  <a:pt x="10145" y="14238"/>
                </a:cubicBezTo>
                <a:cubicBezTo>
                  <a:pt x="10154" y="14308"/>
                  <a:pt x="10153" y="14409"/>
                  <a:pt x="10195" y="14436"/>
                </a:cubicBezTo>
              </a:path>
              <a:path w="3672" h="1415">
                <a:moveTo>
                  <a:pt x="11832" y="14139"/>
                </a:moveTo>
                <a:cubicBezTo>
                  <a:pt x="11646" y="14033"/>
                  <a:pt x="11517" y="13995"/>
                  <a:pt x="11410" y="14238"/>
                </a:cubicBezTo>
                <a:cubicBezTo>
                  <a:pt x="11300" y="14487"/>
                  <a:pt x="11633" y="14581"/>
                  <a:pt x="11757" y="14387"/>
                </a:cubicBezTo>
                <a:cubicBezTo>
                  <a:pt x="11774" y="14329"/>
                  <a:pt x="11790" y="14271"/>
                  <a:pt x="11807" y="14213"/>
                </a:cubicBezTo>
              </a:path>
              <a:path w="3672" h="1415">
                <a:moveTo>
                  <a:pt x="12353" y="14089"/>
                </a:moveTo>
                <a:cubicBezTo>
                  <a:pt x="12215" y="13997"/>
                  <a:pt x="12089" y="13948"/>
                  <a:pt x="11981" y="14139"/>
                </a:cubicBezTo>
                <a:cubicBezTo>
                  <a:pt x="11884" y="14311"/>
                  <a:pt x="12108" y="14531"/>
                  <a:pt x="12278" y="14412"/>
                </a:cubicBezTo>
                <a:cubicBezTo>
                  <a:pt x="12350" y="14293"/>
                  <a:pt x="12374" y="14257"/>
                  <a:pt x="12378" y="14163"/>
                </a:cubicBezTo>
                <a:cubicBezTo>
                  <a:pt x="12295" y="14084"/>
                  <a:pt x="12442" y="14371"/>
                  <a:pt x="12551" y="14387"/>
                </a:cubicBezTo>
                <a:cubicBezTo>
                  <a:pt x="12592" y="14379"/>
                  <a:pt x="12634" y="14370"/>
                  <a:pt x="12675" y="14362"/>
                </a:cubicBezTo>
              </a:path>
              <a:path w="3672" h="1415">
                <a:moveTo>
                  <a:pt x="12973" y="13915"/>
                </a:moveTo>
                <a:cubicBezTo>
                  <a:pt x="12882" y="14141"/>
                  <a:pt x="12921" y="14417"/>
                  <a:pt x="12948" y="14660"/>
                </a:cubicBezTo>
                <a:cubicBezTo>
                  <a:pt x="12955" y="14723"/>
                  <a:pt x="12967" y="14852"/>
                  <a:pt x="12998" y="14883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6040" y="4616280"/>
            <a:ext cx="214200" cy="63720"/>
          </a:xfrm>
          <a:custGeom>
            <a:avLst/>
            <a:gdLst/>
            <a:ahLst/>
            <a:rect l="l" t="t" r="r" b="b"/>
            <a:pathLst>
              <a:path w="597" h="175">
                <a:moveTo>
                  <a:pt x="10988" y="12998"/>
                </a:moveTo>
                <a:cubicBezTo>
                  <a:pt x="11185" y="12932"/>
                  <a:pt x="11380" y="12856"/>
                  <a:pt x="11584" y="12824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89200" y="4537080"/>
            <a:ext cx="135000" cy="293760"/>
          </a:xfrm>
          <a:custGeom>
            <a:avLst/>
            <a:gdLst/>
            <a:ahLst/>
            <a:rect l="l" t="t" r="r" b="b"/>
            <a:pathLst>
              <a:path w="374" h="819">
                <a:moveTo>
                  <a:pt x="10021" y="12774"/>
                </a:moveTo>
                <a:cubicBezTo>
                  <a:pt x="10006" y="12891"/>
                  <a:pt x="9979" y="13004"/>
                  <a:pt x="9971" y="13122"/>
                </a:cubicBezTo>
                <a:cubicBezTo>
                  <a:pt x="10094" y="13101"/>
                  <a:pt x="10202" y="13038"/>
                  <a:pt x="10319" y="12998"/>
                </a:cubicBezTo>
                <a:cubicBezTo>
                  <a:pt x="10327" y="12998"/>
                  <a:pt x="10336" y="12998"/>
                  <a:pt x="10344" y="12998"/>
                </a:cubicBezTo>
              </a:path>
              <a:path w="374" h="819">
                <a:moveTo>
                  <a:pt x="10195" y="12601"/>
                </a:moveTo>
                <a:cubicBezTo>
                  <a:pt x="10236" y="12831"/>
                  <a:pt x="10277" y="13060"/>
                  <a:pt x="10294" y="13295"/>
                </a:cubicBezTo>
                <a:cubicBezTo>
                  <a:pt x="10300" y="13379"/>
                  <a:pt x="10265" y="13429"/>
                  <a:pt x="10319" y="13395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17960" y="4419720"/>
            <a:ext cx="920880" cy="331560"/>
          </a:xfrm>
          <a:custGeom>
            <a:avLst/>
            <a:gdLst/>
            <a:ahLst/>
            <a:rect l="l" t="t" r="r" b="b"/>
            <a:pathLst>
              <a:path w="2556" h="919">
                <a:moveTo>
                  <a:pt x="11435" y="12576"/>
                </a:moveTo>
                <a:cubicBezTo>
                  <a:pt x="11502" y="12466"/>
                  <a:pt x="11425" y="12401"/>
                  <a:pt x="11336" y="12328"/>
                </a:cubicBezTo>
                <a:cubicBezTo>
                  <a:pt x="11311" y="12311"/>
                  <a:pt x="11286" y="12295"/>
                  <a:pt x="11261" y="12278"/>
                </a:cubicBezTo>
                <a:cubicBezTo>
                  <a:pt x="11083" y="12475"/>
                  <a:pt x="11179" y="12639"/>
                  <a:pt x="11261" y="12874"/>
                </a:cubicBezTo>
                <a:cubicBezTo>
                  <a:pt x="11302" y="12990"/>
                  <a:pt x="11327" y="13077"/>
                  <a:pt x="11336" y="13196"/>
                </a:cubicBezTo>
              </a:path>
              <a:path w="2556" h="919">
                <a:moveTo>
                  <a:pt x="11509" y="12452"/>
                </a:moveTo>
                <a:cubicBezTo>
                  <a:pt x="11616" y="12558"/>
                  <a:pt x="11649" y="12813"/>
                  <a:pt x="11683" y="12973"/>
                </a:cubicBezTo>
                <a:cubicBezTo>
                  <a:pt x="11700" y="13055"/>
                  <a:pt x="11712" y="13172"/>
                  <a:pt x="11733" y="13171"/>
                </a:cubicBezTo>
              </a:path>
              <a:path w="2556" h="919">
                <a:moveTo>
                  <a:pt x="11956" y="12799"/>
                </a:moveTo>
                <a:cubicBezTo>
                  <a:pt x="11863" y="12838"/>
                  <a:pt x="11660" y="13011"/>
                  <a:pt x="11807" y="13146"/>
                </a:cubicBezTo>
                <a:cubicBezTo>
                  <a:pt x="11941" y="13269"/>
                  <a:pt x="12139" y="13072"/>
                  <a:pt x="12030" y="12923"/>
                </a:cubicBezTo>
                <a:cubicBezTo>
                  <a:pt x="11999" y="12881"/>
                  <a:pt x="11928" y="12858"/>
                  <a:pt x="11881" y="12849"/>
                </a:cubicBezTo>
              </a:path>
              <a:path w="2556" h="919">
                <a:moveTo>
                  <a:pt x="12129" y="12824"/>
                </a:moveTo>
                <a:cubicBezTo>
                  <a:pt x="12157" y="12896"/>
                  <a:pt x="12202" y="13090"/>
                  <a:pt x="12303" y="13097"/>
                </a:cubicBezTo>
                <a:cubicBezTo>
                  <a:pt x="12382" y="13103"/>
                  <a:pt x="12374" y="12909"/>
                  <a:pt x="12378" y="12874"/>
                </a:cubicBezTo>
                <a:cubicBezTo>
                  <a:pt x="12378" y="12857"/>
                  <a:pt x="12378" y="12841"/>
                  <a:pt x="12378" y="12824"/>
                </a:cubicBezTo>
                <a:cubicBezTo>
                  <a:pt x="12355" y="12939"/>
                  <a:pt x="12336" y="13037"/>
                  <a:pt x="12477" y="13097"/>
                </a:cubicBezTo>
                <a:cubicBezTo>
                  <a:pt x="12657" y="13174"/>
                  <a:pt x="12679" y="12945"/>
                  <a:pt x="12626" y="12849"/>
                </a:cubicBezTo>
                <a:cubicBezTo>
                  <a:pt x="12593" y="12816"/>
                  <a:pt x="12576" y="12799"/>
                  <a:pt x="12551" y="12774"/>
                </a:cubicBezTo>
              </a:path>
              <a:path w="2556" h="919">
                <a:moveTo>
                  <a:pt x="12799" y="12849"/>
                </a:moveTo>
                <a:cubicBezTo>
                  <a:pt x="12853" y="12849"/>
                  <a:pt x="12872" y="12843"/>
                  <a:pt x="12923" y="12824"/>
                </a:cubicBezTo>
                <a:cubicBezTo>
                  <a:pt x="12832" y="12778"/>
                  <a:pt x="12746" y="12717"/>
                  <a:pt x="12700" y="12874"/>
                </a:cubicBezTo>
                <a:cubicBezTo>
                  <a:pt x="12645" y="13060"/>
                  <a:pt x="12844" y="13151"/>
                  <a:pt x="12998" y="13097"/>
                </a:cubicBezTo>
                <a:cubicBezTo>
                  <a:pt x="13031" y="13072"/>
                  <a:pt x="13064" y="13047"/>
                  <a:pt x="13097" y="13022"/>
                </a:cubicBezTo>
              </a:path>
              <a:path w="2556" h="919">
                <a:moveTo>
                  <a:pt x="13122" y="12799"/>
                </a:moveTo>
                <a:cubicBezTo>
                  <a:pt x="13136" y="12883"/>
                  <a:pt x="13168" y="12965"/>
                  <a:pt x="13196" y="13047"/>
                </a:cubicBezTo>
                <a:cubicBezTo>
                  <a:pt x="13196" y="12938"/>
                  <a:pt x="13190" y="12870"/>
                  <a:pt x="13246" y="12774"/>
                </a:cubicBezTo>
                <a:cubicBezTo>
                  <a:pt x="13287" y="12734"/>
                  <a:pt x="13317" y="12721"/>
                  <a:pt x="13370" y="12725"/>
                </a:cubicBezTo>
              </a:path>
              <a:path w="2556" h="919">
                <a:moveTo>
                  <a:pt x="13543" y="12650"/>
                </a:moveTo>
                <a:cubicBezTo>
                  <a:pt x="13494" y="12700"/>
                  <a:pt x="13477" y="12717"/>
                  <a:pt x="13444" y="12750"/>
                </a:cubicBezTo>
                <a:cubicBezTo>
                  <a:pt x="13473" y="12864"/>
                  <a:pt x="13641" y="12790"/>
                  <a:pt x="13717" y="12874"/>
                </a:cubicBezTo>
                <a:cubicBezTo>
                  <a:pt x="13846" y="13015"/>
                  <a:pt x="13529" y="13056"/>
                  <a:pt x="13469" y="1304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688000" y="4483080"/>
            <a:ext cx="1519200" cy="401760"/>
          </a:xfrm>
          <a:custGeom>
            <a:avLst/>
            <a:gdLst/>
            <a:ahLst/>
            <a:rect l="l" t="t" r="r" b="b"/>
            <a:pathLst>
              <a:path w="4217" h="1117">
                <a:moveTo>
                  <a:pt x="16173" y="12551"/>
                </a:moveTo>
                <a:cubicBezTo>
                  <a:pt x="15993" y="12574"/>
                  <a:pt x="15824" y="12724"/>
                  <a:pt x="15801" y="12923"/>
                </a:cubicBezTo>
                <a:cubicBezTo>
                  <a:pt x="15817" y="12973"/>
                  <a:pt x="15834" y="13022"/>
                  <a:pt x="15850" y="13072"/>
                </a:cubicBezTo>
                <a:cubicBezTo>
                  <a:pt x="16114" y="13143"/>
                  <a:pt x="16415" y="13089"/>
                  <a:pt x="16321" y="12700"/>
                </a:cubicBezTo>
                <a:cubicBezTo>
                  <a:pt x="16276" y="12515"/>
                  <a:pt x="16164" y="12536"/>
                  <a:pt x="16024" y="12526"/>
                </a:cubicBezTo>
              </a:path>
              <a:path w="4217" h="1117">
                <a:moveTo>
                  <a:pt x="16545" y="12849"/>
                </a:moveTo>
                <a:cubicBezTo>
                  <a:pt x="16558" y="12923"/>
                  <a:pt x="16581" y="13047"/>
                  <a:pt x="16570" y="12973"/>
                </a:cubicBezTo>
                <a:cubicBezTo>
                  <a:pt x="16548" y="12827"/>
                  <a:pt x="16516" y="12563"/>
                  <a:pt x="16743" y="12551"/>
                </a:cubicBezTo>
                <a:cubicBezTo>
                  <a:pt x="16869" y="12576"/>
                  <a:pt x="16913" y="12586"/>
                  <a:pt x="16991" y="12626"/>
                </a:cubicBezTo>
              </a:path>
              <a:path w="4217" h="1117">
                <a:moveTo>
                  <a:pt x="17239" y="12626"/>
                </a:moveTo>
                <a:cubicBezTo>
                  <a:pt x="17251" y="12758"/>
                  <a:pt x="17282" y="12895"/>
                  <a:pt x="17314" y="13022"/>
                </a:cubicBezTo>
                <a:cubicBezTo>
                  <a:pt x="17314" y="13014"/>
                  <a:pt x="17314" y="13006"/>
                  <a:pt x="17314" y="12998"/>
                </a:cubicBezTo>
              </a:path>
              <a:path w="4217" h="1117">
                <a:moveTo>
                  <a:pt x="17959" y="12774"/>
                </a:moveTo>
                <a:cubicBezTo>
                  <a:pt x="17926" y="12643"/>
                  <a:pt x="17798" y="12602"/>
                  <a:pt x="17686" y="12725"/>
                </a:cubicBezTo>
                <a:cubicBezTo>
                  <a:pt x="17599" y="12877"/>
                  <a:pt x="17561" y="12911"/>
                  <a:pt x="17611" y="13022"/>
                </a:cubicBezTo>
                <a:cubicBezTo>
                  <a:pt x="17836" y="13022"/>
                  <a:pt x="17845" y="12969"/>
                  <a:pt x="17909" y="12750"/>
                </a:cubicBezTo>
                <a:cubicBezTo>
                  <a:pt x="18004" y="12947"/>
                  <a:pt x="18238" y="13320"/>
                  <a:pt x="18008" y="13519"/>
                </a:cubicBezTo>
                <a:cubicBezTo>
                  <a:pt x="17796" y="13703"/>
                  <a:pt x="17666" y="13465"/>
                  <a:pt x="17562" y="13345"/>
                </a:cubicBezTo>
              </a:path>
              <a:path w="4217" h="1117">
                <a:moveTo>
                  <a:pt x="18430" y="12551"/>
                </a:moveTo>
                <a:cubicBezTo>
                  <a:pt x="18434" y="12631"/>
                  <a:pt x="18455" y="13021"/>
                  <a:pt x="18455" y="12923"/>
                </a:cubicBezTo>
              </a:path>
              <a:path w="4217" h="1117">
                <a:moveTo>
                  <a:pt x="18728" y="12700"/>
                </a:moveTo>
                <a:cubicBezTo>
                  <a:pt x="18768" y="12800"/>
                  <a:pt x="18772" y="12818"/>
                  <a:pt x="18802" y="12874"/>
                </a:cubicBezTo>
                <a:cubicBezTo>
                  <a:pt x="18785" y="12759"/>
                  <a:pt x="18752" y="12573"/>
                  <a:pt x="18852" y="12477"/>
                </a:cubicBezTo>
                <a:cubicBezTo>
                  <a:pt x="19058" y="12279"/>
                  <a:pt x="19178" y="12743"/>
                  <a:pt x="19199" y="12849"/>
                </a:cubicBezTo>
                <a:cubicBezTo>
                  <a:pt x="19199" y="12865"/>
                  <a:pt x="19199" y="12882"/>
                  <a:pt x="19199" y="12898"/>
                </a:cubicBezTo>
              </a:path>
              <a:path w="4217" h="1117">
                <a:moveTo>
                  <a:pt x="19621" y="12576"/>
                </a:moveTo>
                <a:cubicBezTo>
                  <a:pt x="19602" y="12407"/>
                  <a:pt x="19471" y="12399"/>
                  <a:pt x="19348" y="12551"/>
                </a:cubicBezTo>
                <a:cubicBezTo>
                  <a:pt x="19169" y="12772"/>
                  <a:pt x="19398" y="13115"/>
                  <a:pt x="19596" y="12898"/>
                </a:cubicBezTo>
                <a:cubicBezTo>
                  <a:pt x="19637" y="12776"/>
                  <a:pt x="19653" y="12753"/>
                  <a:pt x="19645" y="12675"/>
                </a:cubicBezTo>
                <a:cubicBezTo>
                  <a:pt x="19674" y="12775"/>
                  <a:pt x="19768" y="12979"/>
                  <a:pt x="19918" y="12898"/>
                </a:cubicBezTo>
                <a:cubicBezTo>
                  <a:pt x="19951" y="12857"/>
                  <a:pt x="19984" y="12815"/>
                  <a:pt x="20017" y="12774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85880" y="4822920"/>
            <a:ext cx="1376280" cy="473040"/>
          </a:xfrm>
          <a:custGeom>
            <a:avLst/>
            <a:gdLst/>
            <a:ahLst/>
            <a:rect l="l" t="t" r="r" b="b"/>
            <a:pathLst>
              <a:path w="3821" h="1315">
                <a:moveTo>
                  <a:pt x="2183" y="13444"/>
                </a:moveTo>
                <a:cubicBezTo>
                  <a:pt x="2457" y="13444"/>
                  <a:pt x="2727" y="13393"/>
                  <a:pt x="3001" y="13395"/>
                </a:cubicBezTo>
                <a:cubicBezTo>
                  <a:pt x="3219" y="13397"/>
                  <a:pt x="3430" y="13444"/>
                  <a:pt x="3646" y="13444"/>
                </a:cubicBezTo>
              </a:path>
              <a:path w="3821" h="1315">
                <a:moveTo>
                  <a:pt x="2704" y="13667"/>
                </a:moveTo>
                <a:cubicBezTo>
                  <a:pt x="2717" y="13718"/>
                  <a:pt x="2729" y="13714"/>
                  <a:pt x="2729" y="13767"/>
                </a:cubicBezTo>
                <a:cubicBezTo>
                  <a:pt x="2782" y="13592"/>
                  <a:pt x="2807" y="13662"/>
                  <a:pt x="2977" y="13643"/>
                </a:cubicBezTo>
                <a:cubicBezTo>
                  <a:pt x="3102" y="13622"/>
                  <a:pt x="3129" y="13621"/>
                  <a:pt x="3200" y="13593"/>
                </a:cubicBezTo>
                <a:cubicBezTo>
                  <a:pt x="3148" y="13801"/>
                  <a:pt x="3070" y="14003"/>
                  <a:pt x="3026" y="14213"/>
                </a:cubicBezTo>
                <a:cubicBezTo>
                  <a:pt x="3018" y="14253"/>
                  <a:pt x="3022" y="14253"/>
                  <a:pt x="3051" y="14263"/>
                </a:cubicBezTo>
              </a:path>
              <a:path w="3821" h="1315">
                <a:moveTo>
                  <a:pt x="4589" y="14163"/>
                </a:moveTo>
                <a:cubicBezTo>
                  <a:pt x="4557" y="14052"/>
                  <a:pt x="4463" y="13910"/>
                  <a:pt x="4316" y="13940"/>
                </a:cubicBezTo>
                <a:cubicBezTo>
                  <a:pt x="4115" y="13982"/>
                  <a:pt x="4118" y="14163"/>
                  <a:pt x="4093" y="14312"/>
                </a:cubicBezTo>
                <a:cubicBezTo>
                  <a:pt x="4391" y="14369"/>
                  <a:pt x="4417" y="14272"/>
                  <a:pt x="4490" y="13990"/>
                </a:cubicBezTo>
              </a:path>
              <a:path w="3821" h="1315">
                <a:moveTo>
                  <a:pt x="4415" y="13618"/>
                </a:moveTo>
                <a:cubicBezTo>
                  <a:pt x="4489" y="13838"/>
                  <a:pt x="4546" y="14056"/>
                  <a:pt x="4564" y="14288"/>
                </a:cubicBezTo>
                <a:cubicBezTo>
                  <a:pt x="4564" y="14321"/>
                  <a:pt x="4573" y="14329"/>
                  <a:pt x="4614" y="14312"/>
                </a:cubicBezTo>
              </a:path>
              <a:path w="3821" h="1315">
                <a:moveTo>
                  <a:pt x="5110" y="14114"/>
                </a:moveTo>
                <a:cubicBezTo>
                  <a:pt x="5063" y="14027"/>
                  <a:pt x="4963" y="13898"/>
                  <a:pt x="4837" y="13990"/>
                </a:cubicBezTo>
                <a:cubicBezTo>
                  <a:pt x="4741" y="14060"/>
                  <a:pt x="4627" y="14387"/>
                  <a:pt x="4862" y="14312"/>
                </a:cubicBezTo>
                <a:cubicBezTo>
                  <a:pt x="4958" y="14241"/>
                  <a:pt x="4989" y="14220"/>
                  <a:pt x="5011" y="14139"/>
                </a:cubicBezTo>
                <a:cubicBezTo>
                  <a:pt x="5011" y="14114"/>
                  <a:pt x="5011" y="14089"/>
                  <a:pt x="5011" y="14064"/>
                </a:cubicBezTo>
                <a:cubicBezTo>
                  <a:pt x="5046" y="14146"/>
                  <a:pt x="5098" y="14259"/>
                  <a:pt x="5209" y="14238"/>
                </a:cubicBezTo>
                <a:cubicBezTo>
                  <a:pt x="5217" y="14230"/>
                  <a:pt x="5226" y="14221"/>
                  <a:pt x="5234" y="14213"/>
                </a:cubicBezTo>
              </a:path>
              <a:path w="3821" h="1315">
                <a:moveTo>
                  <a:pt x="5184" y="14015"/>
                </a:moveTo>
                <a:cubicBezTo>
                  <a:pt x="5223" y="14145"/>
                  <a:pt x="5283" y="14360"/>
                  <a:pt x="5432" y="14412"/>
                </a:cubicBezTo>
                <a:cubicBezTo>
                  <a:pt x="5449" y="14404"/>
                  <a:pt x="5465" y="14395"/>
                  <a:pt x="5482" y="14387"/>
                </a:cubicBezTo>
              </a:path>
              <a:path w="3821" h="1315">
                <a:moveTo>
                  <a:pt x="5432" y="13891"/>
                </a:moveTo>
                <a:cubicBezTo>
                  <a:pt x="5448" y="14091"/>
                  <a:pt x="5457" y="14285"/>
                  <a:pt x="5457" y="14486"/>
                </a:cubicBezTo>
                <a:cubicBezTo>
                  <a:pt x="5457" y="14611"/>
                  <a:pt x="5449" y="14639"/>
                  <a:pt x="5482" y="14709"/>
                </a:cubicBezTo>
              </a:path>
              <a:path w="3821" h="1315">
                <a:moveTo>
                  <a:pt x="5829" y="13965"/>
                </a:moveTo>
                <a:cubicBezTo>
                  <a:pt x="5779" y="13998"/>
                  <a:pt x="5727" y="14041"/>
                  <a:pt x="5680" y="14064"/>
                </a:cubicBezTo>
                <a:cubicBezTo>
                  <a:pt x="5726" y="14102"/>
                  <a:pt x="6000" y="14152"/>
                  <a:pt x="6003" y="14263"/>
                </a:cubicBezTo>
                <a:cubicBezTo>
                  <a:pt x="6009" y="14471"/>
                  <a:pt x="5747" y="14402"/>
                  <a:pt x="5655" y="14362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70000" y="4813200"/>
            <a:ext cx="6527880" cy="509760"/>
          </a:xfrm>
          <a:custGeom>
            <a:avLst/>
            <a:gdLst/>
            <a:ahLst/>
            <a:rect l="l" t="t" r="r" b="b"/>
            <a:pathLst>
              <a:path w="18134" h="1415">
                <a:moveTo>
                  <a:pt x="19397" y="13568"/>
                </a:moveTo>
                <a:cubicBezTo>
                  <a:pt x="19414" y="13576"/>
                  <a:pt x="19430" y="13585"/>
                  <a:pt x="19447" y="13593"/>
                </a:cubicBezTo>
              </a:path>
              <a:path w="18134" h="1415">
                <a:moveTo>
                  <a:pt x="19447" y="13593"/>
                </a:moveTo>
                <a:lnTo>
                  <a:pt x="19447" y="13593"/>
                </a:lnTo>
              </a:path>
              <a:path w="18134" h="1415">
                <a:moveTo>
                  <a:pt x="21183" y="13370"/>
                </a:moveTo>
                <a:cubicBezTo>
                  <a:pt x="21225" y="13642"/>
                  <a:pt x="21273" y="13885"/>
                  <a:pt x="21382" y="14139"/>
                </a:cubicBezTo>
              </a:path>
              <a:path w="18134" h="1415">
                <a:moveTo>
                  <a:pt x="3373" y="14213"/>
                </a:moveTo>
                <a:cubicBezTo>
                  <a:pt x="3365" y="14213"/>
                  <a:pt x="3357" y="14213"/>
                  <a:pt x="3349" y="14213"/>
                </a:cubicBezTo>
              </a:path>
              <a:path w="18134" h="1415">
                <a:moveTo>
                  <a:pt x="3249" y="14784"/>
                </a:moveTo>
                <a:cubicBezTo>
                  <a:pt x="3257" y="14784"/>
                  <a:pt x="3266" y="14784"/>
                  <a:pt x="3274" y="14784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5180040"/>
            <a:ext cx="223920" cy="214200"/>
          </a:xfrm>
          <a:custGeom>
            <a:avLst/>
            <a:gdLst/>
            <a:ahLst/>
            <a:rect l="l" t="t" r="r" b="b"/>
            <a:pathLst>
              <a:path w="621" h="596">
                <a:moveTo>
                  <a:pt x="3175" y="14387"/>
                </a:moveTo>
                <a:cubicBezTo>
                  <a:pt x="3267" y="14435"/>
                  <a:pt x="3357" y="14486"/>
                  <a:pt x="3448" y="14536"/>
                </a:cubicBezTo>
              </a:path>
              <a:path w="621" h="596">
                <a:moveTo>
                  <a:pt x="3597" y="14511"/>
                </a:moveTo>
                <a:cubicBezTo>
                  <a:pt x="3673" y="14470"/>
                  <a:pt x="3707" y="14449"/>
                  <a:pt x="3795" y="14436"/>
                </a:cubicBezTo>
                <a:cubicBezTo>
                  <a:pt x="3795" y="14608"/>
                  <a:pt x="3753" y="14819"/>
                  <a:pt x="3770" y="14982"/>
                </a:cubicBezTo>
                <a:cubicBezTo>
                  <a:pt x="3803" y="14982"/>
                  <a:pt x="3812" y="14974"/>
                  <a:pt x="3795" y="14932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30920" y="4848120"/>
            <a:ext cx="2357280" cy="358920"/>
          </a:xfrm>
          <a:custGeom>
            <a:avLst/>
            <a:gdLst/>
            <a:ahLst/>
            <a:rect l="l" t="t" r="r" b="b"/>
            <a:pathLst>
              <a:path w="6550" h="993">
                <a:moveTo>
                  <a:pt x="16545" y="14114"/>
                </a:moveTo>
                <a:cubicBezTo>
                  <a:pt x="16654" y="14041"/>
                  <a:pt x="16503" y="13906"/>
                  <a:pt x="16446" y="13841"/>
                </a:cubicBezTo>
                <a:cubicBezTo>
                  <a:pt x="16187" y="14032"/>
                  <a:pt x="16170" y="14175"/>
                  <a:pt x="16297" y="14461"/>
                </a:cubicBezTo>
                <a:cubicBezTo>
                  <a:pt x="16593" y="14404"/>
                  <a:pt x="16541" y="14412"/>
                  <a:pt x="16644" y="14114"/>
                </a:cubicBezTo>
              </a:path>
              <a:path w="6550" h="993">
                <a:moveTo>
                  <a:pt x="16520" y="13618"/>
                </a:moveTo>
                <a:cubicBezTo>
                  <a:pt x="16571" y="13846"/>
                  <a:pt x="16608" y="14084"/>
                  <a:pt x="16669" y="14312"/>
                </a:cubicBezTo>
                <a:cubicBezTo>
                  <a:pt x="16694" y="14362"/>
                  <a:pt x="16702" y="14379"/>
                  <a:pt x="16718" y="14312"/>
                </a:cubicBezTo>
              </a:path>
              <a:path w="6550" h="993">
                <a:moveTo>
                  <a:pt x="16818" y="14064"/>
                </a:moveTo>
                <a:cubicBezTo>
                  <a:pt x="16939" y="14058"/>
                  <a:pt x="17137" y="14060"/>
                  <a:pt x="17214" y="14015"/>
                </a:cubicBezTo>
                <a:cubicBezTo>
                  <a:pt x="17109" y="13947"/>
                  <a:pt x="16848" y="13844"/>
                  <a:pt x="16793" y="14064"/>
                </a:cubicBezTo>
                <a:cubicBezTo>
                  <a:pt x="16709" y="14401"/>
                  <a:pt x="16968" y="14374"/>
                  <a:pt x="17165" y="14387"/>
                </a:cubicBezTo>
              </a:path>
              <a:path w="6550" h="993">
                <a:moveTo>
                  <a:pt x="17487" y="14064"/>
                </a:moveTo>
                <a:cubicBezTo>
                  <a:pt x="17492" y="14185"/>
                  <a:pt x="17497" y="14270"/>
                  <a:pt x="17512" y="14387"/>
                </a:cubicBezTo>
                <a:cubicBezTo>
                  <a:pt x="17494" y="14167"/>
                  <a:pt x="17468" y="14117"/>
                  <a:pt x="17587" y="13940"/>
                </a:cubicBezTo>
                <a:cubicBezTo>
                  <a:pt x="17810" y="14041"/>
                  <a:pt x="17847" y="14105"/>
                  <a:pt x="17859" y="14362"/>
                </a:cubicBezTo>
                <a:cubicBezTo>
                  <a:pt x="17859" y="14370"/>
                  <a:pt x="17859" y="14379"/>
                  <a:pt x="17859" y="14387"/>
                </a:cubicBezTo>
              </a:path>
              <a:path w="6550" h="993">
                <a:moveTo>
                  <a:pt x="18355" y="13940"/>
                </a:moveTo>
                <a:cubicBezTo>
                  <a:pt x="18179" y="13914"/>
                  <a:pt x="18066" y="13983"/>
                  <a:pt x="18033" y="14188"/>
                </a:cubicBezTo>
                <a:cubicBezTo>
                  <a:pt x="17982" y="14505"/>
                  <a:pt x="18491" y="14456"/>
                  <a:pt x="18554" y="14213"/>
                </a:cubicBezTo>
                <a:cubicBezTo>
                  <a:pt x="18593" y="14062"/>
                  <a:pt x="18396" y="13998"/>
                  <a:pt x="18306" y="13940"/>
                </a:cubicBezTo>
              </a:path>
              <a:path w="6550" h="993">
                <a:moveTo>
                  <a:pt x="18703" y="14039"/>
                </a:moveTo>
                <a:cubicBezTo>
                  <a:pt x="18707" y="14052"/>
                  <a:pt x="18796" y="14395"/>
                  <a:pt x="18752" y="14188"/>
                </a:cubicBezTo>
                <a:cubicBezTo>
                  <a:pt x="18715" y="14015"/>
                  <a:pt x="18722" y="13980"/>
                  <a:pt x="18827" y="13866"/>
                </a:cubicBezTo>
                <a:cubicBezTo>
                  <a:pt x="18942" y="13981"/>
                  <a:pt x="19000" y="14109"/>
                  <a:pt x="19000" y="14188"/>
                </a:cubicBezTo>
                <a:cubicBezTo>
                  <a:pt x="18983" y="14067"/>
                  <a:pt x="18955" y="13921"/>
                  <a:pt x="19124" y="13891"/>
                </a:cubicBezTo>
                <a:cubicBezTo>
                  <a:pt x="19315" y="13857"/>
                  <a:pt x="19335" y="14174"/>
                  <a:pt x="19348" y="14288"/>
                </a:cubicBezTo>
              </a:path>
              <a:path w="6550" h="993">
                <a:moveTo>
                  <a:pt x="19422" y="13891"/>
                </a:moveTo>
                <a:cubicBezTo>
                  <a:pt x="19422" y="14044"/>
                  <a:pt x="19473" y="14135"/>
                  <a:pt x="19546" y="14263"/>
                </a:cubicBezTo>
                <a:cubicBezTo>
                  <a:pt x="19811" y="14216"/>
                  <a:pt x="19768" y="14130"/>
                  <a:pt x="19869" y="13915"/>
                </a:cubicBezTo>
                <a:cubicBezTo>
                  <a:pt x="19915" y="13817"/>
                  <a:pt x="19869" y="14080"/>
                  <a:pt x="19869" y="14188"/>
                </a:cubicBezTo>
                <a:cubicBezTo>
                  <a:pt x="19845" y="14020"/>
                  <a:pt x="19861" y="13963"/>
                  <a:pt x="19943" y="13816"/>
                </a:cubicBezTo>
                <a:cubicBezTo>
                  <a:pt x="20168" y="13816"/>
                  <a:pt x="20244" y="13935"/>
                  <a:pt x="20315" y="14163"/>
                </a:cubicBezTo>
                <a:cubicBezTo>
                  <a:pt x="20315" y="14213"/>
                  <a:pt x="20315" y="14230"/>
                  <a:pt x="20265" y="14213"/>
                </a:cubicBezTo>
              </a:path>
              <a:path w="6550" h="993">
                <a:moveTo>
                  <a:pt x="20836" y="13965"/>
                </a:moveTo>
                <a:cubicBezTo>
                  <a:pt x="20812" y="13823"/>
                  <a:pt x="20795" y="13800"/>
                  <a:pt x="20687" y="13717"/>
                </a:cubicBezTo>
                <a:cubicBezTo>
                  <a:pt x="20594" y="13781"/>
                  <a:pt x="20225" y="14196"/>
                  <a:pt x="20588" y="14213"/>
                </a:cubicBezTo>
                <a:cubicBezTo>
                  <a:pt x="20788" y="14222"/>
                  <a:pt x="20793" y="14013"/>
                  <a:pt x="20811" y="13891"/>
                </a:cubicBezTo>
                <a:cubicBezTo>
                  <a:pt x="20811" y="13999"/>
                  <a:pt x="20850" y="14156"/>
                  <a:pt x="20985" y="14163"/>
                </a:cubicBezTo>
                <a:cubicBezTo>
                  <a:pt x="21137" y="14103"/>
                  <a:pt x="21191" y="14060"/>
                  <a:pt x="21208" y="13915"/>
                </a:cubicBezTo>
              </a:path>
              <a:path w="6550" h="993">
                <a:moveTo>
                  <a:pt x="20960" y="13692"/>
                </a:moveTo>
                <a:cubicBezTo>
                  <a:pt x="21243" y="13686"/>
                  <a:pt x="21521" y="13663"/>
                  <a:pt x="21803" y="13643"/>
                </a:cubicBezTo>
                <a:cubicBezTo>
                  <a:pt x="21803" y="13751"/>
                  <a:pt x="21781" y="13889"/>
                  <a:pt x="21828" y="13990"/>
                </a:cubicBezTo>
                <a:cubicBezTo>
                  <a:pt x="21853" y="14015"/>
                  <a:pt x="21878" y="14039"/>
                  <a:pt x="21903" y="14064"/>
                </a:cubicBezTo>
                <a:cubicBezTo>
                  <a:pt x="22070" y="14001"/>
                  <a:pt x="22230" y="13907"/>
                  <a:pt x="22151" y="13692"/>
                </a:cubicBezTo>
                <a:cubicBezTo>
                  <a:pt x="22088" y="13521"/>
                  <a:pt x="21894" y="13551"/>
                  <a:pt x="21828" y="13643"/>
                </a:cubicBezTo>
              </a:path>
              <a:path w="6550" h="993">
                <a:moveTo>
                  <a:pt x="22275" y="13643"/>
                </a:moveTo>
                <a:cubicBezTo>
                  <a:pt x="22310" y="13731"/>
                  <a:pt x="22351" y="13825"/>
                  <a:pt x="22374" y="13915"/>
                </a:cubicBezTo>
                <a:cubicBezTo>
                  <a:pt x="22351" y="13732"/>
                  <a:pt x="22324" y="13658"/>
                  <a:pt x="22498" y="13543"/>
                </a:cubicBezTo>
                <a:cubicBezTo>
                  <a:pt x="22567" y="13498"/>
                  <a:pt x="22667" y="13480"/>
                  <a:pt x="22746" y="13469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41280" y="6688080"/>
            <a:ext cx="1800" cy="19080"/>
          </a:xfrm>
          <a:custGeom>
            <a:avLst/>
            <a:gdLst/>
            <a:ahLst/>
            <a:rect l="l" t="t" r="r" b="b"/>
            <a:pathLst>
              <a:path w="1" h="50">
                <a:moveTo>
                  <a:pt x="3448" y="18579"/>
                </a:moveTo>
                <a:cubicBezTo>
                  <a:pt x="3448" y="18604"/>
                  <a:pt x="3448" y="18612"/>
                  <a:pt x="3448" y="18628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97760" y="2098800"/>
            <a:ext cx="2224080" cy="1116000"/>
          </a:xfrm>
          <a:custGeom>
            <a:avLst/>
            <a:gdLst/>
            <a:ahLst/>
            <a:rect l="l" t="t" r="r" b="b"/>
            <a:pathLst>
              <a:path w="6178" h="3102">
                <a:moveTo>
                  <a:pt x="18331" y="6474"/>
                </a:moveTo>
                <a:cubicBezTo>
                  <a:pt x="18307" y="6424"/>
                  <a:pt x="18322" y="6344"/>
                  <a:pt x="18281" y="6300"/>
                </a:cubicBezTo>
                <a:cubicBezTo>
                  <a:pt x="18200" y="6212"/>
                  <a:pt x="18159" y="6215"/>
                  <a:pt x="18033" y="6201"/>
                </a:cubicBezTo>
                <a:cubicBezTo>
                  <a:pt x="17903" y="6186"/>
                  <a:pt x="17769" y="6200"/>
                  <a:pt x="17661" y="6276"/>
                </a:cubicBezTo>
                <a:cubicBezTo>
                  <a:pt x="17496" y="6393"/>
                  <a:pt x="17404" y="6564"/>
                  <a:pt x="17338" y="6747"/>
                </a:cubicBezTo>
                <a:cubicBezTo>
                  <a:pt x="17283" y="6899"/>
                  <a:pt x="17250" y="7085"/>
                  <a:pt x="17239" y="7243"/>
                </a:cubicBezTo>
                <a:cubicBezTo>
                  <a:pt x="17229" y="7392"/>
                  <a:pt x="17219" y="7540"/>
                  <a:pt x="17214" y="7689"/>
                </a:cubicBezTo>
                <a:cubicBezTo>
                  <a:pt x="17209" y="7827"/>
                  <a:pt x="17213" y="7977"/>
                  <a:pt x="17239" y="8111"/>
                </a:cubicBezTo>
                <a:cubicBezTo>
                  <a:pt x="17263" y="8237"/>
                  <a:pt x="17305" y="8369"/>
                  <a:pt x="17363" y="8483"/>
                </a:cubicBezTo>
                <a:cubicBezTo>
                  <a:pt x="17440" y="8634"/>
                  <a:pt x="17534" y="8669"/>
                  <a:pt x="17686" y="8731"/>
                </a:cubicBezTo>
                <a:cubicBezTo>
                  <a:pt x="17928" y="8830"/>
                  <a:pt x="18197" y="8849"/>
                  <a:pt x="18455" y="8880"/>
                </a:cubicBezTo>
                <a:cubicBezTo>
                  <a:pt x="18759" y="8916"/>
                  <a:pt x="19042" y="8926"/>
                  <a:pt x="19348" y="8905"/>
                </a:cubicBezTo>
                <a:cubicBezTo>
                  <a:pt x="19647" y="8885"/>
                  <a:pt x="19943" y="8861"/>
                  <a:pt x="20241" y="8830"/>
                </a:cubicBezTo>
                <a:cubicBezTo>
                  <a:pt x="20564" y="8797"/>
                  <a:pt x="20885" y="8785"/>
                  <a:pt x="21208" y="8756"/>
                </a:cubicBezTo>
                <a:cubicBezTo>
                  <a:pt x="21635" y="8717"/>
                  <a:pt x="22079" y="8699"/>
                  <a:pt x="22498" y="8607"/>
                </a:cubicBezTo>
                <a:cubicBezTo>
                  <a:pt x="22663" y="8571"/>
                  <a:pt x="22850" y="8500"/>
                  <a:pt x="22994" y="8409"/>
                </a:cubicBezTo>
                <a:cubicBezTo>
                  <a:pt x="23124" y="8327"/>
                  <a:pt x="23232" y="8229"/>
                  <a:pt x="23292" y="8086"/>
                </a:cubicBezTo>
                <a:cubicBezTo>
                  <a:pt x="23349" y="7949"/>
                  <a:pt x="23355" y="7784"/>
                  <a:pt x="23366" y="7640"/>
                </a:cubicBezTo>
                <a:cubicBezTo>
                  <a:pt x="23380" y="7450"/>
                  <a:pt x="23417" y="7236"/>
                  <a:pt x="23391" y="7045"/>
                </a:cubicBezTo>
                <a:cubicBezTo>
                  <a:pt x="23369" y="6883"/>
                  <a:pt x="23355" y="6705"/>
                  <a:pt x="23316" y="6548"/>
                </a:cubicBezTo>
                <a:cubicBezTo>
                  <a:pt x="23285" y="6425"/>
                  <a:pt x="23240" y="6258"/>
                  <a:pt x="23168" y="6152"/>
                </a:cubicBezTo>
                <a:cubicBezTo>
                  <a:pt x="23075" y="6015"/>
                  <a:pt x="22930" y="5927"/>
                  <a:pt x="22771" y="5879"/>
                </a:cubicBezTo>
                <a:cubicBezTo>
                  <a:pt x="22567" y="5818"/>
                  <a:pt x="22362" y="5829"/>
                  <a:pt x="22151" y="5829"/>
                </a:cubicBezTo>
                <a:cubicBezTo>
                  <a:pt x="21940" y="5829"/>
                  <a:pt x="21738" y="5873"/>
                  <a:pt x="21530" y="5904"/>
                </a:cubicBezTo>
                <a:cubicBezTo>
                  <a:pt x="21320" y="5935"/>
                  <a:pt x="21122" y="5999"/>
                  <a:pt x="20910" y="6028"/>
                </a:cubicBezTo>
                <a:cubicBezTo>
                  <a:pt x="20631" y="6067"/>
                  <a:pt x="20348" y="6090"/>
                  <a:pt x="20067" y="6102"/>
                </a:cubicBezTo>
                <a:cubicBezTo>
                  <a:pt x="19837" y="6112"/>
                  <a:pt x="19601" y="6107"/>
                  <a:pt x="19372" y="6127"/>
                </a:cubicBezTo>
                <a:cubicBezTo>
                  <a:pt x="19124" y="6149"/>
                  <a:pt x="18876" y="6156"/>
                  <a:pt x="18628" y="6176"/>
                </a:cubicBezTo>
                <a:cubicBezTo>
                  <a:pt x="18479" y="6188"/>
                  <a:pt x="18331" y="6190"/>
                  <a:pt x="18182" y="6201"/>
                </a:cubicBezTo>
                <a:cubicBezTo>
                  <a:pt x="18066" y="6209"/>
                  <a:pt x="17948" y="6233"/>
                  <a:pt x="17835" y="6251"/>
                </a:cubicBezTo>
                <a:cubicBezTo>
                  <a:pt x="17794" y="6258"/>
                  <a:pt x="17773" y="6268"/>
                  <a:pt x="17735" y="627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Objective:  Students will distinguish between rate and unit rate.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) Write the Space Station’s average rate o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 unit rat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e writing unit rate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838080" y="2286000"/>
          <a:ext cx="101628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0"/>
                    <a:ext cx="10162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90400" y="4267080"/>
          <a:ext cx="1613160" cy="96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4267080"/>
                    <a:ext cx="161316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4343400" y="4267080"/>
          <a:ext cx="2540160" cy="104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4267080"/>
                    <a:ext cx="25401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6375240" y="2276640"/>
            <a:ext cx="1598760" cy="98280"/>
          </a:xfrm>
          <a:custGeom>
            <a:avLst/>
            <a:gdLst/>
            <a:ahLst/>
            <a:rect l="l" t="t" r="r" b="b"/>
            <a:pathLst>
              <a:path w="4441" h="274">
                <a:moveTo>
                  <a:pt x="17735" y="6598"/>
                </a:moveTo>
                <a:cubicBezTo>
                  <a:pt x="17727" y="6598"/>
                  <a:pt x="17719" y="6598"/>
                  <a:pt x="17711" y="6598"/>
                </a:cubicBezTo>
              </a:path>
              <a:path w="4441" h="274">
                <a:moveTo>
                  <a:pt x="22151" y="6325"/>
                </a:moveTo>
                <a:lnTo>
                  <a:pt x="22151" y="6325"/>
                </a:ln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86280" y="2178000"/>
            <a:ext cx="652680" cy="411120"/>
          </a:xfrm>
          <a:custGeom>
            <a:avLst/>
            <a:gdLst/>
            <a:ahLst/>
            <a:rect l="l" t="t" r="r" b="b"/>
            <a:pathLst>
              <a:path w="1812" h="1142">
                <a:moveTo>
                  <a:pt x="16073" y="6672"/>
                </a:moveTo>
                <a:cubicBezTo>
                  <a:pt x="16106" y="6849"/>
                  <a:pt x="16148" y="7019"/>
                  <a:pt x="16197" y="7193"/>
                </a:cubicBezTo>
              </a:path>
              <a:path w="1812" h="1142">
                <a:moveTo>
                  <a:pt x="16694" y="6474"/>
                </a:moveTo>
                <a:cubicBezTo>
                  <a:pt x="16605" y="6501"/>
                  <a:pt x="16465" y="6574"/>
                  <a:pt x="16396" y="6648"/>
                </a:cubicBezTo>
                <a:cubicBezTo>
                  <a:pt x="16396" y="6697"/>
                  <a:pt x="16396" y="6731"/>
                  <a:pt x="16396" y="6772"/>
                </a:cubicBezTo>
                <a:cubicBezTo>
                  <a:pt x="16447" y="6788"/>
                  <a:pt x="16506" y="6774"/>
                  <a:pt x="16594" y="6772"/>
                </a:cubicBezTo>
                <a:cubicBezTo>
                  <a:pt x="16740" y="6768"/>
                  <a:pt x="16891" y="6926"/>
                  <a:pt x="16718" y="7045"/>
                </a:cubicBezTo>
                <a:cubicBezTo>
                  <a:pt x="16628" y="7107"/>
                  <a:pt x="16513" y="7113"/>
                  <a:pt x="16421" y="7094"/>
                </a:cubicBezTo>
              </a:path>
              <a:path w="1812" h="1142">
                <a:moveTo>
                  <a:pt x="17016" y="6921"/>
                </a:moveTo>
                <a:cubicBezTo>
                  <a:pt x="17042" y="6991"/>
                  <a:pt x="17084" y="7070"/>
                  <a:pt x="17115" y="7144"/>
                </a:cubicBezTo>
                <a:cubicBezTo>
                  <a:pt x="17064" y="7058"/>
                  <a:pt x="17112" y="6966"/>
                  <a:pt x="17140" y="6871"/>
                </a:cubicBezTo>
                <a:cubicBezTo>
                  <a:pt x="17293" y="6897"/>
                  <a:pt x="17316" y="6971"/>
                  <a:pt x="17413" y="7069"/>
                </a:cubicBezTo>
                <a:cubicBezTo>
                  <a:pt x="17413" y="7061"/>
                  <a:pt x="17413" y="7053"/>
                  <a:pt x="17413" y="7045"/>
                </a:cubicBezTo>
                <a:cubicBezTo>
                  <a:pt x="17419" y="7014"/>
                  <a:pt x="17466" y="6800"/>
                  <a:pt x="17537" y="6846"/>
                </a:cubicBezTo>
                <a:cubicBezTo>
                  <a:pt x="17648" y="6919"/>
                  <a:pt x="17666" y="7057"/>
                  <a:pt x="17711" y="7169"/>
                </a:cubicBezTo>
              </a:path>
              <a:path w="1812" h="1142">
                <a:moveTo>
                  <a:pt x="17835" y="6871"/>
                </a:moveTo>
                <a:cubicBezTo>
                  <a:pt x="17861" y="6937"/>
                  <a:pt x="17875" y="6957"/>
                  <a:pt x="17884" y="7020"/>
                </a:cubicBezTo>
              </a:path>
              <a:path w="1812" h="1142">
                <a:moveTo>
                  <a:pt x="16966" y="6375"/>
                </a:moveTo>
                <a:cubicBezTo>
                  <a:pt x="16998" y="6295"/>
                  <a:pt x="17061" y="6286"/>
                  <a:pt x="17140" y="6251"/>
                </a:cubicBezTo>
              </a:path>
              <a:path w="1812" h="1142">
                <a:moveTo>
                  <a:pt x="17289" y="6152"/>
                </a:moveTo>
                <a:cubicBezTo>
                  <a:pt x="17331" y="6088"/>
                  <a:pt x="17455" y="6001"/>
                  <a:pt x="17462" y="6077"/>
                </a:cubicBezTo>
                <a:cubicBezTo>
                  <a:pt x="17440" y="6166"/>
                  <a:pt x="17440" y="6192"/>
                  <a:pt x="17388" y="6226"/>
                </a:cubicBezTo>
                <a:cubicBezTo>
                  <a:pt x="17457" y="6226"/>
                  <a:pt x="17546" y="6218"/>
                  <a:pt x="17512" y="6325"/>
                </a:cubicBezTo>
                <a:cubicBezTo>
                  <a:pt x="17483" y="6414"/>
                  <a:pt x="17422" y="6434"/>
                  <a:pt x="17363" y="6424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53200" y="2081160"/>
            <a:ext cx="1312920" cy="1000080"/>
          </a:xfrm>
          <a:custGeom>
            <a:avLst/>
            <a:gdLst/>
            <a:ahLst/>
            <a:rect l="l" t="t" r="r" b="b"/>
            <a:pathLst>
              <a:path w="3647" h="2780">
                <a:moveTo>
                  <a:pt x="20513" y="5978"/>
                </a:moveTo>
                <a:cubicBezTo>
                  <a:pt x="20376" y="5961"/>
                  <a:pt x="20305" y="5959"/>
                  <a:pt x="20166" y="6052"/>
                </a:cubicBezTo>
                <a:cubicBezTo>
                  <a:pt x="19983" y="6175"/>
                  <a:pt x="19781" y="6410"/>
                  <a:pt x="19893" y="6648"/>
                </a:cubicBezTo>
                <a:cubicBezTo>
                  <a:pt x="19965" y="6800"/>
                  <a:pt x="20065" y="6783"/>
                  <a:pt x="20191" y="6846"/>
                </a:cubicBezTo>
                <a:cubicBezTo>
                  <a:pt x="20075" y="6971"/>
                  <a:pt x="19864" y="7149"/>
                  <a:pt x="19893" y="7342"/>
                </a:cubicBezTo>
                <a:cubicBezTo>
                  <a:pt x="19923" y="7545"/>
                  <a:pt x="20171" y="7656"/>
                  <a:pt x="20315" y="7764"/>
                </a:cubicBezTo>
                <a:cubicBezTo>
                  <a:pt x="20247" y="7879"/>
                  <a:pt x="20042" y="8053"/>
                  <a:pt x="20166" y="8186"/>
                </a:cubicBezTo>
                <a:cubicBezTo>
                  <a:pt x="20292" y="8321"/>
                  <a:pt x="20623" y="8336"/>
                  <a:pt x="20786" y="8310"/>
                </a:cubicBezTo>
                <a:cubicBezTo>
                  <a:pt x="20811" y="8302"/>
                  <a:pt x="20836" y="8293"/>
                  <a:pt x="20861" y="8285"/>
                </a:cubicBezTo>
                <a:cubicBezTo>
                  <a:pt x="20910" y="8441"/>
                  <a:pt x="20821" y="8474"/>
                  <a:pt x="21034" y="8533"/>
                </a:cubicBezTo>
                <a:cubicBezTo>
                  <a:pt x="21373" y="8626"/>
                  <a:pt x="21643" y="8428"/>
                  <a:pt x="21952" y="8359"/>
                </a:cubicBezTo>
                <a:cubicBezTo>
                  <a:pt x="22079" y="8331"/>
                  <a:pt x="22219" y="8392"/>
                  <a:pt x="22349" y="8384"/>
                </a:cubicBezTo>
                <a:cubicBezTo>
                  <a:pt x="22584" y="8369"/>
                  <a:pt x="22640" y="8226"/>
                  <a:pt x="22820" y="8161"/>
                </a:cubicBezTo>
                <a:cubicBezTo>
                  <a:pt x="22989" y="8100"/>
                  <a:pt x="23093" y="8164"/>
                  <a:pt x="23267" y="8037"/>
                </a:cubicBezTo>
                <a:cubicBezTo>
                  <a:pt x="23527" y="7847"/>
                  <a:pt x="23461" y="7629"/>
                  <a:pt x="23366" y="7392"/>
                </a:cubicBezTo>
                <a:cubicBezTo>
                  <a:pt x="23343" y="7369"/>
                  <a:pt x="23332" y="7361"/>
                  <a:pt x="23366" y="7367"/>
                </a:cubicBezTo>
                <a:cubicBezTo>
                  <a:pt x="23497" y="7301"/>
                  <a:pt x="23539" y="7281"/>
                  <a:pt x="23515" y="7094"/>
                </a:cubicBezTo>
                <a:cubicBezTo>
                  <a:pt x="23476" y="6794"/>
                  <a:pt x="23265" y="6754"/>
                  <a:pt x="23118" y="6548"/>
                </a:cubicBezTo>
                <a:cubicBezTo>
                  <a:pt x="23067" y="6477"/>
                  <a:pt x="23137" y="6449"/>
                  <a:pt x="23118" y="6375"/>
                </a:cubicBezTo>
                <a:cubicBezTo>
                  <a:pt x="23064" y="6169"/>
                  <a:pt x="22991" y="6041"/>
                  <a:pt x="22796" y="5953"/>
                </a:cubicBezTo>
                <a:cubicBezTo>
                  <a:pt x="22721" y="5919"/>
                  <a:pt x="22677" y="5834"/>
                  <a:pt x="22572" y="5804"/>
                </a:cubicBezTo>
                <a:cubicBezTo>
                  <a:pt x="22331" y="5734"/>
                  <a:pt x="22124" y="5903"/>
                  <a:pt x="21903" y="5879"/>
                </a:cubicBezTo>
                <a:cubicBezTo>
                  <a:pt x="21670" y="5853"/>
                  <a:pt x="21704" y="5789"/>
                  <a:pt x="21431" y="5928"/>
                </a:cubicBezTo>
                <a:cubicBezTo>
                  <a:pt x="21140" y="6077"/>
                  <a:pt x="21377" y="5899"/>
                  <a:pt x="21084" y="5904"/>
                </a:cubicBezTo>
                <a:cubicBezTo>
                  <a:pt x="20922" y="5907"/>
                  <a:pt x="20666" y="6068"/>
                  <a:pt x="20563" y="6176"/>
                </a:cubicBezTo>
                <a:cubicBezTo>
                  <a:pt x="20571" y="6184"/>
                  <a:pt x="20580" y="6193"/>
                  <a:pt x="20588" y="6201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56320" y="2276640"/>
            <a:ext cx="687600" cy="215640"/>
          </a:xfrm>
          <a:custGeom>
            <a:avLst/>
            <a:gdLst/>
            <a:ahLst/>
            <a:rect l="l" t="t" r="r" b="b"/>
            <a:pathLst>
              <a:path w="1911" h="597">
                <a:moveTo>
                  <a:pt x="21109" y="6325"/>
                </a:moveTo>
                <a:cubicBezTo>
                  <a:pt x="21021" y="6354"/>
                  <a:pt x="20926" y="6357"/>
                  <a:pt x="20836" y="6375"/>
                </a:cubicBezTo>
                <a:cubicBezTo>
                  <a:pt x="20829" y="6480"/>
                  <a:pt x="20803" y="6570"/>
                  <a:pt x="20786" y="6672"/>
                </a:cubicBezTo>
                <a:cubicBezTo>
                  <a:pt x="20888" y="6672"/>
                  <a:pt x="20920" y="6561"/>
                  <a:pt x="21010" y="6548"/>
                </a:cubicBezTo>
                <a:cubicBezTo>
                  <a:pt x="21224" y="6516"/>
                  <a:pt x="21268" y="6741"/>
                  <a:pt x="21109" y="6846"/>
                </a:cubicBezTo>
                <a:cubicBezTo>
                  <a:pt x="20969" y="6939"/>
                  <a:pt x="20867" y="6921"/>
                  <a:pt x="20712" y="6921"/>
                </a:cubicBezTo>
              </a:path>
              <a:path w="1911" h="597">
                <a:moveTo>
                  <a:pt x="21630" y="6548"/>
                </a:moveTo>
                <a:cubicBezTo>
                  <a:pt x="21654" y="6647"/>
                  <a:pt x="21695" y="6746"/>
                  <a:pt x="21729" y="6846"/>
                </a:cubicBezTo>
                <a:cubicBezTo>
                  <a:pt x="21729" y="6899"/>
                  <a:pt x="21711" y="6666"/>
                  <a:pt x="21729" y="6623"/>
                </a:cubicBezTo>
                <a:cubicBezTo>
                  <a:pt x="21809" y="6431"/>
                  <a:pt x="21946" y="6716"/>
                  <a:pt x="21977" y="6772"/>
                </a:cubicBezTo>
                <a:cubicBezTo>
                  <a:pt x="21977" y="6780"/>
                  <a:pt x="21977" y="6788"/>
                  <a:pt x="21977" y="6796"/>
                </a:cubicBezTo>
                <a:cubicBezTo>
                  <a:pt x="21977" y="6716"/>
                  <a:pt x="21956" y="6603"/>
                  <a:pt x="22051" y="6573"/>
                </a:cubicBezTo>
                <a:cubicBezTo>
                  <a:pt x="22198" y="6526"/>
                  <a:pt x="22239" y="6697"/>
                  <a:pt x="22250" y="6796"/>
                </a:cubicBezTo>
                <a:cubicBezTo>
                  <a:pt x="22250" y="6804"/>
                  <a:pt x="22250" y="6813"/>
                  <a:pt x="22250" y="6821"/>
                </a:cubicBezTo>
              </a:path>
              <a:path w="1911" h="597">
                <a:moveTo>
                  <a:pt x="22324" y="6499"/>
                </a:moveTo>
                <a:cubicBezTo>
                  <a:pt x="22372" y="6515"/>
                  <a:pt x="22384" y="6616"/>
                  <a:pt x="22399" y="6672"/>
                </a:cubicBezTo>
                <a:cubicBezTo>
                  <a:pt x="22419" y="6749"/>
                  <a:pt x="22522" y="6909"/>
                  <a:pt x="22622" y="6772"/>
                </a:cubicBezTo>
                <a:cubicBezTo>
                  <a:pt x="22622" y="6747"/>
                  <a:pt x="22622" y="6722"/>
                  <a:pt x="22622" y="669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73840" y="2768760"/>
            <a:ext cx="2295360" cy="419040"/>
          </a:xfrm>
          <a:custGeom>
            <a:avLst/>
            <a:gdLst/>
            <a:ahLst/>
            <a:rect l="l" t="t" r="r" b="b"/>
            <a:pathLst>
              <a:path w="6376" h="1167">
                <a:moveTo>
                  <a:pt x="16594" y="7689"/>
                </a:moveTo>
                <a:lnTo>
                  <a:pt x="16594" y="7689"/>
                </a:lnTo>
              </a:path>
              <a:path w="6376" h="1167">
                <a:moveTo>
                  <a:pt x="22969" y="7789"/>
                </a:moveTo>
                <a:lnTo>
                  <a:pt x="22969" y="7789"/>
                </a:lnTo>
                <a:lnTo>
                  <a:pt x="22969" y="7789"/>
                </a:lnTo>
              </a:path>
              <a:path w="6376" h="1167">
                <a:moveTo>
                  <a:pt x="16917" y="8508"/>
                </a:moveTo>
                <a:lnTo>
                  <a:pt x="16917" y="8508"/>
                </a:lnTo>
              </a:path>
              <a:path w="6376" h="1167">
                <a:moveTo>
                  <a:pt x="16942" y="8855"/>
                </a:moveTo>
                <a:cubicBezTo>
                  <a:pt x="16950" y="8855"/>
                  <a:pt x="16958" y="8855"/>
                  <a:pt x="16966" y="8855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05640" y="2598840"/>
            <a:ext cx="885600" cy="571320"/>
          </a:xfrm>
          <a:custGeom>
            <a:avLst/>
            <a:gdLst/>
            <a:ahLst/>
            <a:rect l="l" t="t" r="r" b="b"/>
            <a:pathLst>
              <a:path w="2457" h="1589">
                <a:moveTo>
                  <a:pt x="15850" y="7565"/>
                </a:moveTo>
                <a:cubicBezTo>
                  <a:pt x="16399" y="7412"/>
                  <a:pt x="16946" y="7359"/>
                  <a:pt x="17512" y="7293"/>
                </a:cubicBezTo>
                <a:cubicBezTo>
                  <a:pt x="17637" y="7279"/>
                  <a:pt x="18068" y="7225"/>
                  <a:pt x="18182" y="7243"/>
                </a:cubicBezTo>
              </a:path>
              <a:path w="2457" h="1589">
                <a:moveTo>
                  <a:pt x="16495" y="7714"/>
                </a:moveTo>
                <a:cubicBezTo>
                  <a:pt x="16451" y="7714"/>
                  <a:pt x="16600" y="7645"/>
                  <a:pt x="16619" y="7640"/>
                </a:cubicBezTo>
                <a:cubicBezTo>
                  <a:pt x="16652" y="7640"/>
                  <a:pt x="16685" y="7640"/>
                  <a:pt x="16718" y="7640"/>
                </a:cubicBezTo>
                <a:cubicBezTo>
                  <a:pt x="16718" y="7812"/>
                  <a:pt x="16674" y="7842"/>
                  <a:pt x="16545" y="7938"/>
                </a:cubicBezTo>
                <a:cubicBezTo>
                  <a:pt x="16632" y="7938"/>
                  <a:pt x="16774" y="7945"/>
                  <a:pt x="16793" y="8062"/>
                </a:cubicBezTo>
                <a:cubicBezTo>
                  <a:pt x="16822" y="8242"/>
                  <a:pt x="16561" y="8283"/>
                  <a:pt x="16446" y="8235"/>
                </a:cubicBezTo>
                <a:cubicBezTo>
                  <a:pt x="16446" y="8227"/>
                  <a:pt x="16446" y="8218"/>
                  <a:pt x="16446" y="8210"/>
                </a:cubicBezTo>
              </a:path>
              <a:path w="2457" h="1589">
                <a:moveTo>
                  <a:pt x="17438" y="7838"/>
                </a:moveTo>
                <a:cubicBezTo>
                  <a:pt x="17385" y="7759"/>
                  <a:pt x="17223" y="7838"/>
                  <a:pt x="17140" y="7863"/>
                </a:cubicBezTo>
                <a:cubicBezTo>
                  <a:pt x="17170" y="8012"/>
                  <a:pt x="17331" y="7928"/>
                  <a:pt x="17438" y="8012"/>
                </a:cubicBezTo>
                <a:cubicBezTo>
                  <a:pt x="17625" y="8160"/>
                  <a:pt x="17206" y="8208"/>
                  <a:pt x="17165" y="8210"/>
                </a:cubicBezTo>
                <a:cubicBezTo>
                  <a:pt x="17123" y="8170"/>
                  <a:pt x="17131" y="8145"/>
                  <a:pt x="17214" y="8111"/>
                </a:cubicBezTo>
              </a:path>
              <a:path w="2457" h="1589">
                <a:moveTo>
                  <a:pt x="17537" y="7987"/>
                </a:moveTo>
                <a:cubicBezTo>
                  <a:pt x="17645" y="7944"/>
                  <a:pt x="17670" y="7937"/>
                  <a:pt x="17735" y="7838"/>
                </a:cubicBezTo>
                <a:cubicBezTo>
                  <a:pt x="17608" y="7762"/>
                  <a:pt x="17480" y="7798"/>
                  <a:pt x="17462" y="7987"/>
                </a:cubicBezTo>
                <a:cubicBezTo>
                  <a:pt x="17442" y="8205"/>
                  <a:pt x="17603" y="8161"/>
                  <a:pt x="17735" y="8161"/>
                </a:cubicBezTo>
              </a:path>
              <a:path w="2457" h="1589">
                <a:moveTo>
                  <a:pt x="18058" y="7789"/>
                </a:moveTo>
                <a:cubicBezTo>
                  <a:pt x="18058" y="7813"/>
                  <a:pt x="18058" y="7822"/>
                  <a:pt x="18058" y="7838"/>
                </a:cubicBezTo>
                <a:cubicBezTo>
                  <a:pt x="18037" y="7736"/>
                  <a:pt x="17932" y="7687"/>
                  <a:pt x="17859" y="7813"/>
                </a:cubicBezTo>
                <a:cubicBezTo>
                  <a:pt x="17712" y="8066"/>
                  <a:pt x="17931" y="8266"/>
                  <a:pt x="18182" y="8136"/>
                </a:cubicBezTo>
                <a:cubicBezTo>
                  <a:pt x="18223" y="8095"/>
                  <a:pt x="18265" y="8053"/>
                  <a:pt x="18306" y="8012"/>
                </a:cubicBezTo>
              </a:path>
              <a:path w="2457" h="1589">
                <a:moveTo>
                  <a:pt x="16867" y="8582"/>
                </a:moveTo>
                <a:cubicBezTo>
                  <a:pt x="16940" y="8582"/>
                  <a:pt x="16996" y="8615"/>
                  <a:pt x="17066" y="8632"/>
                </a:cubicBezTo>
                <a:cubicBezTo>
                  <a:pt x="17074" y="8632"/>
                  <a:pt x="17082" y="8632"/>
                  <a:pt x="17090" y="8632"/>
                </a:cubicBezTo>
              </a:path>
              <a:path w="2457" h="1589">
                <a:moveTo>
                  <a:pt x="16917" y="8434"/>
                </a:moveTo>
                <a:cubicBezTo>
                  <a:pt x="16917" y="8467"/>
                  <a:pt x="16917" y="8483"/>
                  <a:pt x="16917" y="8508"/>
                </a:cubicBezTo>
              </a:path>
              <a:path w="2457" h="1589">
                <a:moveTo>
                  <a:pt x="17289" y="8483"/>
                </a:moveTo>
                <a:cubicBezTo>
                  <a:pt x="17362" y="8468"/>
                  <a:pt x="17433" y="8443"/>
                  <a:pt x="17512" y="8434"/>
                </a:cubicBezTo>
                <a:cubicBezTo>
                  <a:pt x="17464" y="8509"/>
                  <a:pt x="17421" y="8541"/>
                  <a:pt x="17363" y="8607"/>
                </a:cubicBezTo>
                <a:cubicBezTo>
                  <a:pt x="17423" y="8597"/>
                  <a:pt x="17652" y="8535"/>
                  <a:pt x="17611" y="8682"/>
                </a:cubicBezTo>
                <a:cubicBezTo>
                  <a:pt x="17589" y="8761"/>
                  <a:pt x="17475" y="8792"/>
                  <a:pt x="17413" y="880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10280" y="2544840"/>
            <a:ext cx="1187640" cy="349200"/>
          </a:xfrm>
          <a:custGeom>
            <a:avLst/>
            <a:gdLst/>
            <a:ahLst/>
            <a:rect l="l" t="t" r="r" b="b"/>
            <a:pathLst>
              <a:path w="3300" h="969">
                <a:moveTo>
                  <a:pt x="19571" y="7144"/>
                </a:moveTo>
                <a:cubicBezTo>
                  <a:pt x="19681" y="7119"/>
                  <a:pt x="19826" y="7063"/>
                  <a:pt x="19918" y="7094"/>
                </a:cubicBezTo>
              </a:path>
              <a:path w="3300" h="969">
                <a:moveTo>
                  <a:pt x="19472" y="7317"/>
                </a:moveTo>
                <a:cubicBezTo>
                  <a:pt x="19637" y="7292"/>
                  <a:pt x="19803" y="7269"/>
                  <a:pt x="19968" y="7243"/>
                </a:cubicBezTo>
              </a:path>
              <a:path w="3300" h="969">
                <a:moveTo>
                  <a:pt x="20464" y="7193"/>
                </a:moveTo>
                <a:cubicBezTo>
                  <a:pt x="20675" y="7162"/>
                  <a:pt x="20893" y="7165"/>
                  <a:pt x="21109" y="7144"/>
                </a:cubicBezTo>
                <a:cubicBezTo>
                  <a:pt x="21515" y="7105"/>
                  <a:pt x="21968" y="7044"/>
                  <a:pt x="22374" y="7069"/>
                </a:cubicBezTo>
                <a:cubicBezTo>
                  <a:pt x="22399" y="7069"/>
                  <a:pt x="22407" y="7069"/>
                  <a:pt x="22399" y="7094"/>
                </a:cubicBezTo>
              </a:path>
              <a:path w="3300" h="969">
                <a:moveTo>
                  <a:pt x="20861" y="7441"/>
                </a:moveTo>
                <a:cubicBezTo>
                  <a:pt x="20794" y="7420"/>
                  <a:pt x="20845" y="7518"/>
                  <a:pt x="20861" y="7640"/>
                </a:cubicBezTo>
                <a:cubicBezTo>
                  <a:pt x="20879" y="7778"/>
                  <a:pt x="20886" y="7900"/>
                  <a:pt x="20886" y="8037"/>
                </a:cubicBezTo>
              </a:path>
              <a:path w="3300" h="969">
                <a:moveTo>
                  <a:pt x="21779" y="7615"/>
                </a:moveTo>
                <a:cubicBezTo>
                  <a:pt x="21681" y="7590"/>
                  <a:pt x="21630" y="7624"/>
                  <a:pt x="21530" y="7665"/>
                </a:cubicBezTo>
                <a:cubicBezTo>
                  <a:pt x="21612" y="7746"/>
                  <a:pt x="21770" y="7767"/>
                  <a:pt x="21878" y="7838"/>
                </a:cubicBezTo>
                <a:cubicBezTo>
                  <a:pt x="21794" y="7934"/>
                  <a:pt x="21670" y="7989"/>
                  <a:pt x="21530" y="7962"/>
                </a:cubicBezTo>
                <a:cubicBezTo>
                  <a:pt x="21522" y="7954"/>
                  <a:pt x="21514" y="7946"/>
                  <a:pt x="21506" y="7938"/>
                </a:cubicBezTo>
              </a:path>
              <a:path w="3300" h="969">
                <a:moveTo>
                  <a:pt x="22051" y="7739"/>
                </a:moveTo>
                <a:cubicBezTo>
                  <a:pt x="22159" y="7731"/>
                  <a:pt x="22130" y="7732"/>
                  <a:pt x="22200" y="7714"/>
                </a:cubicBezTo>
                <a:cubicBezTo>
                  <a:pt x="22189" y="7657"/>
                  <a:pt x="22098" y="7554"/>
                  <a:pt x="22027" y="7615"/>
                </a:cubicBezTo>
                <a:cubicBezTo>
                  <a:pt x="21922" y="7705"/>
                  <a:pt x="21964" y="7930"/>
                  <a:pt x="22126" y="7913"/>
                </a:cubicBezTo>
                <a:cubicBezTo>
                  <a:pt x="22167" y="7896"/>
                  <a:pt x="22209" y="7880"/>
                  <a:pt x="22250" y="7863"/>
                </a:cubicBezTo>
              </a:path>
              <a:path w="3300" h="969">
                <a:moveTo>
                  <a:pt x="22523" y="7565"/>
                </a:moveTo>
                <a:cubicBezTo>
                  <a:pt x="22523" y="7573"/>
                  <a:pt x="22523" y="7582"/>
                  <a:pt x="22523" y="7590"/>
                </a:cubicBezTo>
                <a:cubicBezTo>
                  <a:pt x="22581" y="7630"/>
                  <a:pt x="22529" y="7555"/>
                  <a:pt x="22473" y="7565"/>
                </a:cubicBezTo>
                <a:cubicBezTo>
                  <a:pt x="22340" y="7589"/>
                  <a:pt x="22255" y="7822"/>
                  <a:pt x="22423" y="7863"/>
                </a:cubicBezTo>
                <a:cubicBezTo>
                  <a:pt x="22523" y="7887"/>
                  <a:pt x="22666" y="7863"/>
                  <a:pt x="22771" y="7863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89760" y="2187720"/>
            <a:ext cx="81000" cy="179280"/>
          </a:xfrm>
          <a:custGeom>
            <a:avLst/>
            <a:gdLst/>
            <a:ahLst/>
            <a:rect l="l" t="t" r="r" b="b"/>
            <a:pathLst>
              <a:path w="224" h="497">
                <a:moveTo>
                  <a:pt x="16917" y="6077"/>
                </a:moveTo>
                <a:cubicBezTo>
                  <a:pt x="16917" y="6094"/>
                  <a:pt x="16917" y="6110"/>
                  <a:pt x="16917" y="6127"/>
                </a:cubicBezTo>
              </a:path>
              <a:path w="224" h="497">
                <a:moveTo>
                  <a:pt x="17140" y="6573"/>
                </a:moveTo>
                <a:lnTo>
                  <a:pt x="17140" y="6573"/>
                </a:lnTo>
                <a:lnTo>
                  <a:pt x="17140" y="6573"/>
                </a:lnTo>
              </a:path>
              <a:path w="224" h="497">
                <a:moveTo>
                  <a:pt x="17140" y="6573"/>
                </a:moveTo>
                <a:lnTo>
                  <a:pt x="17140" y="6573"/>
                </a:ln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05080" y="4491000"/>
            <a:ext cx="519120" cy="233280"/>
          </a:xfrm>
          <a:custGeom>
            <a:avLst/>
            <a:gdLst/>
            <a:ahLst/>
            <a:rect l="l" t="t" r="r" b="b"/>
            <a:pathLst>
              <a:path w="1440" h="646">
                <a:moveTo>
                  <a:pt x="8954" y="12650"/>
                </a:moveTo>
                <a:cubicBezTo>
                  <a:pt x="8868" y="12591"/>
                  <a:pt x="9048" y="12526"/>
                  <a:pt x="9103" y="12502"/>
                </a:cubicBezTo>
                <a:cubicBezTo>
                  <a:pt x="9170" y="12480"/>
                  <a:pt x="9188" y="12468"/>
                  <a:pt x="9227" y="12502"/>
                </a:cubicBezTo>
                <a:cubicBezTo>
                  <a:pt x="9250" y="12659"/>
                  <a:pt x="9225" y="12736"/>
                  <a:pt x="9079" y="12824"/>
                </a:cubicBezTo>
                <a:cubicBezTo>
                  <a:pt x="9044" y="12824"/>
                  <a:pt x="9040" y="12815"/>
                  <a:pt x="9079" y="12774"/>
                </a:cubicBezTo>
                <a:cubicBezTo>
                  <a:pt x="9223" y="12758"/>
                  <a:pt x="9450" y="12770"/>
                  <a:pt x="9327" y="12998"/>
                </a:cubicBezTo>
                <a:cubicBezTo>
                  <a:pt x="9256" y="13130"/>
                  <a:pt x="9030" y="13169"/>
                  <a:pt x="8905" y="13097"/>
                </a:cubicBezTo>
                <a:cubicBezTo>
                  <a:pt x="8905" y="13089"/>
                  <a:pt x="8905" y="13080"/>
                  <a:pt x="8905" y="13072"/>
                </a:cubicBezTo>
              </a:path>
              <a:path w="1440" h="646">
                <a:moveTo>
                  <a:pt x="9699" y="12750"/>
                </a:moveTo>
                <a:cubicBezTo>
                  <a:pt x="9761" y="12833"/>
                  <a:pt x="9764" y="12943"/>
                  <a:pt x="9773" y="13047"/>
                </a:cubicBezTo>
                <a:cubicBezTo>
                  <a:pt x="9773" y="13055"/>
                  <a:pt x="9773" y="13064"/>
                  <a:pt x="9773" y="13072"/>
                </a:cubicBezTo>
                <a:cubicBezTo>
                  <a:pt x="9758" y="12967"/>
                  <a:pt x="9729" y="12838"/>
                  <a:pt x="9823" y="12750"/>
                </a:cubicBezTo>
                <a:cubicBezTo>
                  <a:pt x="9884" y="12693"/>
                  <a:pt x="10015" y="12848"/>
                  <a:pt x="10046" y="12874"/>
                </a:cubicBezTo>
                <a:cubicBezTo>
                  <a:pt x="10069" y="12896"/>
                  <a:pt x="10077" y="12901"/>
                  <a:pt x="10071" y="12923"/>
                </a:cubicBezTo>
                <a:cubicBezTo>
                  <a:pt x="10058" y="12844"/>
                  <a:pt x="10001" y="12766"/>
                  <a:pt x="10096" y="12725"/>
                </a:cubicBezTo>
                <a:cubicBezTo>
                  <a:pt x="10250" y="12660"/>
                  <a:pt x="10313" y="12757"/>
                  <a:pt x="10344" y="12898"/>
                </a:cubicBezTo>
                <a:cubicBezTo>
                  <a:pt x="10352" y="12935"/>
                  <a:pt x="10344" y="12984"/>
                  <a:pt x="10344" y="13022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41760" y="4741920"/>
            <a:ext cx="1133280" cy="357120"/>
          </a:xfrm>
          <a:custGeom>
            <a:avLst/>
            <a:gdLst/>
            <a:ahLst/>
            <a:rect l="l" t="t" r="r" b="b"/>
            <a:pathLst>
              <a:path w="3151" h="993">
                <a:moveTo>
                  <a:pt x="7640" y="13221"/>
                </a:moveTo>
                <a:cubicBezTo>
                  <a:pt x="7597" y="13221"/>
                  <a:pt x="7819" y="13179"/>
                  <a:pt x="7863" y="13171"/>
                </a:cubicBezTo>
                <a:cubicBezTo>
                  <a:pt x="7891" y="13171"/>
                  <a:pt x="7902" y="13173"/>
                  <a:pt x="7913" y="13196"/>
                </a:cubicBezTo>
              </a:path>
              <a:path w="3151" h="993">
                <a:moveTo>
                  <a:pt x="7640" y="13469"/>
                </a:moveTo>
                <a:cubicBezTo>
                  <a:pt x="7757" y="13461"/>
                  <a:pt x="7870" y="13428"/>
                  <a:pt x="7987" y="13419"/>
                </a:cubicBezTo>
                <a:cubicBezTo>
                  <a:pt x="7995" y="13419"/>
                  <a:pt x="8004" y="13419"/>
                  <a:pt x="8012" y="13419"/>
                </a:cubicBezTo>
              </a:path>
              <a:path w="3151" h="993">
                <a:moveTo>
                  <a:pt x="8731" y="13419"/>
                </a:moveTo>
                <a:cubicBezTo>
                  <a:pt x="8745" y="13395"/>
                  <a:pt x="8638" y="13411"/>
                  <a:pt x="8855" y="13345"/>
                </a:cubicBezTo>
                <a:cubicBezTo>
                  <a:pt x="9207" y="13238"/>
                  <a:pt x="9585" y="13244"/>
                  <a:pt x="9947" y="13221"/>
                </a:cubicBezTo>
                <a:cubicBezTo>
                  <a:pt x="10172" y="13207"/>
                  <a:pt x="10392" y="13196"/>
                  <a:pt x="10616" y="13196"/>
                </a:cubicBezTo>
                <a:cubicBezTo>
                  <a:pt x="10666" y="13196"/>
                  <a:pt x="10715" y="13196"/>
                  <a:pt x="10765" y="13196"/>
                </a:cubicBezTo>
              </a:path>
              <a:path w="3151" h="993">
                <a:moveTo>
                  <a:pt x="9004" y="13519"/>
                </a:moveTo>
                <a:cubicBezTo>
                  <a:pt x="9024" y="13700"/>
                  <a:pt x="9064" y="13882"/>
                  <a:pt x="9079" y="14064"/>
                </a:cubicBezTo>
                <a:cubicBezTo>
                  <a:pt x="9079" y="14097"/>
                  <a:pt x="9079" y="14130"/>
                  <a:pt x="9079" y="14163"/>
                </a:cubicBezTo>
              </a:path>
              <a:path w="3151" h="993">
                <a:moveTo>
                  <a:pt x="9847" y="13593"/>
                </a:moveTo>
                <a:cubicBezTo>
                  <a:pt x="9772" y="13650"/>
                  <a:pt x="9684" y="13706"/>
                  <a:pt x="9649" y="13791"/>
                </a:cubicBezTo>
                <a:cubicBezTo>
                  <a:pt x="9752" y="13814"/>
                  <a:pt x="10092" y="13832"/>
                  <a:pt x="9922" y="14015"/>
                </a:cubicBezTo>
                <a:cubicBezTo>
                  <a:pt x="9825" y="14119"/>
                  <a:pt x="9729" y="14114"/>
                  <a:pt x="9649" y="14064"/>
                </a:cubicBezTo>
              </a:path>
              <a:path w="3151" h="993">
                <a:moveTo>
                  <a:pt x="10046" y="13816"/>
                </a:moveTo>
                <a:cubicBezTo>
                  <a:pt x="10125" y="13811"/>
                  <a:pt x="10191" y="13802"/>
                  <a:pt x="10269" y="13791"/>
                </a:cubicBezTo>
                <a:cubicBezTo>
                  <a:pt x="10255" y="13750"/>
                  <a:pt x="10096" y="13712"/>
                  <a:pt x="10046" y="13742"/>
                </a:cubicBezTo>
                <a:cubicBezTo>
                  <a:pt x="9847" y="13863"/>
                  <a:pt x="10048" y="14150"/>
                  <a:pt x="10244" y="14064"/>
                </a:cubicBezTo>
                <a:cubicBezTo>
                  <a:pt x="10310" y="14014"/>
                  <a:pt x="10377" y="13965"/>
                  <a:pt x="10443" y="13915"/>
                </a:cubicBezTo>
              </a:path>
              <a:path w="3151" h="993">
                <a:moveTo>
                  <a:pt x="10666" y="13692"/>
                </a:moveTo>
                <a:cubicBezTo>
                  <a:pt x="10561" y="13671"/>
                  <a:pt x="10511" y="13614"/>
                  <a:pt x="10468" y="13791"/>
                </a:cubicBezTo>
                <a:cubicBezTo>
                  <a:pt x="10393" y="14099"/>
                  <a:pt x="10642" y="13998"/>
                  <a:pt x="10765" y="13891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17760" y="5286240"/>
            <a:ext cx="312480" cy="179640"/>
          </a:xfrm>
          <a:custGeom>
            <a:avLst/>
            <a:gdLst/>
            <a:ahLst/>
            <a:rect l="l" t="t" r="r" b="b"/>
            <a:pathLst>
              <a:path w="869" h="497">
                <a:moveTo>
                  <a:pt x="4217" y="14684"/>
                </a:moveTo>
                <a:cubicBezTo>
                  <a:pt x="4233" y="14688"/>
                  <a:pt x="4519" y="14796"/>
                  <a:pt x="4539" y="14784"/>
                </a:cubicBezTo>
                <a:cubicBezTo>
                  <a:pt x="4539" y="14767"/>
                  <a:pt x="4539" y="14751"/>
                  <a:pt x="4539" y="14734"/>
                </a:cubicBezTo>
              </a:path>
              <a:path w="869" h="497">
                <a:moveTo>
                  <a:pt x="4738" y="14883"/>
                </a:moveTo>
                <a:cubicBezTo>
                  <a:pt x="4763" y="14866"/>
                  <a:pt x="4787" y="14850"/>
                  <a:pt x="4812" y="14833"/>
                </a:cubicBezTo>
                <a:cubicBezTo>
                  <a:pt x="4841" y="14947"/>
                  <a:pt x="4780" y="15060"/>
                  <a:pt x="4738" y="15180"/>
                </a:cubicBezTo>
                <a:cubicBezTo>
                  <a:pt x="4900" y="15180"/>
                  <a:pt x="4972" y="15060"/>
                  <a:pt x="5085" y="1495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589040" y="5224320"/>
            <a:ext cx="9720" cy="231840"/>
          </a:xfrm>
          <a:custGeom>
            <a:avLst/>
            <a:gdLst/>
            <a:ahLst/>
            <a:rect l="l" t="t" r="r" b="b"/>
            <a:pathLst>
              <a:path w="26" h="646">
                <a:moveTo>
                  <a:pt x="4440" y="14536"/>
                </a:moveTo>
                <a:cubicBezTo>
                  <a:pt x="4440" y="14485"/>
                  <a:pt x="4434" y="14502"/>
                  <a:pt x="4415" y="14610"/>
                </a:cubicBezTo>
              </a:path>
              <a:path w="26" h="646">
                <a:moveTo>
                  <a:pt x="4415" y="14610"/>
                </a:moveTo>
                <a:lnTo>
                  <a:pt x="4415" y="14610"/>
                </a:lnTo>
              </a:path>
              <a:path w="26" h="646">
                <a:moveTo>
                  <a:pt x="4415" y="15156"/>
                </a:moveTo>
                <a:cubicBezTo>
                  <a:pt x="4423" y="15139"/>
                  <a:pt x="4432" y="15123"/>
                  <a:pt x="4440" y="1510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52760" y="4205160"/>
            <a:ext cx="276120" cy="1224000"/>
          </a:xfrm>
          <a:custGeom>
            <a:avLst/>
            <a:gdLst/>
            <a:ahLst/>
            <a:rect l="l" t="t" r="r" b="b"/>
            <a:pathLst>
              <a:path w="770" h="3399">
                <a:moveTo>
                  <a:pt x="5060" y="14858"/>
                </a:moveTo>
                <a:cubicBezTo>
                  <a:pt x="5039" y="14983"/>
                  <a:pt x="5023" y="15010"/>
                  <a:pt x="5060" y="15081"/>
                </a:cubicBezTo>
                <a:cubicBezTo>
                  <a:pt x="5161" y="15057"/>
                  <a:pt x="5514" y="14895"/>
                  <a:pt x="5308" y="14734"/>
                </a:cubicBezTo>
                <a:cubicBezTo>
                  <a:pt x="5275" y="14734"/>
                  <a:pt x="5242" y="14734"/>
                  <a:pt x="5209" y="14734"/>
                </a:cubicBezTo>
              </a:path>
              <a:path w="770" h="3399">
                <a:moveTo>
                  <a:pt x="4589" y="11956"/>
                </a:moveTo>
                <a:cubicBezTo>
                  <a:pt x="4645" y="11843"/>
                  <a:pt x="4749" y="11830"/>
                  <a:pt x="4837" y="11757"/>
                </a:cubicBezTo>
                <a:cubicBezTo>
                  <a:pt x="4837" y="11733"/>
                  <a:pt x="4837" y="11725"/>
                  <a:pt x="4862" y="11733"/>
                </a:cubicBezTo>
              </a:path>
              <a:path w="770" h="3399">
                <a:moveTo>
                  <a:pt x="4589" y="11683"/>
                </a:moveTo>
                <a:lnTo>
                  <a:pt x="4589" y="11683"/>
                </a:lnTo>
              </a:path>
              <a:path w="770" h="3399">
                <a:moveTo>
                  <a:pt x="4787" y="12030"/>
                </a:moveTo>
                <a:lnTo>
                  <a:pt x="4787" y="12030"/>
                </a:ln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58960" y="4106880"/>
            <a:ext cx="214200" cy="179280"/>
          </a:xfrm>
          <a:custGeom>
            <a:avLst/>
            <a:gdLst/>
            <a:ahLst/>
            <a:rect l="l" t="t" r="r" b="b"/>
            <a:pathLst>
              <a:path w="596" h="497">
                <a:moveTo>
                  <a:pt x="4887" y="11633"/>
                </a:moveTo>
                <a:cubicBezTo>
                  <a:pt x="4965" y="11568"/>
                  <a:pt x="4964" y="11550"/>
                  <a:pt x="5060" y="11534"/>
                </a:cubicBezTo>
                <a:cubicBezTo>
                  <a:pt x="5069" y="11662"/>
                  <a:pt x="5033" y="11777"/>
                  <a:pt x="4986" y="11906"/>
                </a:cubicBezTo>
                <a:cubicBezTo>
                  <a:pt x="5059" y="11885"/>
                  <a:pt x="5159" y="11849"/>
                  <a:pt x="5209" y="11782"/>
                </a:cubicBezTo>
                <a:cubicBezTo>
                  <a:pt x="5217" y="11766"/>
                  <a:pt x="5226" y="11749"/>
                  <a:pt x="5234" y="11733"/>
                </a:cubicBezTo>
              </a:path>
              <a:path w="596" h="497">
                <a:moveTo>
                  <a:pt x="5234" y="11460"/>
                </a:moveTo>
                <a:cubicBezTo>
                  <a:pt x="5193" y="11647"/>
                  <a:pt x="5161" y="11648"/>
                  <a:pt x="5283" y="11782"/>
                </a:cubicBezTo>
                <a:cubicBezTo>
                  <a:pt x="5410" y="11750"/>
                  <a:pt x="5636" y="11586"/>
                  <a:pt x="5432" y="11435"/>
                </a:cubicBezTo>
                <a:cubicBezTo>
                  <a:pt x="5334" y="11362"/>
                  <a:pt x="5257" y="11433"/>
                  <a:pt x="5184" y="11485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49920" y="4483080"/>
            <a:ext cx="2716200" cy="839880"/>
          </a:xfrm>
          <a:custGeom>
            <a:avLst/>
            <a:gdLst/>
            <a:ahLst/>
            <a:rect l="l" t="t" r="r" b="b"/>
            <a:pathLst>
              <a:path w="7542" h="2333">
                <a:moveTo>
                  <a:pt x="19447" y="13295"/>
                </a:moveTo>
                <a:cubicBezTo>
                  <a:pt x="19555" y="13290"/>
                  <a:pt x="19639" y="13284"/>
                  <a:pt x="19745" y="13271"/>
                </a:cubicBezTo>
              </a:path>
              <a:path w="7542" h="2333">
                <a:moveTo>
                  <a:pt x="15974" y="14784"/>
                </a:moveTo>
                <a:cubicBezTo>
                  <a:pt x="16149" y="14696"/>
                  <a:pt x="16225" y="14656"/>
                  <a:pt x="16346" y="14585"/>
                </a:cubicBezTo>
              </a:path>
              <a:path w="7542" h="2333">
                <a:moveTo>
                  <a:pt x="16346" y="14585"/>
                </a:moveTo>
                <a:lnTo>
                  <a:pt x="16346" y="14585"/>
                </a:lnTo>
              </a:path>
              <a:path w="7542" h="2333">
                <a:moveTo>
                  <a:pt x="23515" y="12526"/>
                </a:moveTo>
                <a:cubicBezTo>
                  <a:pt x="23409" y="12404"/>
                  <a:pt x="23279" y="12502"/>
                  <a:pt x="23217" y="12650"/>
                </a:cubicBezTo>
                <a:cubicBezTo>
                  <a:pt x="23098" y="12934"/>
                  <a:pt x="23495" y="12623"/>
                  <a:pt x="23515" y="12601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29280" y="4384800"/>
            <a:ext cx="1687680" cy="679320"/>
          </a:xfrm>
          <a:custGeom>
            <a:avLst/>
            <a:gdLst/>
            <a:ahLst/>
            <a:rect l="l" t="t" r="r" b="b"/>
            <a:pathLst>
              <a:path w="4690" h="1886">
                <a:moveTo>
                  <a:pt x="19248" y="13196"/>
                </a:moveTo>
                <a:cubicBezTo>
                  <a:pt x="19352" y="13113"/>
                  <a:pt x="19493" y="13121"/>
                  <a:pt x="19621" y="13097"/>
                </a:cubicBezTo>
                <a:cubicBezTo>
                  <a:pt x="19662" y="13089"/>
                  <a:pt x="19704" y="13080"/>
                  <a:pt x="19745" y="13072"/>
                </a:cubicBezTo>
              </a:path>
              <a:path w="4690" h="1886">
                <a:moveTo>
                  <a:pt x="20389" y="13221"/>
                </a:moveTo>
                <a:cubicBezTo>
                  <a:pt x="20672" y="13174"/>
                  <a:pt x="20971" y="13149"/>
                  <a:pt x="21258" y="13122"/>
                </a:cubicBezTo>
                <a:cubicBezTo>
                  <a:pt x="21548" y="13094"/>
                  <a:pt x="22594" y="12882"/>
                  <a:pt x="22845" y="13097"/>
                </a:cubicBezTo>
                <a:cubicBezTo>
                  <a:pt x="22898" y="13097"/>
                  <a:pt x="22881" y="13110"/>
                  <a:pt x="22771" y="13146"/>
                </a:cubicBezTo>
              </a:path>
              <a:path w="4690" h="1886">
                <a:moveTo>
                  <a:pt x="21183" y="13519"/>
                </a:moveTo>
                <a:cubicBezTo>
                  <a:pt x="21183" y="13660"/>
                  <a:pt x="21161" y="13799"/>
                  <a:pt x="21158" y="13940"/>
                </a:cubicBezTo>
                <a:cubicBezTo>
                  <a:pt x="21157" y="13998"/>
                  <a:pt x="21158" y="14073"/>
                  <a:pt x="21158" y="14015"/>
                </a:cubicBezTo>
              </a:path>
              <a:path w="4690" h="1886">
                <a:moveTo>
                  <a:pt x="20563" y="12353"/>
                </a:moveTo>
                <a:cubicBezTo>
                  <a:pt x="20563" y="12444"/>
                  <a:pt x="20624" y="12306"/>
                  <a:pt x="20687" y="12254"/>
                </a:cubicBezTo>
                <a:cubicBezTo>
                  <a:pt x="20834" y="12399"/>
                  <a:pt x="20866" y="12575"/>
                  <a:pt x="20662" y="12725"/>
                </a:cubicBezTo>
                <a:cubicBezTo>
                  <a:pt x="20539" y="12765"/>
                  <a:pt x="20517" y="12782"/>
                  <a:pt x="20439" y="12774"/>
                </a:cubicBezTo>
                <a:cubicBezTo>
                  <a:pt x="20540" y="12623"/>
                  <a:pt x="20613" y="12606"/>
                  <a:pt x="20786" y="12675"/>
                </a:cubicBezTo>
                <a:cubicBezTo>
                  <a:pt x="20816" y="12705"/>
                  <a:pt x="20827" y="12719"/>
                  <a:pt x="20836" y="12750"/>
                </a:cubicBezTo>
              </a:path>
              <a:path w="4690" h="1886">
                <a:moveTo>
                  <a:pt x="21134" y="12229"/>
                </a:moveTo>
                <a:cubicBezTo>
                  <a:pt x="21043" y="12283"/>
                  <a:pt x="20972" y="12460"/>
                  <a:pt x="20985" y="12576"/>
                </a:cubicBezTo>
                <a:cubicBezTo>
                  <a:pt x="21029" y="12666"/>
                  <a:pt x="21036" y="12695"/>
                  <a:pt x="21109" y="12700"/>
                </a:cubicBezTo>
                <a:cubicBezTo>
                  <a:pt x="21267" y="12564"/>
                  <a:pt x="21321" y="12423"/>
                  <a:pt x="21109" y="12278"/>
                </a:cubicBezTo>
                <a:cubicBezTo>
                  <a:pt x="21084" y="12270"/>
                  <a:pt x="21059" y="12262"/>
                  <a:pt x="21034" y="12254"/>
                </a:cubicBezTo>
              </a:path>
              <a:path w="4690" h="1886">
                <a:moveTo>
                  <a:pt x="21431" y="12179"/>
                </a:moveTo>
                <a:cubicBezTo>
                  <a:pt x="21360" y="12374"/>
                  <a:pt x="21323" y="12481"/>
                  <a:pt x="21431" y="12650"/>
                </a:cubicBezTo>
                <a:cubicBezTo>
                  <a:pt x="21575" y="12623"/>
                  <a:pt x="21806" y="12476"/>
                  <a:pt x="21654" y="12278"/>
                </a:cubicBezTo>
                <a:cubicBezTo>
                  <a:pt x="21518" y="12224"/>
                  <a:pt x="21463" y="12208"/>
                  <a:pt x="21357" y="12229"/>
                </a:cubicBezTo>
              </a:path>
              <a:path w="4690" h="1886">
                <a:moveTo>
                  <a:pt x="22027" y="12477"/>
                </a:moveTo>
                <a:cubicBezTo>
                  <a:pt x="22027" y="12528"/>
                  <a:pt x="21982" y="12825"/>
                  <a:pt x="22101" y="12799"/>
                </a:cubicBezTo>
                <a:cubicBezTo>
                  <a:pt x="22187" y="12742"/>
                  <a:pt x="22218" y="12711"/>
                  <a:pt x="22225" y="12626"/>
                </a:cubicBezTo>
                <a:cubicBezTo>
                  <a:pt x="22225" y="12609"/>
                  <a:pt x="22225" y="12593"/>
                  <a:pt x="22225" y="12576"/>
                </a:cubicBezTo>
                <a:cubicBezTo>
                  <a:pt x="22262" y="12664"/>
                  <a:pt x="22360" y="12857"/>
                  <a:pt x="22473" y="12700"/>
                </a:cubicBezTo>
                <a:cubicBezTo>
                  <a:pt x="22558" y="12583"/>
                  <a:pt x="22429" y="12488"/>
                  <a:pt x="22349" y="12502"/>
                </a:cubicBezTo>
              </a:path>
              <a:path w="4690" h="1886">
                <a:moveTo>
                  <a:pt x="22771" y="12452"/>
                </a:moveTo>
                <a:cubicBezTo>
                  <a:pt x="22650" y="12573"/>
                  <a:pt x="22613" y="12646"/>
                  <a:pt x="22696" y="12799"/>
                </a:cubicBezTo>
                <a:cubicBezTo>
                  <a:pt x="22808" y="12728"/>
                  <a:pt x="22946" y="12621"/>
                  <a:pt x="22771" y="12502"/>
                </a:cubicBezTo>
                <a:cubicBezTo>
                  <a:pt x="22754" y="12502"/>
                  <a:pt x="22738" y="12502"/>
                  <a:pt x="22721" y="12502"/>
                </a:cubicBezTo>
              </a:path>
              <a:path w="4690" h="1886">
                <a:moveTo>
                  <a:pt x="22969" y="12601"/>
                </a:moveTo>
                <a:cubicBezTo>
                  <a:pt x="22990" y="12685"/>
                  <a:pt x="22992" y="12704"/>
                  <a:pt x="23019" y="12750"/>
                </a:cubicBezTo>
                <a:cubicBezTo>
                  <a:pt x="23019" y="12645"/>
                  <a:pt x="23011" y="12573"/>
                  <a:pt x="23068" y="12477"/>
                </a:cubicBezTo>
                <a:cubicBezTo>
                  <a:pt x="23120" y="12425"/>
                  <a:pt x="23139" y="12409"/>
                  <a:pt x="23192" y="12452"/>
                </a:cubicBezTo>
              </a:path>
              <a:path w="4690" h="1886">
                <a:moveTo>
                  <a:pt x="23391" y="12204"/>
                </a:moveTo>
                <a:cubicBezTo>
                  <a:pt x="23465" y="12398"/>
                  <a:pt x="23486" y="12607"/>
                  <a:pt x="23564" y="12799"/>
                </a:cubicBezTo>
                <a:cubicBezTo>
                  <a:pt x="23572" y="12807"/>
                  <a:pt x="23581" y="12816"/>
                  <a:pt x="23589" y="12824"/>
                </a:cubicBezTo>
              </a:path>
              <a:path w="4690" h="1886">
                <a:moveTo>
                  <a:pt x="23738" y="12427"/>
                </a:moveTo>
                <a:cubicBezTo>
                  <a:pt x="23681" y="12485"/>
                  <a:pt x="23673" y="12494"/>
                  <a:pt x="23639" y="12526"/>
                </a:cubicBezTo>
                <a:cubicBezTo>
                  <a:pt x="23745" y="12621"/>
                  <a:pt x="23857" y="12639"/>
                  <a:pt x="23937" y="12774"/>
                </a:cubicBezTo>
                <a:cubicBezTo>
                  <a:pt x="23798" y="12844"/>
                  <a:pt x="23785" y="12842"/>
                  <a:pt x="23639" y="12799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902720" y="4911840"/>
            <a:ext cx="581040" cy="258480"/>
          </a:xfrm>
          <a:custGeom>
            <a:avLst/>
            <a:gdLst/>
            <a:ahLst/>
            <a:rect l="l" t="t" r="r" b="b"/>
            <a:pathLst>
              <a:path w="1613" h="720">
                <a:moveTo>
                  <a:pt x="21952" y="13891"/>
                </a:moveTo>
                <a:cubicBezTo>
                  <a:pt x="21994" y="14012"/>
                  <a:pt x="22126" y="14323"/>
                  <a:pt x="22051" y="14288"/>
                </a:cubicBezTo>
                <a:cubicBezTo>
                  <a:pt x="21984" y="13970"/>
                  <a:pt x="21947" y="13841"/>
                  <a:pt x="22250" y="13717"/>
                </a:cubicBezTo>
                <a:cubicBezTo>
                  <a:pt x="22351" y="13903"/>
                  <a:pt x="22398" y="14093"/>
                  <a:pt x="22076" y="14064"/>
                </a:cubicBezTo>
                <a:cubicBezTo>
                  <a:pt x="21988" y="14020"/>
                  <a:pt x="21955" y="14016"/>
                  <a:pt x="21977" y="13940"/>
                </a:cubicBezTo>
              </a:path>
              <a:path w="1613" h="720">
                <a:moveTo>
                  <a:pt x="22671" y="13717"/>
                </a:moveTo>
                <a:cubicBezTo>
                  <a:pt x="22531" y="13775"/>
                  <a:pt x="22493" y="13853"/>
                  <a:pt x="22523" y="14015"/>
                </a:cubicBezTo>
                <a:cubicBezTo>
                  <a:pt x="22652" y="13939"/>
                  <a:pt x="22650" y="13913"/>
                  <a:pt x="22696" y="13767"/>
                </a:cubicBezTo>
                <a:cubicBezTo>
                  <a:pt x="22675" y="13972"/>
                  <a:pt x="22780" y="13930"/>
                  <a:pt x="22944" y="13891"/>
                </a:cubicBezTo>
              </a:path>
              <a:path w="1613" h="720">
                <a:moveTo>
                  <a:pt x="23093" y="13643"/>
                </a:moveTo>
                <a:cubicBezTo>
                  <a:pt x="23064" y="13666"/>
                  <a:pt x="22823" y="13983"/>
                  <a:pt x="22920" y="13965"/>
                </a:cubicBezTo>
                <a:cubicBezTo>
                  <a:pt x="23072" y="13938"/>
                  <a:pt x="23024" y="13762"/>
                  <a:pt x="23019" y="13667"/>
                </a:cubicBezTo>
                <a:cubicBezTo>
                  <a:pt x="23066" y="13882"/>
                  <a:pt x="23147" y="14113"/>
                  <a:pt x="23118" y="14337"/>
                </a:cubicBezTo>
                <a:cubicBezTo>
                  <a:pt x="23110" y="14345"/>
                  <a:pt x="23101" y="14354"/>
                  <a:pt x="23093" y="14362"/>
                </a:cubicBezTo>
              </a:path>
              <a:path w="1613" h="720">
                <a:moveTo>
                  <a:pt x="23267" y="13816"/>
                </a:moveTo>
                <a:cubicBezTo>
                  <a:pt x="23315" y="13761"/>
                  <a:pt x="23399" y="13737"/>
                  <a:pt x="23416" y="13667"/>
                </a:cubicBezTo>
                <a:cubicBezTo>
                  <a:pt x="23296" y="13648"/>
                  <a:pt x="23080" y="13723"/>
                  <a:pt x="23242" y="13891"/>
                </a:cubicBezTo>
                <a:cubicBezTo>
                  <a:pt x="23379" y="14033"/>
                  <a:pt x="23488" y="13899"/>
                  <a:pt x="23564" y="1381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24360" y="4071960"/>
            <a:ext cx="392400" cy="187200"/>
          </a:xfrm>
          <a:custGeom>
            <a:avLst/>
            <a:gdLst/>
            <a:ahLst/>
            <a:rect l="l" t="t" r="r" b="b"/>
            <a:pathLst>
              <a:path w="1092" h="522">
                <a:moveTo>
                  <a:pt x="15900" y="11832"/>
                </a:moveTo>
                <a:cubicBezTo>
                  <a:pt x="15988" y="11796"/>
                  <a:pt x="16085" y="11714"/>
                  <a:pt x="16173" y="11658"/>
                </a:cubicBezTo>
              </a:path>
              <a:path w="1092" h="522">
                <a:moveTo>
                  <a:pt x="16371" y="11460"/>
                </a:moveTo>
                <a:cubicBezTo>
                  <a:pt x="16451" y="11380"/>
                  <a:pt x="16485" y="11364"/>
                  <a:pt x="16594" y="11385"/>
                </a:cubicBezTo>
                <a:cubicBezTo>
                  <a:pt x="16575" y="11557"/>
                  <a:pt x="16456" y="11665"/>
                  <a:pt x="16421" y="11807"/>
                </a:cubicBezTo>
                <a:cubicBezTo>
                  <a:pt x="16429" y="11815"/>
                  <a:pt x="16438" y="11824"/>
                  <a:pt x="16446" y="11832"/>
                </a:cubicBezTo>
                <a:cubicBezTo>
                  <a:pt x="16539" y="11798"/>
                  <a:pt x="16647" y="11765"/>
                  <a:pt x="16718" y="11708"/>
                </a:cubicBezTo>
                <a:cubicBezTo>
                  <a:pt x="16735" y="11691"/>
                  <a:pt x="16751" y="11675"/>
                  <a:pt x="16768" y="11658"/>
                </a:cubicBezTo>
              </a:path>
              <a:path w="1092" h="522">
                <a:moveTo>
                  <a:pt x="16743" y="11311"/>
                </a:moveTo>
                <a:cubicBezTo>
                  <a:pt x="16699" y="11356"/>
                  <a:pt x="16683" y="11366"/>
                  <a:pt x="16694" y="11410"/>
                </a:cubicBezTo>
                <a:cubicBezTo>
                  <a:pt x="16740" y="11428"/>
                  <a:pt x="16983" y="11506"/>
                  <a:pt x="16991" y="11559"/>
                </a:cubicBezTo>
                <a:cubicBezTo>
                  <a:pt x="17032" y="11823"/>
                  <a:pt x="16794" y="11648"/>
                  <a:pt x="16743" y="11584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05640" y="4143240"/>
            <a:ext cx="72720" cy="135000"/>
          </a:xfrm>
          <a:custGeom>
            <a:avLst/>
            <a:gdLst/>
            <a:ahLst/>
            <a:rect l="l" t="t" r="r" b="b"/>
            <a:pathLst>
              <a:path w="200" h="373">
                <a:moveTo>
                  <a:pt x="15850" y="11509"/>
                </a:moveTo>
                <a:lnTo>
                  <a:pt x="15850" y="11509"/>
                </a:lnTo>
              </a:path>
              <a:path w="200" h="373">
                <a:moveTo>
                  <a:pt x="16049" y="11857"/>
                </a:moveTo>
                <a:cubicBezTo>
                  <a:pt x="16049" y="11865"/>
                  <a:pt x="16049" y="11873"/>
                  <a:pt x="16049" y="11881"/>
                </a:cubicBezTo>
              </a:path>
              <a:path w="200" h="373">
                <a:moveTo>
                  <a:pt x="16049" y="11881"/>
                </a:moveTo>
                <a:lnTo>
                  <a:pt x="16049" y="11881"/>
                </a:ln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38880" y="4000680"/>
            <a:ext cx="704880" cy="1401480"/>
          </a:xfrm>
          <a:custGeom>
            <a:avLst/>
            <a:gdLst/>
            <a:ahLst/>
            <a:rect l="l" t="t" r="r" b="b"/>
            <a:pathLst>
              <a:path w="1961" h="3896">
                <a:moveTo>
                  <a:pt x="16793" y="11237"/>
                </a:moveTo>
                <a:cubicBezTo>
                  <a:pt x="16893" y="11182"/>
                  <a:pt x="16956" y="11140"/>
                  <a:pt x="17066" y="11112"/>
                </a:cubicBezTo>
              </a:path>
              <a:path w="1961" h="3896">
                <a:moveTo>
                  <a:pt x="15106" y="14734"/>
                </a:moveTo>
                <a:cubicBezTo>
                  <a:pt x="15175" y="14773"/>
                  <a:pt x="15260" y="14850"/>
                  <a:pt x="15329" y="14908"/>
                </a:cubicBezTo>
              </a:path>
              <a:path w="1961" h="3896">
                <a:moveTo>
                  <a:pt x="15255" y="14610"/>
                </a:moveTo>
                <a:cubicBezTo>
                  <a:pt x="15255" y="14618"/>
                  <a:pt x="15255" y="14627"/>
                  <a:pt x="15255" y="14635"/>
                </a:cubicBezTo>
              </a:path>
              <a:path w="1961" h="3896">
                <a:moveTo>
                  <a:pt x="15255" y="14635"/>
                </a:moveTo>
                <a:lnTo>
                  <a:pt x="15255" y="14635"/>
                </a:lnTo>
              </a:path>
              <a:path w="1961" h="3896">
                <a:moveTo>
                  <a:pt x="15180" y="14982"/>
                </a:moveTo>
                <a:cubicBezTo>
                  <a:pt x="15180" y="14990"/>
                  <a:pt x="15180" y="14999"/>
                  <a:pt x="15180" y="1500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54800" y="5322960"/>
            <a:ext cx="268200" cy="125280"/>
          </a:xfrm>
          <a:custGeom>
            <a:avLst/>
            <a:gdLst/>
            <a:ahLst/>
            <a:rect l="l" t="t" r="r" b="b"/>
            <a:pathLst>
              <a:path w="745" h="348">
                <a:moveTo>
                  <a:pt x="15503" y="14784"/>
                </a:moveTo>
                <a:cubicBezTo>
                  <a:pt x="15626" y="14822"/>
                  <a:pt x="15882" y="14928"/>
                  <a:pt x="15652" y="15081"/>
                </a:cubicBezTo>
                <a:cubicBezTo>
                  <a:pt x="15529" y="15122"/>
                  <a:pt x="15507" y="15139"/>
                  <a:pt x="15429" y="15131"/>
                </a:cubicBezTo>
                <a:cubicBezTo>
                  <a:pt x="15471" y="15075"/>
                  <a:pt x="15635" y="14999"/>
                  <a:pt x="15726" y="15032"/>
                </a:cubicBezTo>
                <a:cubicBezTo>
                  <a:pt x="15748" y="15075"/>
                  <a:pt x="15752" y="15087"/>
                  <a:pt x="15776" y="15106"/>
                </a:cubicBezTo>
              </a:path>
              <a:path w="745" h="348">
                <a:moveTo>
                  <a:pt x="15875" y="14808"/>
                </a:moveTo>
                <a:cubicBezTo>
                  <a:pt x="15920" y="14931"/>
                  <a:pt x="16055" y="14930"/>
                  <a:pt x="16148" y="15032"/>
                </a:cubicBezTo>
                <a:cubicBezTo>
                  <a:pt x="16213" y="15104"/>
                  <a:pt x="16043" y="15079"/>
                  <a:pt x="15949" y="1505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Objective:  Students will distinguish between rate and unit rate.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) It costs $8.00 for 3 bags of chips. How much does 1 bag c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) You drive 120 miles in 2 hours. How many miles did you drive in 1 hour? (m.p.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6045120" y="2340000"/>
            <a:ext cx="63720" cy="98280"/>
          </a:xfrm>
          <a:custGeom>
            <a:avLst/>
            <a:gdLst/>
            <a:ahLst/>
            <a:rect l="l" t="t" r="r" b="b"/>
            <a:pathLst>
              <a:path w="174" h="274">
                <a:moveTo>
                  <a:pt x="16793" y="6499"/>
                </a:moveTo>
                <a:lnTo>
                  <a:pt x="16793" y="6499"/>
                </a:lnTo>
                <a:lnTo>
                  <a:pt x="16793" y="6499"/>
                </a:lnTo>
              </a:path>
              <a:path w="174" h="274">
                <a:moveTo>
                  <a:pt x="16966" y="6772"/>
                </a:moveTo>
                <a:lnTo>
                  <a:pt x="16966" y="6772"/>
                </a:ln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45080" y="2214720"/>
            <a:ext cx="733320" cy="428400"/>
          </a:xfrm>
          <a:custGeom>
            <a:avLst/>
            <a:gdLst/>
            <a:ahLst/>
            <a:rect l="l" t="t" r="r" b="b"/>
            <a:pathLst>
              <a:path w="2035" h="1191">
                <a:moveTo>
                  <a:pt x="15751" y="6400"/>
                </a:moveTo>
                <a:cubicBezTo>
                  <a:pt x="15795" y="6371"/>
                  <a:pt x="15825" y="6255"/>
                  <a:pt x="15751" y="6201"/>
                </a:cubicBezTo>
                <a:cubicBezTo>
                  <a:pt x="15590" y="6083"/>
                  <a:pt x="15483" y="6165"/>
                  <a:pt x="15404" y="6300"/>
                </a:cubicBezTo>
                <a:cubicBezTo>
                  <a:pt x="15505" y="6402"/>
                  <a:pt x="15633" y="6453"/>
                  <a:pt x="15751" y="6548"/>
                </a:cubicBezTo>
                <a:cubicBezTo>
                  <a:pt x="15721" y="6589"/>
                  <a:pt x="15495" y="6805"/>
                  <a:pt x="15429" y="6672"/>
                </a:cubicBezTo>
                <a:cubicBezTo>
                  <a:pt x="15429" y="6639"/>
                  <a:pt x="15429" y="6606"/>
                  <a:pt x="15429" y="6573"/>
                </a:cubicBezTo>
              </a:path>
              <a:path w="2035" h="1191">
                <a:moveTo>
                  <a:pt x="15503" y="6152"/>
                </a:moveTo>
                <a:cubicBezTo>
                  <a:pt x="15559" y="6343"/>
                  <a:pt x="15615" y="6525"/>
                  <a:pt x="15627" y="6722"/>
                </a:cubicBezTo>
                <a:cubicBezTo>
                  <a:pt x="15627" y="6764"/>
                  <a:pt x="15619" y="6780"/>
                  <a:pt x="15652" y="6772"/>
                </a:cubicBezTo>
              </a:path>
              <a:path w="2035" h="1191">
                <a:moveTo>
                  <a:pt x="16470" y="6548"/>
                </a:moveTo>
                <a:cubicBezTo>
                  <a:pt x="16419" y="6497"/>
                  <a:pt x="16351" y="6448"/>
                  <a:pt x="16272" y="6474"/>
                </a:cubicBezTo>
                <a:cubicBezTo>
                  <a:pt x="16176" y="6506"/>
                  <a:pt x="16134" y="6584"/>
                  <a:pt x="16123" y="6672"/>
                </a:cubicBezTo>
                <a:cubicBezTo>
                  <a:pt x="16258" y="6765"/>
                  <a:pt x="16578" y="6778"/>
                  <a:pt x="16594" y="6970"/>
                </a:cubicBezTo>
                <a:cubicBezTo>
                  <a:pt x="16609" y="7148"/>
                  <a:pt x="16408" y="7119"/>
                  <a:pt x="16321" y="7119"/>
                </a:cubicBezTo>
                <a:cubicBezTo>
                  <a:pt x="16228" y="6918"/>
                  <a:pt x="16349" y="6831"/>
                  <a:pt x="16446" y="6623"/>
                </a:cubicBezTo>
                <a:cubicBezTo>
                  <a:pt x="16480" y="6550"/>
                  <a:pt x="16423" y="6484"/>
                  <a:pt x="16346" y="6548"/>
                </a:cubicBezTo>
                <a:cubicBezTo>
                  <a:pt x="16346" y="6556"/>
                  <a:pt x="16346" y="6565"/>
                  <a:pt x="16346" y="6573"/>
                </a:cubicBezTo>
              </a:path>
              <a:path w="2035" h="1191">
                <a:moveTo>
                  <a:pt x="15701" y="7342"/>
                </a:moveTo>
                <a:cubicBezTo>
                  <a:pt x="15894" y="7269"/>
                  <a:pt x="16295" y="7297"/>
                  <a:pt x="16495" y="7293"/>
                </a:cubicBezTo>
                <a:cubicBezTo>
                  <a:pt x="16757" y="7287"/>
                  <a:pt x="17077" y="7252"/>
                  <a:pt x="17338" y="7268"/>
                </a:cubicBezTo>
                <a:cubicBezTo>
                  <a:pt x="17338" y="7276"/>
                  <a:pt x="17338" y="7285"/>
                  <a:pt x="17338" y="7293"/>
                </a:cubicBezTo>
              </a:path>
              <a:path w="2035" h="1191">
                <a:moveTo>
                  <a:pt x="16743" y="6697"/>
                </a:moveTo>
                <a:cubicBezTo>
                  <a:pt x="16817" y="6666"/>
                  <a:pt x="16888" y="6600"/>
                  <a:pt x="16966" y="6573"/>
                </a:cubicBezTo>
              </a:path>
              <a:path w="2035" h="1191">
                <a:moveTo>
                  <a:pt x="17115" y="6375"/>
                </a:moveTo>
                <a:cubicBezTo>
                  <a:pt x="17153" y="6281"/>
                  <a:pt x="17200" y="6281"/>
                  <a:pt x="17289" y="6300"/>
                </a:cubicBezTo>
                <a:cubicBezTo>
                  <a:pt x="17333" y="6401"/>
                  <a:pt x="17310" y="6439"/>
                  <a:pt x="17239" y="6524"/>
                </a:cubicBezTo>
                <a:cubicBezTo>
                  <a:pt x="17298" y="6477"/>
                  <a:pt x="17416" y="6416"/>
                  <a:pt x="17438" y="6548"/>
                </a:cubicBezTo>
                <a:cubicBezTo>
                  <a:pt x="17450" y="6622"/>
                  <a:pt x="17336" y="6678"/>
                  <a:pt x="17289" y="669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224840" y="2214720"/>
            <a:ext cx="874440" cy="357120"/>
          </a:xfrm>
          <a:custGeom>
            <a:avLst/>
            <a:gdLst/>
            <a:ahLst/>
            <a:rect l="l" t="t" r="r" b="b"/>
            <a:pathLst>
              <a:path w="2432" h="993">
                <a:moveTo>
                  <a:pt x="20762" y="6623"/>
                </a:moveTo>
                <a:cubicBezTo>
                  <a:pt x="20741" y="6675"/>
                  <a:pt x="20737" y="6685"/>
                  <a:pt x="20712" y="6672"/>
                </a:cubicBezTo>
                <a:cubicBezTo>
                  <a:pt x="20767" y="6562"/>
                  <a:pt x="20924" y="6395"/>
                  <a:pt x="20985" y="6648"/>
                </a:cubicBezTo>
                <a:cubicBezTo>
                  <a:pt x="21030" y="6832"/>
                  <a:pt x="20882" y="7048"/>
                  <a:pt x="20712" y="7119"/>
                </a:cubicBezTo>
                <a:cubicBezTo>
                  <a:pt x="20687" y="7119"/>
                  <a:pt x="20663" y="7119"/>
                  <a:pt x="20638" y="7119"/>
                </a:cubicBezTo>
                <a:cubicBezTo>
                  <a:pt x="20599" y="7051"/>
                  <a:pt x="20559" y="6961"/>
                  <a:pt x="20687" y="6921"/>
                </a:cubicBezTo>
                <a:cubicBezTo>
                  <a:pt x="20822" y="6879"/>
                  <a:pt x="20959" y="6975"/>
                  <a:pt x="20985" y="7094"/>
                </a:cubicBezTo>
                <a:cubicBezTo>
                  <a:pt x="20985" y="7119"/>
                  <a:pt x="20985" y="7127"/>
                  <a:pt x="20985" y="7144"/>
                </a:cubicBezTo>
              </a:path>
              <a:path w="2432" h="993">
                <a:moveTo>
                  <a:pt x="21233" y="7069"/>
                </a:moveTo>
                <a:cubicBezTo>
                  <a:pt x="21246" y="7030"/>
                  <a:pt x="21245" y="7059"/>
                  <a:pt x="21258" y="7020"/>
                </a:cubicBezTo>
                <a:cubicBezTo>
                  <a:pt x="21220" y="7020"/>
                  <a:pt x="21133" y="7063"/>
                  <a:pt x="21208" y="7094"/>
                </a:cubicBezTo>
                <a:cubicBezTo>
                  <a:pt x="21275" y="7122"/>
                  <a:pt x="21286" y="7008"/>
                  <a:pt x="21258" y="7020"/>
                </a:cubicBezTo>
                <a:cubicBezTo>
                  <a:pt x="21235" y="7043"/>
                  <a:pt x="21231" y="7051"/>
                  <a:pt x="21208" y="7045"/>
                </a:cubicBezTo>
              </a:path>
              <a:path w="2432" h="993">
                <a:moveTo>
                  <a:pt x="20340" y="6375"/>
                </a:moveTo>
                <a:cubicBezTo>
                  <a:pt x="20340" y="6321"/>
                  <a:pt x="20327" y="6292"/>
                  <a:pt x="20290" y="6251"/>
                </a:cubicBezTo>
                <a:cubicBezTo>
                  <a:pt x="20203" y="6155"/>
                  <a:pt x="20145" y="6330"/>
                  <a:pt x="20117" y="6375"/>
                </a:cubicBezTo>
                <a:cubicBezTo>
                  <a:pt x="20087" y="6405"/>
                  <a:pt x="20076" y="6419"/>
                  <a:pt x="20067" y="6449"/>
                </a:cubicBezTo>
                <a:cubicBezTo>
                  <a:pt x="20135" y="6531"/>
                  <a:pt x="20210" y="6478"/>
                  <a:pt x="20315" y="6524"/>
                </a:cubicBezTo>
                <a:cubicBezTo>
                  <a:pt x="20345" y="6553"/>
                  <a:pt x="20357" y="6567"/>
                  <a:pt x="20365" y="6598"/>
                </a:cubicBezTo>
                <a:cubicBezTo>
                  <a:pt x="20274" y="6673"/>
                  <a:pt x="20231" y="6672"/>
                  <a:pt x="20117" y="6672"/>
                </a:cubicBezTo>
                <a:cubicBezTo>
                  <a:pt x="20076" y="6672"/>
                  <a:pt x="20059" y="6681"/>
                  <a:pt x="20067" y="6648"/>
                </a:cubicBezTo>
              </a:path>
              <a:path w="2432" h="993">
                <a:moveTo>
                  <a:pt x="20166" y="6152"/>
                </a:moveTo>
                <a:cubicBezTo>
                  <a:pt x="20187" y="6296"/>
                  <a:pt x="20249" y="6426"/>
                  <a:pt x="20265" y="6573"/>
                </a:cubicBezTo>
                <a:cubicBezTo>
                  <a:pt x="20272" y="6636"/>
                  <a:pt x="20235" y="6734"/>
                  <a:pt x="20290" y="6697"/>
                </a:cubicBezTo>
              </a:path>
              <a:path w="2432" h="993">
                <a:moveTo>
                  <a:pt x="21605" y="6548"/>
                </a:moveTo>
                <a:cubicBezTo>
                  <a:pt x="21589" y="6643"/>
                  <a:pt x="21527" y="6703"/>
                  <a:pt x="21506" y="6796"/>
                </a:cubicBezTo>
                <a:cubicBezTo>
                  <a:pt x="21490" y="6867"/>
                  <a:pt x="21517" y="6916"/>
                  <a:pt x="21580" y="6945"/>
                </a:cubicBezTo>
                <a:cubicBezTo>
                  <a:pt x="21691" y="6995"/>
                  <a:pt x="21761" y="6965"/>
                  <a:pt x="21853" y="6896"/>
                </a:cubicBezTo>
                <a:cubicBezTo>
                  <a:pt x="21901" y="6860"/>
                  <a:pt x="21927" y="6857"/>
                  <a:pt x="21927" y="6796"/>
                </a:cubicBezTo>
                <a:cubicBezTo>
                  <a:pt x="21867" y="6784"/>
                  <a:pt x="21807" y="6761"/>
                  <a:pt x="21754" y="6821"/>
                </a:cubicBezTo>
                <a:cubicBezTo>
                  <a:pt x="21731" y="6847"/>
                  <a:pt x="21678" y="6964"/>
                  <a:pt x="21729" y="6970"/>
                </a:cubicBezTo>
                <a:cubicBezTo>
                  <a:pt x="21737" y="6970"/>
                  <a:pt x="21746" y="6970"/>
                  <a:pt x="21754" y="6970"/>
                </a:cubicBezTo>
              </a:path>
              <a:path w="2432" h="993">
                <a:moveTo>
                  <a:pt x="22126" y="6598"/>
                </a:moveTo>
                <a:cubicBezTo>
                  <a:pt x="22045" y="6571"/>
                  <a:pt x="22197" y="6553"/>
                  <a:pt x="22225" y="6548"/>
                </a:cubicBezTo>
                <a:cubicBezTo>
                  <a:pt x="22326" y="6529"/>
                  <a:pt x="22399" y="6524"/>
                  <a:pt x="22498" y="6524"/>
                </a:cubicBezTo>
                <a:cubicBezTo>
                  <a:pt x="22498" y="6671"/>
                  <a:pt x="22450" y="6807"/>
                  <a:pt x="22399" y="6945"/>
                </a:cubicBezTo>
                <a:cubicBezTo>
                  <a:pt x="22374" y="6995"/>
                  <a:pt x="22366" y="7012"/>
                  <a:pt x="22349" y="7045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2724120"/>
            <a:ext cx="241560" cy="347760"/>
          </a:xfrm>
          <a:custGeom>
            <a:avLst/>
            <a:gdLst/>
            <a:ahLst/>
            <a:rect l="l" t="t" r="r" b="b"/>
            <a:pathLst>
              <a:path w="670" h="969">
                <a:moveTo>
                  <a:pt x="16321" y="7565"/>
                </a:moveTo>
                <a:cubicBezTo>
                  <a:pt x="16313" y="7565"/>
                  <a:pt x="16305" y="7565"/>
                  <a:pt x="16297" y="7565"/>
                </a:cubicBezTo>
              </a:path>
              <a:path w="670" h="969">
                <a:moveTo>
                  <a:pt x="16297" y="7565"/>
                </a:moveTo>
                <a:lnTo>
                  <a:pt x="16297" y="7565"/>
                </a:lnTo>
              </a:path>
              <a:path w="670" h="969">
                <a:moveTo>
                  <a:pt x="16942" y="8111"/>
                </a:moveTo>
                <a:lnTo>
                  <a:pt x="16942" y="8111"/>
                </a:lnTo>
                <a:lnTo>
                  <a:pt x="16942" y="8111"/>
                </a:lnTo>
              </a:path>
              <a:path w="670" h="969">
                <a:moveTo>
                  <a:pt x="16942" y="8111"/>
                </a:moveTo>
                <a:lnTo>
                  <a:pt x="16942" y="8111"/>
                </a:lnTo>
              </a:path>
              <a:path w="670" h="969">
                <a:moveTo>
                  <a:pt x="16966" y="8533"/>
                </a:moveTo>
                <a:lnTo>
                  <a:pt x="16966" y="8533"/>
                </a:ln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2571840"/>
            <a:ext cx="1116000" cy="465120"/>
          </a:xfrm>
          <a:custGeom>
            <a:avLst/>
            <a:gdLst/>
            <a:ahLst/>
            <a:rect l="l" t="t" r="r" b="b"/>
            <a:pathLst>
              <a:path w="3101" h="1291">
                <a:moveTo>
                  <a:pt x="16297" y="7565"/>
                </a:moveTo>
                <a:cubicBezTo>
                  <a:pt x="16370" y="7543"/>
                  <a:pt x="16618" y="7450"/>
                  <a:pt x="16644" y="7590"/>
                </a:cubicBezTo>
                <a:cubicBezTo>
                  <a:pt x="16683" y="7799"/>
                  <a:pt x="16451" y="7800"/>
                  <a:pt x="16346" y="7888"/>
                </a:cubicBezTo>
                <a:cubicBezTo>
                  <a:pt x="16354" y="7888"/>
                  <a:pt x="16363" y="7888"/>
                  <a:pt x="16371" y="7888"/>
                </a:cubicBezTo>
                <a:cubicBezTo>
                  <a:pt x="16552" y="7851"/>
                  <a:pt x="16545" y="7846"/>
                  <a:pt x="16694" y="7962"/>
                </a:cubicBezTo>
                <a:cubicBezTo>
                  <a:pt x="16650" y="8126"/>
                  <a:pt x="16564" y="8198"/>
                  <a:pt x="16371" y="8136"/>
                </a:cubicBezTo>
                <a:cubicBezTo>
                  <a:pt x="16363" y="8128"/>
                  <a:pt x="16354" y="8119"/>
                  <a:pt x="16346" y="8111"/>
                </a:cubicBezTo>
              </a:path>
              <a:path w="3101" h="1291">
                <a:moveTo>
                  <a:pt x="17165" y="7615"/>
                </a:moveTo>
                <a:cubicBezTo>
                  <a:pt x="17165" y="7615"/>
                  <a:pt x="17234" y="7861"/>
                  <a:pt x="17264" y="8012"/>
                </a:cubicBezTo>
                <a:cubicBezTo>
                  <a:pt x="17288" y="8133"/>
                  <a:pt x="17264" y="8085"/>
                  <a:pt x="17264" y="8037"/>
                </a:cubicBezTo>
                <a:cubicBezTo>
                  <a:pt x="17281" y="7937"/>
                  <a:pt x="17419" y="7662"/>
                  <a:pt x="17537" y="7913"/>
                </a:cubicBezTo>
                <a:cubicBezTo>
                  <a:pt x="17632" y="8116"/>
                  <a:pt x="17376" y="8139"/>
                  <a:pt x="17264" y="8111"/>
                </a:cubicBezTo>
                <a:cubicBezTo>
                  <a:pt x="17137" y="8079"/>
                  <a:pt x="17274" y="8035"/>
                  <a:pt x="17314" y="8012"/>
                </a:cubicBezTo>
              </a:path>
              <a:path w="3101" h="1291">
                <a:moveTo>
                  <a:pt x="17785" y="7888"/>
                </a:moveTo>
                <a:cubicBezTo>
                  <a:pt x="17810" y="7822"/>
                  <a:pt x="17820" y="7822"/>
                  <a:pt x="17785" y="7764"/>
                </a:cubicBezTo>
                <a:cubicBezTo>
                  <a:pt x="17602" y="7777"/>
                  <a:pt x="17622" y="7817"/>
                  <a:pt x="17537" y="7987"/>
                </a:cubicBezTo>
                <a:cubicBezTo>
                  <a:pt x="17701" y="8093"/>
                  <a:pt x="17803" y="8090"/>
                  <a:pt x="17884" y="7888"/>
                </a:cubicBezTo>
                <a:cubicBezTo>
                  <a:pt x="17884" y="7880"/>
                  <a:pt x="17884" y="7871"/>
                  <a:pt x="17884" y="7863"/>
                </a:cubicBezTo>
                <a:cubicBezTo>
                  <a:pt x="17831" y="7933"/>
                  <a:pt x="17895" y="8090"/>
                  <a:pt x="18033" y="8062"/>
                </a:cubicBezTo>
                <a:cubicBezTo>
                  <a:pt x="18083" y="8037"/>
                  <a:pt x="18132" y="8012"/>
                  <a:pt x="18182" y="7987"/>
                </a:cubicBezTo>
              </a:path>
              <a:path w="3101" h="1291">
                <a:moveTo>
                  <a:pt x="18207" y="7739"/>
                </a:moveTo>
                <a:cubicBezTo>
                  <a:pt x="18174" y="7769"/>
                  <a:pt x="17889" y="8076"/>
                  <a:pt x="18132" y="8037"/>
                </a:cubicBezTo>
                <a:cubicBezTo>
                  <a:pt x="18232" y="8021"/>
                  <a:pt x="18242" y="7911"/>
                  <a:pt x="18256" y="7838"/>
                </a:cubicBezTo>
                <a:cubicBezTo>
                  <a:pt x="18357" y="7959"/>
                  <a:pt x="18444" y="8092"/>
                  <a:pt x="18405" y="8260"/>
                </a:cubicBezTo>
                <a:cubicBezTo>
                  <a:pt x="18328" y="8594"/>
                  <a:pt x="18014" y="8386"/>
                  <a:pt x="17909" y="8260"/>
                </a:cubicBezTo>
              </a:path>
              <a:path w="3101" h="1291">
                <a:moveTo>
                  <a:pt x="18554" y="7665"/>
                </a:moveTo>
                <a:cubicBezTo>
                  <a:pt x="18510" y="7686"/>
                  <a:pt x="18498" y="7689"/>
                  <a:pt x="18479" y="7714"/>
                </a:cubicBezTo>
                <a:cubicBezTo>
                  <a:pt x="18581" y="7783"/>
                  <a:pt x="18690" y="7756"/>
                  <a:pt x="18777" y="7863"/>
                </a:cubicBezTo>
                <a:cubicBezTo>
                  <a:pt x="18616" y="7990"/>
                  <a:pt x="18643" y="7979"/>
                  <a:pt x="18455" y="7913"/>
                </a:cubicBezTo>
              </a:path>
              <a:path w="3101" h="1291">
                <a:moveTo>
                  <a:pt x="19124" y="7169"/>
                </a:moveTo>
                <a:cubicBezTo>
                  <a:pt x="19210" y="7155"/>
                  <a:pt x="19282" y="7144"/>
                  <a:pt x="19372" y="7144"/>
                </a:cubicBezTo>
              </a:path>
              <a:path w="3101" h="1291">
                <a:moveTo>
                  <a:pt x="19149" y="7367"/>
                </a:moveTo>
                <a:cubicBezTo>
                  <a:pt x="19265" y="7330"/>
                  <a:pt x="19281" y="7317"/>
                  <a:pt x="19397" y="7317"/>
                </a:cubicBezTo>
              </a:path>
              <a:path w="3101" h="1291">
                <a:moveTo>
                  <a:pt x="16842" y="8260"/>
                </a:moveTo>
                <a:cubicBezTo>
                  <a:pt x="16895" y="8278"/>
                  <a:pt x="16939" y="8321"/>
                  <a:pt x="16991" y="8334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75680" y="2643120"/>
            <a:ext cx="849240" cy="349200"/>
          </a:xfrm>
          <a:custGeom>
            <a:avLst/>
            <a:gdLst/>
            <a:ahLst/>
            <a:rect l="l" t="t" r="r" b="b"/>
            <a:pathLst>
              <a:path w="2357" h="969">
                <a:moveTo>
                  <a:pt x="20489" y="7466"/>
                </a:moveTo>
                <a:cubicBezTo>
                  <a:pt x="20630" y="7401"/>
                  <a:pt x="20821" y="7374"/>
                  <a:pt x="21010" y="7367"/>
                </a:cubicBezTo>
                <a:cubicBezTo>
                  <a:pt x="21415" y="7353"/>
                  <a:pt x="21821" y="7352"/>
                  <a:pt x="22225" y="7342"/>
                </a:cubicBezTo>
                <a:cubicBezTo>
                  <a:pt x="22250" y="7342"/>
                  <a:pt x="22258" y="7342"/>
                  <a:pt x="22275" y="7342"/>
                </a:cubicBezTo>
              </a:path>
              <a:path w="2357" h="969">
                <a:moveTo>
                  <a:pt x="20786" y="7590"/>
                </a:moveTo>
                <a:cubicBezTo>
                  <a:pt x="20807" y="7737"/>
                  <a:pt x="20789" y="7891"/>
                  <a:pt x="20811" y="8037"/>
                </a:cubicBezTo>
                <a:cubicBezTo>
                  <a:pt x="20831" y="8077"/>
                  <a:pt x="20840" y="8083"/>
                  <a:pt x="20836" y="8111"/>
                </a:cubicBezTo>
              </a:path>
              <a:path w="2357" h="969">
                <a:moveTo>
                  <a:pt x="21580" y="7615"/>
                </a:moveTo>
                <a:cubicBezTo>
                  <a:pt x="21580" y="7572"/>
                  <a:pt x="21625" y="7907"/>
                  <a:pt x="21630" y="7938"/>
                </a:cubicBezTo>
                <a:cubicBezTo>
                  <a:pt x="21630" y="8055"/>
                  <a:pt x="21628" y="7828"/>
                  <a:pt x="21679" y="7789"/>
                </a:cubicBezTo>
                <a:cubicBezTo>
                  <a:pt x="21881" y="7634"/>
                  <a:pt x="21935" y="7882"/>
                  <a:pt x="21927" y="8012"/>
                </a:cubicBezTo>
                <a:cubicBezTo>
                  <a:pt x="21840" y="8032"/>
                  <a:pt x="21684" y="8079"/>
                  <a:pt x="21630" y="7962"/>
                </a:cubicBezTo>
                <a:cubicBezTo>
                  <a:pt x="21630" y="7946"/>
                  <a:pt x="21630" y="7929"/>
                  <a:pt x="21630" y="7913"/>
                </a:cubicBezTo>
              </a:path>
              <a:path w="2357" h="969">
                <a:moveTo>
                  <a:pt x="22299" y="7689"/>
                </a:moveTo>
                <a:cubicBezTo>
                  <a:pt x="22189" y="7700"/>
                  <a:pt x="21968" y="7774"/>
                  <a:pt x="22051" y="7938"/>
                </a:cubicBezTo>
                <a:cubicBezTo>
                  <a:pt x="22145" y="8124"/>
                  <a:pt x="22288" y="7869"/>
                  <a:pt x="22299" y="7789"/>
                </a:cubicBezTo>
                <a:cubicBezTo>
                  <a:pt x="22342" y="7959"/>
                  <a:pt x="22421" y="7917"/>
                  <a:pt x="22572" y="7888"/>
                </a:cubicBezTo>
              </a:path>
              <a:path w="2357" h="969">
                <a:moveTo>
                  <a:pt x="22721" y="7665"/>
                </a:moveTo>
                <a:cubicBezTo>
                  <a:pt x="22581" y="7675"/>
                  <a:pt x="22580" y="7706"/>
                  <a:pt x="22498" y="7838"/>
                </a:cubicBezTo>
                <a:cubicBezTo>
                  <a:pt x="22583" y="7906"/>
                  <a:pt x="22652" y="7878"/>
                  <a:pt x="22721" y="7789"/>
                </a:cubicBezTo>
                <a:cubicBezTo>
                  <a:pt x="22797" y="7690"/>
                  <a:pt x="22844" y="8015"/>
                  <a:pt x="22845" y="8062"/>
                </a:cubicBezTo>
                <a:cubicBezTo>
                  <a:pt x="22849" y="8305"/>
                  <a:pt x="22673" y="8321"/>
                  <a:pt x="22498" y="8260"/>
                </a:cubicBezTo>
                <a:cubicBezTo>
                  <a:pt x="22481" y="8252"/>
                  <a:pt x="22465" y="8243"/>
                  <a:pt x="22448" y="8235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80120" y="2973240"/>
            <a:ext cx="115920" cy="125640"/>
          </a:xfrm>
          <a:custGeom>
            <a:avLst/>
            <a:gdLst/>
            <a:ahLst/>
            <a:rect l="l" t="t" r="r" b="b"/>
            <a:pathLst>
              <a:path w="323" h="348">
                <a:moveTo>
                  <a:pt x="17165" y="8359"/>
                </a:moveTo>
                <a:cubicBezTo>
                  <a:pt x="17243" y="8310"/>
                  <a:pt x="17422" y="8200"/>
                  <a:pt x="17388" y="8285"/>
                </a:cubicBezTo>
                <a:cubicBezTo>
                  <a:pt x="17346" y="8368"/>
                  <a:pt x="17338" y="8384"/>
                  <a:pt x="17314" y="8434"/>
                </a:cubicBezTo>
                <a:cubicBezTo>
                  <a:pt x="17381" y="8434"/>
                  <a:pt x="17414" y="8430"/>
                  <a:pt x="17462" y="8409"/>
                </a:cubicBezTo>
                <a:cubicBezTo>
                  <a:pt x="17478" y="8466"/>
                  <a:pt x="17417" y="8684"/>
                  <a:pt x="17289" y="8607"/>
                </a:cubicBezTo>
                <a:cubicBezTo>
                  <a:pt x="17272" y="8574"/>
                  <a:pt x="17256" y="8541"/>
                  <a:pt x="17239" y="8508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938320" y="4483080"/>
            <a:ext cx="1697040" cy="1116000"/>
          </a:xfrm>
          <a:custGeom>
            <a:avLst/>
            <a:gdLst/>
            <a:ahLst/>
            <a:rect l="l" t="t" r="r" b="b"/>
            <a:pathLst>
              <a:path w="4714" h="3102">
                <a:moveTo>
                  <a:pt x="8161" y="12948"/>
                </a:moveTo>
                <a:cubicBezTo>
                  <a:pt x="8161" y="13156"/>
                  <a:pt x="8199" y="13360"/>
                  <a:pt x="8186" y="13568"/>
                </a:cubicBezTo>
                <a:cubicBezTo>
                  <a:pt x="8178" y="13609"/>
                  <a:pt x="8169" y="13651"/>
                  <a:pt x="8161" y="13692"/>
                </a:cubicBezTo>
              </a:path>
              <a:path w="4714" h="3102">
                <a:moveTo>
                  <a:pt x="8632" y="13047"/>
                </a:moveTo>
                <a:cubicBezTo>
                  <a:pt x="8841" y="13089"/>
                  <a:pt x="9093" y="13253"/>
                  <a:pt x="8855" y="13519"/>
                </a:cubicBezTo>
                <a:cubicBezTo>
                  <a:pt x="8733" y="13656"/>
                  <a:pt x="8585" y="13642"/>
                  <a:pt x="8458" y="13593"/>
                </a:cubicBezTo>
                <a:cubicBezTo>
                  <a:pt x="8596" y="13464"/>
                  <a:pt x="8770" y="13309"/>
                  <a:pt x="8905" y="13543"/>
                </a:cubicBezTo>
                <a:cubicBezTo>
                  <a:pt x="8924" y="13621"/>
                  <a:pt x="8916" y="13638"/>
                  <a:pt x="8954" y="13667"/>
                </a:cubicBezTo>
              </a:path>
              <a:path w="4714" h="3102">
                <a:moveTo>
                  <a:pt x="9227" y="12998"/>
                </a:moveTo>
                <a:cubicBezTo>
                  <a:pt x="8968" y="13190"/>
                  <a:pt x="8889" y="13308"/>
                  <a:pt x="8979" y="13618"/>
                </a:cubicBezTo>
                <a:cubicBezTo>
                  <a:pt x="9181" y="13634"/>
                  <a:pt x="9564" y="13526"/>
                  <a:pt x="9376" y="13196"/>
                </a:cubicBezTo>
                <a:cubicBezTo>
                  <a:pt x="9242" y="13107"/>
                  <a:pt x="9209" y="13077"/>
                  <a:pt x="9103" y="13072"/>
                </a:cubicBezTo>
              </a:path>
              <a:path w="4714" h="3102">
                <a:moveTo>
                  <a:pt x="9674" y="13345"/>
                </a:moveTo>
                <a:cubicBezTo>
                  <a:pt x="9674" y="13469"/>
                  <a:pt x="9674" y="13593"/>
                  <a:pt x="9674" y="13717"/>
                </a:cubicBezTo>
                <a:cubicBezTo>
                  <a:pt x="9685" y="13629"/>
                  <a:pt x="9681" y="13407"/>
                  <a:pt x="9773" y="13370"/>
                </a:cubicBezTo>
                <a:cubicBezTo>
                  <a:pt x="9899" y="13319"/>
                  <a:pt x="9999" y="13540"/>
                  <a:pt x="10021" y="13618"/>
                </a:cubicBezTo>
                <a:cubicBezTo>
                  <a:pt x="9983" y="13543"/>
                  <a:pt x="9995" y="13309"/>
                  <a:pt x="10170" y="13370"/>
                </a:cubicBezTo>
                <a:cubicBezTo>
                  <a:pt x="10389" y="13446"/>
                  <a:pt x="10262" y="13679"/>
                  <a:pt x="10368" y="13767"/>
                </a:cubicBezTo>
                <a:cubicBezTo>
                  <a:pt x="10376" y="13759"/>
                  <a:pt x="10385" y="13750"/>
                  <a:pt x="10393" y="13742"/>
                </a:cubicBezTo>
              </a:path>
              <a:path w="4714" h="3102">
                <a:moveTo>
                  <a:pt x="10864" y="13047"/>
                </a:moveTo>
                <a:cubicBezTo>
                  <a:pt x="10878" y="13307"/>
                  <a:pt x="10951" y="13536"/>
                  <a:pt x="10988" y="13791"/>
                </a:cubicBezTo>
                <a:cubicBezTo>
                  <a:pt x="10988" y="13833"/>
                  <a:pt x="10988" y="13858"/>
                  <a:pt x="10988" y="13816"/>
                </a:cubicBezTo>
              </a:path>
              <a:path w="4714" h="3102">
                <a:moveTo>
                  <a:pt x="11162" y="13568"/>
                </a:moveTo>
                <a:cubicBezTo>
                  <a:pt x="11228" y="13568"/>
                  <a:pt x="11295" y="13568"/>
                  <a:pt x="11361" y="13568"/>
                </a:cubicBezTo>
                <a:cubicBezTo>
                  <a:pt x="11348" y="13505"/>
                  <a:pt x="11265" y="13377"/>
                  <a:pt x="11187" y="13469"/>
                </a:cubicBezTo>
                <a:cubicBezTo>
                  <a:pt x="11072" y="13604"/>
                  <a:pt x="11180" y="13880"/>
                  <a:pt x="11385" y="13816"/>
                </a:cubicBezTo>
                <a:cubicBezTo>
                  <a:pt x="11451" y="13775"/>
                  <a:pt x="11518" y="13733"/>
                  <a:pt x="11584" y="13692"/>
                </a:cubicBezTo>
              </a:path>
              <a:path w="4714" h="3102">
                <a:moveTo>
                  <a:pt x="11708" y="13444"/>
                </a:moveTo>
                <a:cubicBezTo>
                  <a:pt x="11604" y="13486"/>
                  <a:pt x="11578" y="13488"/>
                  <a:pt x="11534" y="13543"/>
                </a:cubicBezTo>
                <a:cubicBezTo>
                  <a:pt x="11602" y="13645"/>
                  <a:pt x="11757" y="13691"/>
                  <a:pt x="11857" y="13791"/>
                </a:cubicBezTo>
                <a:cubicBezTo>
                  <a:pt x="11712" y="13936"/>
                  <a:pt x="11635" y="13910"/>
                  <a:pt x="11435" y="13866"/>
                </a:cubicBezTo>
              </a:path>
              <a:path w="4714" h="3102">
                <a:moveTo>
                  <a:pt x="8210" y="14188"/>
                </a:moveTo>
                <a:cubicBezTo>
                  <a:pt x="8821" y="14127"/>
                  <a:pt x="9432" y="14104"/>
                  <a:pt x="10046" y="14114"/>
                </a:cubicBezTo>
                <a:cubicBezTo>
                  <a:pt x="10406" y="14120"/>
                  <a:pt x="11591" y="14015"/>
                  <a:pt x="11906" y="14288"/>
                </a:cubicBezTo>
                <a:cubicBezTo>
                  <a:pt x="11856" y="14288"/>
                  <a:pt x="11823" y="14288"/>
                  <a:pt x="11782" y="14288"/>
                </a:cubicBezTo>
              </a:path>
              <a:path w="4714" h="3102">
                <a:moveTo>
                  <a:pt x="8582" y="14511"/>
                </a:moveTo>
                <a:cubicBezTo>
                  <a:pt x="8812" y="14434"/>
                  <a:pt x="9048" y="14484"/>
                  <a:pt x="8979" y="14808"/>
                </a:cubicBezTo>
                <a:cubicBezTo>
                  <a:pt x="8920" y="15081"/>
                  <a:pt x="8601" y="15134"/>
                  <a:pt x="8434" y="15032"/>
                </a:cubicBezTo>
                <a:cubicBezTo>
                  <a:pt x="8639" y="14826"/>
                  <a:pt x="8790" y="14833"/>
                  <a:pt x="9054" y="15007"/>
                </a:cubicBezTo>
                <a:cubicBezTo>
                  <a:pt x="9115" y="15068"/>
                  <a:pt x="9122" y="15093"/>
                  <a:pt x="9178" y="15081"/>
                </a:cubicBezTo>
              </a:path>
              <a:path w="4714" h="3102">
                <a:moveTo>
                  <a:pt x="9971" y="14412"/>
                </a:moveTo>
                <a:cubicBezTo>
                  <a:pt x="9990" y="14614"/>
                  <a:pt x="10047" y="14806"/>
                  <a:pt x="10071" y="15007"/>
                </a:cubicBezTo>
                <a:cubicBezTo>
                  <a:pt x="10071" y="15032"/>
                  <a:pt x="10071" y="15056"/>
                  <a:pt x="10071" y="15081"/>
                </a:cubicBezTo>
                <a:cubicBezTo>
                  <a:pt x="10053" y="14992"/>
                  <a:pt x="10033" y="14858"/>
                  <a:pt x="10120" y="14784"/>
                </a:cubicBezTo>
                <a:cubicBezTo>
                  <a:pt x="10296" y="14635"/>
                  <a:pt x="10456" y="14851"/>
                  <a:pt x="10492" y="15007"/>
                </a:cubicBezTo>
                <a:cubicBezTo>
                  <a:pt x="10492" y="15081"/>
                  <a:pt x="10492" y="15090"/>
                  <a:pt x="10492" y="15131"/>
                </a:cubicBezTo>
              </a:path>
              <a:path w="4714" h="3102">
                <a:moveTo>
                  <a:pt x="10616" y="14883"/>
                </a:moveTo>
                <a:cubicBezTo>
                  <a:pt x="10638" y="14990"/>
                  <a:pt x="10646" y="15014"/>
                  <a:pt x="10641" y="15081"/>
                </a:cubicBezTo>
                <a:cubicBezTo>
                  <a:pt x="10654" y="14974"/>
                  <a:pt x="10672" y="14787"/>
                  <a:pt x="10790" y="14734"/>
                </a:cubicBezTo>
                <a:cubicBezTo>
                  <a:pt x="10823" y="14734"/>
                  <a:pt x="10856" y="14734"/>
                  <a:pt x="10889" y="14734"/>
                </a:cubicBezTo>
              </a:path>
              <a:path w="4714" h="3102">
                <a:moveTo>
                  <a:pt x="11187" y="14684"/>
                </a:moveTo>
                <a:cubicBezTo>
                  <a:pt x="11088" y="14717"/>
                  <a:pt x="11011" y="14721"/>
                  <a:pt x="10988" y="14833"/>
                </a:cubicBezTo>
                <a:cubicBezTo>
                  <a:pt x="11123" y="14885"/>
                  <a:pt x="11211" y="14916"/>
                  <a:pt x="11311" y="15007"/>
                </a:cubicBezTo>
                <a:cubicBezTo>
                  <a:pt x="11166" y="15095"/>
                  <a:pt x="11141" y="15122"/>
                  <a:pt x="10988" y="15081"/>
                </a:cubicBezTo>
              </a:path>
              <a:path w="4714" h="3102">
                <a:moveTo>
                  <a:pt x="12452" y="14288"/>
                </a:moveTo>
                <a:cubicBezTo>
                  <a:pt x="12598" y="14288"/>
                  <a:pt x="12731" y="14289"/>
                  <a:pt x="12874" y="14312"/>
                </a:cubicBezTo>
              </a:path>
              <a:path w="4714" h="3102">
                <a:moveTo>
                  <a:pt x="9327" y="15230"/>
                </a:moveTo>
                <a:cubicBezTo>
                  <a:pt x="9343" y="15179"/>
                  <a:pt x="9534" y="15245"/>
                  <a:pt x="9575" y="15255"/>
                </a:cubicBezTo>
                <a:cubicBezTo>
                  <a:pt x="9600" y="15263"/>
                  <a:pt x="9624" y="15272"/>
                  <a:pt x="9649" y="15280"/>
                </a:cubicBezTo>
              </a:path>
              <a:path w="4714" h="3102">
                <a:moveTo>
                  <a:pt x="9823" y="15205"/>
                </a:moveTo>
                <a:cubicBezTo>
                  <a:pt x="10018" y="15150"/>
                  <a:pt x="10014" y="15124"/>
                  <a:pt x="10145" y="15255"/>
                </a:cubicBezTo>
                <a:cubicBezTo>
                  <a:pt x="10065" y="15390"/>
                  <a:pt x="9968" y="15557"/>
                  <a:pt x="9823" y="15528"/>
                </a:cubicBezTo>
                <a:cubicBezTo>
                  <a:pt x="9945" y="15414"/>
                  <a:pt x="10023" y="15339"/>
                  <a:pt x="10195" y="15404"/>
                </a:cubicBezTo>
              </a:path>
              <a:path w="4714" h="3102">
                <a:moveTo>
                  <a:pt x="9500" y="12998"/>
                </a:moveTo>
                <a:cubicBezTo>
                  <a:pt x="9508" y="12998"/>
                  <a:pt x="9517" y="12998"/>
                  <a:pt x="9525" y="12998"/>
                </a:cubicBezTo>
                <a:cubicBezTo>
                  <a:pt x="9560" y="12940"/>
                  <a:pt x="9629" y="12897"/>
                  <a:pt x="9699" y="12874"/>
                </a:cubicBezTo>
              </a:path>
              <a:path w="4714" h="3102">
                <a:moveTo>
                  <a:pt x="9649" y="13072"/>
                </a:moveTo>
                <a:cubicBezTo>
                  <a:pt x="9649" y="13105"/>
                  <a:pt x="9649" y="13105"/>
                  <a:pt x="9649" y="13047"/>
                </a:cubicBezTo>
              </a:path>
              <a:path w="4714" h="3102">
                <a:moveTo>
                  <a:pt x="9649" y="12601"/>
                </a:moveTo>
                <a:cubicBezTo>
                  <a:pt x="9723" y="12512"/>
                  <a:pt x="9755" y="12476"/>
                  <a:pt x="9872" y="12452"/>
                </a:cubicBezTo>
                <a:cubicBezTo>
                  <a:pt x="9889" y="12572"/>
                  <a:pt x="9884" y="12666"/>
                  <a:pt x="9823" y="12774"/>
                </a:cubicBezTo>
                <a:cubicBezTo>
                  <a:pt x="9975" y="12755"/>
                  <a:pt x="10015" y="12676"/>
                  <a:pt x="10145" y="12626"/>
                </a:cubicBezTo>
                <a:cubicBezTo>
                  <a:pt x="10162" y="12626"/>
                  <a:pt x="10178" y="12626"/>
                  <a:pt x="10195" y="1262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02000" y="4562640"/>
            <a:ext cx="1278000" cy="661680"/>
          </a:xfrm>
          <a:custGeom>
            <a:avLst/>
            <a:gdLst/>
            <a:ahLst/>
            <a:rect l="l" t="t" r="r" b="b"/>
            <a:pathLst>
              <a:path w="3548" h="1837">
                <a:moveTo>
                  <a:pt x="10616" y="13643"/>
                </a:moveTo>
                <a:cubicBezTo>
                  <a:pt x="10624" y="13684"/>
                  <a:pt x="10633" y="13726"/>
                  <a:pt x="10641" y="13767"/>
                </a:cubicBezTo>
              </a:path>
              <a:path w="3548" h="1837">
                <a:moveTo>
                  <a:pt x="10517" y="13122"/>
                </a:moveTo>
                <a:cubicBezTo>
                  <a:pt x="10517" y="13089"/>
                  <a:pt x="10525" y="13080"/>
                  <a:pt x="10567" y="13097"/>
                </a:cubicBezTo>
              </a:path>
              <a:path w="3548" h="1837">
                <a:moveTo>
                  <a:pt x="10567" y="13097"/>
                </a:moveTo>
                <a:lnTo>
                  <a:pt x="10567" y="13097"/>
                </a:lnTo>
              </a:path>
              <a:path w="3548" h="1837">
                <a:moveTo>
                  <a:pt x="12477" y="14511"/>
                </a:moveTo>
                <a:cubicBezTo>
                  <a:pt x="12725" y="14483"/>
                  <a:pt x="12824" y="14473"/>
                  <a:pt x="12998" y="14461"/>
                </a:cubicBezTo>
              </a:path>
              <a:path w="3548" h="1837">
                <a:moveTo>
                  <a:pt x="12998" y="14461"/>
                </a:moveTo>
                <a:lnTo>
                  <a:pt x="12998" y="14461"/>
                </a:lnTo>
              </a:path>
              <a:path w="3548" h="1837">
                <a:moveTo>
                  <a:pt x="9451" y="12675"/>
                </a:moveTo>
                <a:cubicBezTo>
                  <a:pt x="9451" y="12683"/>
                  <a:pt x="9451" y="12692"/>
                  <a:pt x="9451" y="12700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62760" y="4938840"/>
            <a:ext cx="936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6867" y="13717"/>
                </a:moveTo>
                <a:cubicBezTo>
                  <a:pt x="16859" y="13717"/>
                  <a:pt x="16850" y="13717"/>
                  <a:pt x="16842" y="13717"/>
                </a:cubicBezTo>
              </a:path>
              <a:path w="26" h="1">
                <a:moveTo>
                  <a:pt x="16842" y="13717"/>
                </a:moveTo>
                <a:lnTo>
                  <a:pt x="16842" y="13717"/>
                </a:ln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48160" y="4768920"/>
            <a:ext cx="1243080" cy="357120"/>
          </a:xfrm>
          <a:custGeom>
            <a:avLst/>
            <a:gdLst/>
            <a:ahLst/>
            <a:rect l="l" t="t" r="r" b="b"/>
            <a:pathLst>
              <a:path w="3449" h="993">
                <a:moveTo>
                  <a:pt x="14957" y="13246"/>
                </a:moveTo>
                <a:cubicBezTo>
                  <a:pt x="14925" y="13405"/>
                  <a:pt x="14870" y="13546"/>
                  <a:pt x="14858" y="13717"/>
                </a:cubicBezTo>
                <a:cubicBezTo>
                  <a:pt x="14850" y="13822"/>
                  <a:pt x="14806" y="14144"/>
                  <a:pt x="15007" y="14139"/>
                </a:cubicBezTo>
                <a:cubicBezTo>
                  <a:pt x="15219" y="14134"/>
                  <a:pt x="15337" y="13929"/>
                  <a:pt x="15404" y="13767"/>
                </a:cubicBezTo>
                <a:cubicBezTo>
                  <a:pt x="15315" y="13663"/>
                  <a:pt x="15175" y="13696"/>
                  <a:pt x="15106" y="13841"/>
                </a:cubicBezTo>
                <a:cubicBezTo>
                  <a:pt x="15035" y="13989"/>
                  <a:pt x="15068" y="14066"/>
                  <a:pt x="15156" y="14114"/>
                </a:cubicBezTo>
              </a:path>
              <a:path w="3449" h="993">
                <a:moveTo>
                  <a:pt x="15602" y="13345"/>
                </a:moveTo>
                <a:cubicBezTo>
                  <a:pt x="15458" y="13282"/>
                  <a:pt x="15471" y="13453"/>
                  <a:pt x="15453" y="13568"/>
                </a:cubicBezTo>
                <a:cubicBezTo>
                  <a:pt x="15419" y="13787"/>
                  <a:pt x="15448" y="13859"/>
                  <a:pt x="15553" y="14039"/>
                </a:cubicBezTo>
                <a:cubicBezTo>
                  <a:pt x="15737" y="14030"/>
                  <a:pt x="15985" y="13908"/>
                  <a:pt x="15900" y="13643"/>
                </a:cubicBezTo>
                <a:cubicBezTo>
                  <a:pt x="15830" y="13423"/>
                  <a:pt x="15547" y="13405"/>
                  <a:pt x="15379" y="13494"/>
                </a:cubicBezTo>
                <a:cubicBezTo>
                  <a:pt x="15379" y="13502"/>
                  <a:pt x="15379" y="13511"/>
                  <a:pt x="15379" y="13519"/>
                </a:cubicBezTo>
              </a:path>
              <a:path w="3449" h="993">
                <a:moveTo>
                  <a:pt x="16222" y="13791"/>
                </a:moveTo>
                <a:cubicBezTo>
                  <a:pt x="16285" y="13929"/>
                  <a:pt x="16346" y="14034"/>
                  <a:pt x="16346" y="14188"/>
                </a:cubicBezTo>
                <a:cubicBezTo>
                  <a:pt x="16346" y="14180"/>
                  <a:pt x="16346" y="14171"/>
                  <a:pt x="16346" y="14163"/>
                </a:cubicBezTo>
                <a:cubicBezTo>
                  <a:pt x="16310" y="14095"/>
                  <a:pt x="16169" y="13795"/>
                  <a:pt x="16396" y="13866"/>
                </a:cubicBezTo>
                <a:cubicBezTo>
                  <a:pt x="16469" y="13889"/>
                  <a:pt x="16709" y="14117"/>
                  <a:pt x="16545" y="14089"/>
                </a:cubicBezTo>
                <a:cubicBezTo>
                  <a:pt x="16518" y="14019"/>
                  <a:pt x="16430" y="13723"/>
                  <a:pt x="16644" y="13816"/>
                </a:cubicBezTo>
                <a:cubicBezTo>
                  <a:pt x="16804" y="13886"/>
                  <a:pt x="16835" y="14047"/>
                  <a:pt x="16892" y="14188"/>
                </a:cubicBezTo>
              </a:path>
              <a:path w="3449" h="993">
                <a:moveTo>
                  <a:pt x="16966" y="13866"/>
                </a:moveTo>
                <a:cubicBezTo>
                  <a:pt x="17010" y="13918"/>
                  <a:pt x="17138" y="14074"/>
                  <a:pt x="17115" y="14139"/>
                </a:cubicBezTo>
                <a:cubicBezTo>
                  <a:pt x="17107" y="14131"/>
                  <a:pt x="17098" y="14122"/>
                  <a:pt x="17090" y="14114"/>
                </a:cubicBezTo>
              </a:path>
              <a:path w="3449" h="993">
                <a:moveTo>
                  <a:pt x="17214" y="13593"/>
                </a:moveTo>
                <a:cubicBezTo>
                  <a:pt x="17214" y="13523"/>
                  <a:pt x="17406" y="13947"/>
                  <a:pt x="17413" y="13965"/>
                </a:cubicBezTo>
                <a:cubicBezTo>
                  <a:pt x="17417" y="13975"/>
                  <a:pt x="17462" y="14376"/>
                  <a:pt x="17462" y="14163"/>
                </a:cubicBezTo>
              </a:path>
              <a:path w="3449" h="993">
                <a:moveTo>
                  <a:pt x="17562" y="13940"/>
                </a:moveTo>
                <a:cubicBezTo>
                  <a:pt x="17647" y="13930"/>
                  <a:pt x="17721" y="13915"/>
                  <a:pt x="17810" y="13915"/>
                </a:cubicBezTo>
                <a:cubicBezTo>
                  <a:pt x="17795" y="13889"/>
                  <a:pt x="17691" y="13710"/>
                  <a:pt x="17636" y="13791"/>
                </a:cubicBezTo>
                <a:cubicBezTo>
                  <a:pt x="17584" y="13868"/>
                  <a:pt x="17493" y="14169"/>
                  <a:pt x="17686" y="14163"/>
                </a:cubicBezTo>
                <a:cubicBezTo>
                  <a:pt x="17719" y="14147"/>
                  <a:pt x="17752" y="14130"/>
                  <a:pt x="17785" y="14114"/>
                </a:cubicBezTo>
              </a:path>
              <a:path w="3449" h="993">
                <a:moveTo>
                  <a:pt x="18107" y="13692"/>
                </a:moveTo>
                <a:cubicBezTo>
                  <a:pt x="18012" y="13747"/>
                  <a:pt x="17989" y="13753"/>
                  <a:pt x="17934" y="13841"/>
                </a:cubicBezTo>
                <a:cubicBezTo>
                  <a:pt x="18095" y="13841"/>
                  <a:pt x="18176" y="13854"/>
                  <a:pt x="18306" y="13940"/>
                </a:cubicBezTo>
                <a:cubicBezTo>
                  <a:pt x="18219" y="14077"/>
                  <a:pt x="18207" y="14048"/>
                  <a:pt x="18033" y="14064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41960" y="5160960"/>
            <a:ext cx="893880" cy="339840"/>
          </a:xfrm>
          <a:custGeom>
            <a:avLst/>
            <a:gdLst/>
            <a:ahLst/>
            <a:rect l="l" t="t" r="r" b="b"/>
            <a:pathLst>
              <a:path w="2482" h="944">
                <a:moveTo>
                  <a:pt x="14560" y="14387"/>
                </a:moveTo>
                <a:cubicBezTo>
                  <a:pt x="14985" y="14318"/>
                  <a:pt x="15420" y="14347"/>
                  <a:pt x="15850" y="14362"/>
                </a:cubicBezTo>
                <a:cubicBezTo>
                  <a:pt x="16240" y="14375"/>
                  <a:pt x="16626" y="14387"/>
                  <a:pt x="17016" y="14387"/>
                </a:cubicBezTo>
                <a:cubicBezTo>
                  <a:pt x="17024" y="14387"/>
                  <a:pt x="17033" y="14387"/>
                  <a:pt x="17041" y="14387"/>
                </a:cubicBezTo>
              </a:path>
              <a:path w="2482" h="944">
                <a:moveTo>
                  <a:pt x="14957" y="14486"/>
                </a:moveTo>
                <a:cubicBezTo>
                  <a:pt x="14957" y="14751"/>
                  <a:pt x="14957" y="15015"/>
                  <a:pt x="14957" y="15280"/>
                </a:cubicBezTo>
              </a:path>
              <a:path w="2482" h="944">
                <a:moveTo>
                  <a:pt x="15751" y="14635"/>
                </a:moveTo>
                <a:cubicBezTo>
                  <a:pt x="15751" y="14810"/>
                  <a:pt x="15771" y="14981"/>
                  <a:pt x="15776" y="15156"/>
                </a:cubicBezTo>
                <a:cubicBezTo>
                  <a:pt x="15776" y="15172"/>
                  <a:pt x="15776" y="15189"/>
                  <a:pt x="15776" y="15205"/>
                </a:cubicBezTo>
                <a:cubicBezTo>
                  <a:pt x="15776" y="15337"/>
                  <a:pt x="15795" y="15047"/>
                  <a:pt x="15801" y="15032"/>
                </a:cubicBezTo>
                <a:cubicBezTo>
                  <a:pt x="15859" y="14897"/>
                  <a:pt x="15928" y="14864"/>
                  <a:pt x="16049" y="14808"/>
                </a:cubicBezTo>
                <a:cubicBezTo>
                  <a:pt x="16148" y="14933"/>
                  <a:pt x="16159" y="15034"/>
                  <a:pt x="16197" y="15180"/>
                </a:cubicBezTo>
                <a:cubicBezTo>
                  <a:pt x="16205" y="15197"/>
                  <a:pt x="16214" y="15213"/>
                  <a:pt x="16222" y="15230"/>
                </a:cubicBezTo>
              </a:path>
              <a:path w="2482" h="944">
                <a:moveTo>
                  <a:pt x="16371" y="14883"/>
                </a:moveTo>
                <a:cubicBezTo>
                  <a:pt x="16400" y="14990"/>
                  <a:pt x="16433" y="15089"/>
                  <a:pt x="16470" y="15180"/>
                </a:cubicBezTo>
                <a:cubicBezTo>
                  <a:pt x="16470" y="15052"/>
                  <a:pt x="16467" y="14911"/>
                  <a:pt x="16594" y="14833"/>
                </a:cubicBezTo>
                <a:cubicBezTo>
                  <a:pt x="16677" y="14812"/>
                  <a:pt x="16692" y="14804"/>
                  <a:pt x="16743" y="14808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94080" y="5384880"/>
            <a:ext cx="17280" cy="241200"/>
          </a:xfrm>
          <a:custGeom>
            <a:avLst/>
            <a:gdLst/>
            <a:ahLst/>
            <a:rect l="l" t="t" r="r" b="b"/>
            <a:pathLst>
              <a:path w="50" h="671">
                <a:moveTo>
                  <a:pt x="9426" y="14957"/>
                </a:moveTo>
                <a:cubicBezTo>
                  <a:pt x="9426" y="14974"/>
                  <a:pt x="9426" y="14990"/>
                  <a:pt x="9426" y="15007"/>
                </a:cubicBezTo>
              </a:path>
              <a:path w="50" h="671">
                <a:moveTo>
                  <a:pt x="9426" y="15007"/>
                </a:moveTo>
                <a:lnTo>
                  <a:pt x="9426" y="15007"/>
                </a:lnTo>
              </a:path>
              <a:path w="50" h="671">
                <a:moveTo>
                  <a:pt x="9475" y="15627"/>
                </a:moveTo>
                <a:lnTo>
                  <a:pt x="9475" y="15627"/>
                </a:lnTo>
                <a:lnTo>
                  <a:pt x="9475" y="15627"/>
                </a:ln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911840" y="4473720"/>
            <a:ext cx="2000160" cy="1401480"/>
          </a:xfrm>
          <a:custGeom>
            <a:avLst/>
            <a:gdLst/>
            <a:ahLst/>
            <a:rect l="l" t="t" r="r" b="b"/>
            <a:pathLst>
              <a:path w="5557" h="3895">
                <a:moveTo>
                  <a:pt x="14436" y="12774"/>
                </a:moveTo>
                <a:cubicBezTo>
                  <a:pt x="14279" y="12869"/>
                  <a:pt x="14131" y="12914"/>
                  <a:pt x="13990" y="13072"/>
                </a:cubicBezTo>
                <a:cubicBezTo>
                  <a:pt x="13792" y="13294"/>
                  <a:pt x="13699" y="13494"/>
                  <a:pt x="13643" y="13767"/>
                </a:cubicBezTo>
                <a:cubicBezTo>
                  <a:pt x="13893" y="13892"/>
                  <a:pt x="14120" y="13875"/>
                  <a:pt x="14089" y="14213"/>
                </a:cubicBezTo>
                <a:cubicBezTo>
                  <a:pt x="14051" y="14628"/>
                  <a:pt x="13684" y="15163"/>
                  <a:pt x="13891" y="15577"/>
                </a:cubicBezTo>
                <a:cubicBezTo>
                  <a:pt x="14117" y="16029"/>
                  <a:pt x="14805" y="15638"/>
                  <a:pt x="14833" y="16222"/>
                </a:cubicBezTo>
                <a:cubicBezTo>
                  <a:pt x="14833" y="16247"/>
                  <a:pt x="14833" y="16272"/>
                  <a:pt x="14833" y="16297"/>
                </a:cubicBezTo>
                <a:cubicBezTo>
                  <a:pt x="15217" y="16225"/>
                  <a:pt x="15634" y="16086"/>
                  <a:pt x="16024" y="15949"/>
                </a:cubicBezTo>
                <a:cubicBezTo>
                  <a:pt x="16524" y="15774"/>
                  <a:pt x="16883" y="15503"/>
                  <a:pt x="17314" y="15280"/>
                </a:cubicBezTo>
                <a:cubicBezTo>
                  <a:pt x="17414" y="15228"/>
                  <a:pt x="17597" y="15237"/>
                  <a:pt x="17711" y="15205"/>
                </a:cubicBezTo>
                <a:cubicBezTo>
                  <a:pt x="18263" y="15051"/>
                  <a:pt x="18555" y="14841"/>
                  <a:pt x="18852" y="14412"/>
                </a:cubicBezTo>
                <a:cubicBezTo>
                  <a:pt x="18890" y="14358"/>
                  <a:pt x="18851" y="14452"/>
                  <a:pt x="18926" y="14362"/>
                </a:cubicBezTo>
                <a:cubicBezTo>
                  <a:pt x="19135" y="14112"/>
                  <a:pt x="19276" y="13867"/>
                  <a:pt x="19174" y="13519"/>
                </a:cubicBezTo>
                <a:cubicBezTo>
                  <a:pt x="19017" y="12982"/>
                  <a:pt x="18685" y="13089"/>
                  <a:pt x="18331" y="12849"/>
                </a:cubicBezTo>
                <a:cubicBezTo>
                  <a:pt x="18207" y="12765"/>
                  <a:pt x="18456" y="12821"/>
                  <a:pt x="18306" y="12650"/>
                </a:cubicBezTo>
                <a:cubicBezTo>
                  <a:pt x="17932" y="12224"/>
                  <a:pt x="17159" y="12482"/>
                  <a:pt x="16718" y="12601"/>
                </a:cubicBezTo>
                <a:cubicBezTo>
                  <a:pt x="16034" y="12785"/>
                  <a:pt x="16395" y="12711"/>
                  <a:pt x="16272" y="12650"/>
                </a:cubicBezTo>
                <a:cubicBezTo>
                  <a:pt x="15951" y="12492"/>
                  <a:pt x="15812" y="12472"/>
                  <a:pt x="15379" y="12601"/>
                </a:cubicBezTo>
                <a:cubicBezTo>
                  <a:pt x="15238" y="12643"/>
                  <a:pt x="14841" y="12773"/>
                  <a:pt x="14784" y="12774"/>
                </a:cubicBezTo>
                <a:cubicBezTo>
                  <a:pt x="14518" y="12778"/>
                  <a:pt x="14385" y="12800"/>
                  <a:pt x="14188" y="13122"/>
                </a:cubicBezTo>
                <a:cubicBezTo>
                  <a:pt x="14075" y="13385"/>
                  <a:pt x="14003" y="13411"/>
                  <a:pt x="14064" y="13568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Objective:  Students will distinguish between rate and unit rate.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12oz tub of popcorn costs $3.00. A 20oz tub of popcorn costs $4.00. Which tub is the better bu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Ste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the unit rate for each 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one costs less per ounce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1062000" y="3340080"/>
            <a:ext cx="1805040" cy="660600"/>
          </a:xfrm>
          <a:custGeom>
            <a:avLst/>
            <a:gdLst/>
            <a:ahLst/>
            <a:rect l="l" t="t" r="r" b="b"/>
            <a:pathLst>
              <a:path w="5011" h="1836">
                <a:moveTo>
                  <a:pt x="4787" y="10567"/>
                </a:moveTo>
                <a:cubicBezTo>
                  <a:pt x="4861" y="10552"/>
                  <a:pt x="4934" y="10531"/>
                  <a:pt x="5011" y="10517"/>
                </a:cubicBezTo>
                <a:cubicBezTo>
                  <a:pt x="5019" y="10517"/>
                  <a:pt x="5027" y="10517"/>
                  <a:pt x="5035" y="10517"/>
                </a:cubicBezTo>
              </a:path>
              <a:path w="5011" h="1836">
                <a:moveTo>
                  <a:pt x="3076" y="10716"/>
                </a:moveTo>
                <a:lnTo>
                  <a:pt x="3076" y="10716"/>
                </a:lnTo>
              </a:path>
              <a:path w="5011" h="1836">
                <a:moveTo>
                  <a:pt x="3125" y="11112"/>
                </a:moveTo>
                <a:lnTo>
                  <a:pt x="3125" y="11112"/>
                </a:lnTo>
              </a:path>
              <a:path w="5011" h="1836">
                <a:moveTo>
                  <a:pt x="2952" y="9277"/>
                </a:moveTo>
                <a:cubicBezTo>
                  <a:pt x="2952" y="9285"/>
                  <a:pt x="2952" y="9294"/>
                  <a:pt x="2952" y="9302"/>
                </a:cubicBezTo>
              </a:path>
              <a:path w="5011" h="1836">
                <a:moveTo>
                  <a:pt x="3150" y="9624"/>
                </a:moveTo>
                <a:lnTo>
                  <a:pt x="3150" y="9624"/>
                </a:lnTo>
              </a:path>
              <a:path w="5011" h="1836">
                <a:moveTo>
                  <a:pt x="6672" y="9277"/>
                </a:moveTo>
                <a:cubicBezTo>
                  <a:pt x="6686" y="9508"/>
                  <a:pt x="6710" y="9740"/>
                  <a:pt x="6722" y="9971"/>
                </a:cubicBezTo>
                <a:cubicBezTo>
                  <a:pt x="6722" y="10013"/>
                  <a:pt x="6722" y="10054"/>
                  <a:pt x="6722" y="10096"/>
                </a:cubicBezTo>
              </a:path>
              <a:path w="5011" h="1836">
                <a:moveTo>
                  <a:pt x="7665" y="9947"/>
                </a:moveTo>
                <a:cubicBezTo>
                  <a:pt x="7773" y="9884"/>
                  <a:pt x="7839" y="9862"/>
                  <a:pt x="7962" y="984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2960" y="3295800"/>
            <a:ext cx="2251080" cy="795240"/>
          </a:xfrm>
          <a:custGeom>
            <a:avLst/>
            <a:gdLst/>
            <a:ahLst/>
            <a:rect l="l" t="t" r="r" b="b"/>
            <a:pathLst>
              <a:path w="6252" h="2209">
                <a:moveTo>
                  <a:pt x="2183" y="9426"/>
                </a:moveTo>
                <a:cubicBezTo>
                  <a:pt x="2183" y="9284"/>
                  <a:pt x="2213" y="9657"/>
                  <a:pt x="2232" y="9798"/>
                </a:cubicBezTo>
                <a:cubicBezTo>
                  <a:pt x="2247" y="9910"/>
                  <a:pt x="2257" y="9988"/>
                  <a:pt x="2257" y="10096"/>
                </a:cubicBezTo>
              </a:path>
              <a:path w="6252" h="2209">
                <a:moveTo>
                  <a:pt x="2356" y="9550"/>
                </a:moveTo>
                <a:cubicBezTo>
                  <a:pt x="2370" y="9509"/>
                  <a:pt x="2444" y="9425"/>
                  <a:pt x="2505" y="9401"/>
                </a:cubicBezTo>
                <a:cubicBezTo>
                  <a:pt x="2707" y="9322"/>
                  <a:pt x="2856" y="9473"/>
                  <a:pt x="2877" y="9674"/>
                </a:cubicBezTo>
                <a:cubicBezTo>
                  <a:pt x="2898" y="9876"/>
                  <a:pt x="2696" y="9934"/>
                  <a:pt x="2555" y="9922"/>
                </a:cubicBezTo>
                <a:cubicBezTo>
                  <a:pt x="2579" y="9776"/>
                  <a:pt x="2655" y="9676"/>
                  <a:pt x="2828" y="9748"/>
                </a:cubicBezTo>
                <a:cubicBezTo>
                  <a:pt x="2916" y="9785"/>
                  <a:pt x="2957" y="9868"/>
                  <a:pt x="2977" y="9947"/>
                </a:cubicBezTo>
              </a:path>
              <a:path w="6252" h="2209">
                <a:moveTo>
                  <a:pt x="3497" y="9723"/>
                </a:moveTo>
                <a:cubicBezTo>
                  <a:pt x="3403" y="9723"/>
                  <a:pt x="3295" y="9787"/>
                  <a:pt x="3249" y="9872"/>
                </a:cubicBezTo>
                <a:cubicBezTo>
                  <a:pt x="3140" y="10076"/>
                  <a:pt x="3378" y="10091"/>
                  <a:pt x="3497" y="10021"/>
                </a:cubicBezTo>
                <a:cubicBezTo>
                  <a:pt x="3607" y="9956"/>
                  <a:pt x="3607" y="9783"/>
                  <a:pt x="3473" y="9748"/>
                </a:cubicBezTo>
                <a:cubicBezTo>
                  <a:pt x="3415" y="9748"/>
                  <a:pt x="3406" y="9748"/>
                  <a:pt x="3373" y="9748"/>
                </a:cubicBezTo>
              </a:path>
              <a:path w="6252" h="2209">
                <a:moveTo>
                  <a:pt x="3746" y="9674"/>
                </a:moveTo>
                <a:cubicBezTo>
                  <a:pt x="3816" y="9674"/>
                  <a:pt x="3943" y="9661"/>
                  <a:pt x="3969" y="9674"/>
                </a:cubicBezTo>
                <a:cubicBezTo>
                  <a:pt x="3939" y="9837"/>
                  <a:pt x="3855" y="9869"/>
                  <a:pt x="3770" y="9996"/>
                </a:cubicBezTo>
                <a:cubicBezTo>
                  <a:pt x="3770" y="10004"/>
                  <a:pt x="3770" y="10013"/>
                  <a:pt x="3770" y="10021"/>
                </a:cubicBezTo>
                <a:cubicBezTo>
                  <a:pt x="3879" y="10044"/>
                  <a:pt x="3980" y="10046"/>
                  <a:pt x="4093" y="10046"/>
                </a:cubicBezTo>
              </a:path>
              <a:path w="6252" h="2209">
                <a:moveTo>
                  <a:pt x="1960" y="10393"/>
                </a:moveTo>
                <a:cubicBezTo>
                  <a:pt x="2400" y="10325"/>
                  <a:pt x="2853" y="10304"/>
                  <a:pt x="3299" y="10294"/>
                </a:cubicBezTo>
                <a:cubicBezTo>
                  <a:pt x="3673" y="10285"/>
                  <a:pt x="4059" y="10334"/>
                  <a:pt x="4415" y="10368"/>
                </a:cubicBezTo>
                <a:cubicBezTo>
                  <a:pt x="4423" y="10368"/>
                  <a:pt x="4432" y="10368"/>
                  <a:pt x="4440" y="10368"/>
                </a:cubicBezTo>
              </a:path>
              <a:path w="6252" h="2209">
                <a:moveTo>
                  <a:pt x="2034" y="10716"/>
                </a:moveTo>
                <a:cubicBezTo>
                  <a:pt x="1943" y="10716"/>
                  <a:pt x="1889" y="10748"/>
                  <a:pt x="1811" y="10790"/>
                </a:cubicBezTo>
                <a:cubicBezTo>
                  <a:pt x="1836" y="10889"/>
                  <a:pt x="2001" y="10896"/>
                  <a:pt x="2084" y="10939"/>
                </a:cubicBezTo>
                <a:cubicBezTo>
                  <a:pt x="2092" y="10947"/>
                  <a:pt x="2100" y="10956"/>
                  <a:pt x="2108" y="10964"/>
                </a:cubicBezTo>
                <a:cubicBezTo>
                  <a:pt x="2078" y="10991"/>
                  <a:pt x="1822" y="11168"/>
                  <a:pt x="1786" y="11038"/>
                </a:cubicBezTo>
                <a:cubicBezTo>
                  <a:pt x="1794" y="11013"/>
                  <a:pt x="1803" y="10989"/>
                  <a:pt x="1811" y="10964"/>
                </a:cubicBezTo>
              </a:path>
              <a:path w="6252" h="2209">
                <a:moveTo>
                  <a:pt x="1885" y="10740"/>
                </a:moveTo>
                <a:cubicBezTo>
                  <a:pt x="1906" y="10853"/>
                  <a:pt x="1919" y="11033"/>
                  <a:pt x="1960" y="11137"/>
                </a:cubicBezTo>
                <a:cubicBezTo>
                  <a:pt x="1968" y="11137"/>
                  <a:pt x="1976" y="11137"/>
                  <a:pt x="1984" y="11137"/>
                </a:cubicBezTo>
              </a:path>
              <a:path w="6252" h="2209">
                <a:moveTo>
                  <a:pt x="2307" y="10840"/>
                </a:moveTo>
                <a:cubicBezTo>
                  <a:pt x="2367" y="10830"/>
                  <a:pt x="2519" y="10759"/>
                  <a:pt x="2555" y="10840"/>
                </a:cubicBezTo>
                <a:cubicBezTo>
                  <a:pt x="2609" y="10960"/>
                  <a:pt x="2472" y="11016"/>
                  <a:pt x="2406" y="11063"/>
                </a:cubicBezTo>
                <a:cubicBezTo>
                  <a:pt x="2510" y="11063"/>
                  <a:pt x="2585" y="11003"/>
                  <a:pt x="2679" y="11088"/>
                </a:cubicBezTo>
                <a:cubicBezTo>
                  <a:pt x="2826" y="11221"/>
                  <a:pt x="2505" y="11341"/>
                  <a:pt x="2431" y="11361"/>
                </a:cubicBezTo>
                <a:cubicBezTo>
                  <a:pt x="2423" y="11361"/>
                  <a:pt x="2414" y="11361"/>
                  <a:pt x="2406" y="11361"/>
                </a:cubicBezTo>
              </a:path>
              <a:path w="6252" h="2209">
                <a:moveTo>
                  <a:pt x="4837" y="10765"/>
                </a:moveTo>
                <a:cubicBezTo>
                  <a:pt x="4919" y="10749"/>
                  <a:pt x="4997" y="10721"/>
                  <a:pt x="5085" y="10716"/>
                </a:cubicBezTo>
                <a:cubicBezTo>
                  <a:pt x="5128" y="10716"/>
                  <a:pt x="5153" y="10710"/>
                  <a:pt x="5184" y="10691"/>
                </a:cubicBezTo>
              </a:path>
              <a:path w="6252" h="2209">
                <a:moveTo>
                  <a:pt x="5779" y="10443"/>
                </a:moveTo>
                <a:cubicBezTo>
                  <a:pt x="5960" y="10419"/>
                  <a:pt x="6141" y="10410"/>
                  <a:pt x="6325" y="10393"/>
                </a:cubicBezTo>
                <a:cubicBezTo>
                  <a:pt x="6703" y="10357"/>
                  <a:pt x="7086" y="10349"/>
                  <a:pt x="7466" y="10344"/>
                </a:cubicBezTo>
                <a:cubicBezTo>
                  <a:pt x="7643" y="10342"/>
                  <a:pt x="7818" y="10346"/>
                  <a:pt x="7987" y="10319"/>
                </a:cubicBezTo>
                <a:cubicBezTo>
                  <a:pt x="8012" y="10319"/>
                  <a:pt x="8020" y="10319"/>
                  <a:pt x="8037" y="10319"/>
                </a:cubicBezTo>
              </a:path>
              <a:path w="6252" h="2209">
                <a:moveTo>
                  <a:pt x="6945" y="10517"/>
                </a:moveTo>
                <a:cubicBezTo>
                  <a:pt x="6945" y="10509"/>
                  <a:pt x="6945" y="10500"/>
                  <a:pt x="6945" y="10492"/>
                </a:cubicBezTo>
                <a:cubicBezTo>
                  <a:pt x="7014" y="10515"/>
                  <a:pt x="7082" y="10799"/>
                  <a:pt x="7094" y="10840"/>
                </a:cubicBezTo>
                <a:cubicBezTo>
                  <a:pt x="7115" y="10910"/>
                  <a:pt x="7152" y="11030"/>
                  <a:pt x="7169" y="11112"/>
                </a:cubicBezTo>
              </a:path>
              <a:path w="6252" h="2209">
                <a:moveTo>
                  <a:pt x="6524" y="10592"/>
                </a:moveTo>
                <a:cubicBezTo>
                  <a:pt x="6558" y="10568"/>
                  <a:pt x="6555" y="10518"/>
                  <a:pt x="6499" y="10492"/>
                </a:cubicBezTo>
                <a:cubicBezTo>
                  <a:pt x="6354" y="10425"/>
                  <a:pt x="6263" y="10548"/>
                  <a:pt x="6176" y="10641"/>
                </a:cubicBezTo>
                <a:cubicBezTo>
                  <a:pt x="6168" y="10649"/>
                  <a:pt x="6160" y="10658"/>
                  <a:pt x="6152" y="10666"/>
                </a:cubicBezTo>
                <a:cubicBezTo>
                  <a:pt x="6242" y="10684"/>
                  <a:pt x="6332" y="10676"/>
                  <a:pt x="6424" y="10691"/>
                </a:cubicBezTo>
                <a:cubicBezTo>
                  <a:pt x="6491" y="10713"/>
                  <a:pt x="6513" y="10715"/>
                  <a:pt x="6524" y="10765"/>
                </a:cubicBezTo>
                <a:cubicBezTo>
                  <a:pt x="6561" y="10843"/>
                  <a:pt x="6401" y="10889"/>
                  <a:pt x="6325" y="10889"/>
                </a:cubicBezTo>
                <a:cubicBezTo>
                  <a:pt x="6219" y="10889"/>
                  <a:pt x="6212" y="10879"/>
                  <a:pt x="6201" y="10815"/>
                </a:cubicBezTo>
              </a:path>
              <a:path w="6252" h="2209">
                <a:moveTo>
                  <a:pt x="6276" y="10492"/>
                </a:moveTo>
                <a:cubicBezTo>
                  <a:pt x="6287" y="10652"/>
                  <a:pt x="6325" y="10806"/>
                  <a:pt x="6350" y="10964"/>
                </a:cubicBezTo>
                <a:cubicBezTo>
                  <a:pt x="6350" y="10972"/>
                  <a:pt x="6350" y="10980"/>
                  <a:pt x="6350" y="10988"/>
                </a:cubicBezTo>
              </a:path>
              <a:path w="6252" h="2209">
                <a:moveTo>
                  <a:pt x="2952" y="10964"/>
                </a:moveTo>
                <a:cubicBezTo>
                  <a:pt x="3048" y="10940"/>
                  <a:pt x="3112" y="10941"/>
                  <a:pt x="3225" y="10964"/>
                </a:cubicBezTo>
                <a:cubicBezTo>
                  <a:pt x="3299" y="10982"/>
                  <a:pt x="3306" y="10990"/>
                  <a:pt x="3349" y="10988"/>
                </a:cubicBezTo>
              </a:path>
              <a:path w="6252" h="2209">
                <a:moveTo>
                  <a:pt x="3473" y="10914"/>
                </a:moveTo>
                <a:cubicBezTo>
                  <a:pt x="3429" y="10805"/>
                  <a:pt x="3578" y="10780"/>
                  <a:pt x="3671" y="10740"/>
                </a:cubicBezTo>
                <a:cubicBezTo>
                  <a:pt x="3728" y="10872"/>
                  <a:pt x="3663" y="10936"/>
                  <a:pt x="3572" y="11038"/>
                </a:cubicBezTo>
                <a:cubicBezTo>
                  <a:pt x="3564" y="11046"/>
                  <a:pt x="3555" y="11055"/>
                  <a:pt x="3547" y="11063"/>
                </a:cubicBezTo>
                <a:cubicBezTo>
                  <a:pt x="3624" y="11063"/>
                  <a:pt x="3728" y="11044"/>
                  <a:pt x="3696" y="11162"/>
                </a:cubicBezTo>
                <a:cubicBezTo>
                  <a:pt x="3669" y="11263"/>
                  <a:pt x="3595" y="11370"/>
                  <a:pt x="3497" y="11311"/>
                </a:cubicBezTo>
              </a:path>
              <a:path w="6252" h="2209">
                <a:moveTo>
                  <a:pt x="2902" y="9475"/>
                </a:moveTo>
                <a:cubicBezTo>
                  <a:pt x="2982" y="9475"/>
                  <a:pt x="3058" y="9447"/>
                  <a:pt x="3125" y="9401"/>
                </a:cubicBezTo>
                <a:cubicBezTo>
                  <a:pt x="3164" y="9362"/>
                  <a:pt x="3166" y="9345"/>
                  <a:pt x="3200" y="9351"/>
                </a:cubicBezTo>
              </a:path>
              <a:path w="6252" h="2209">
                <a:moveTo>
                  <a:pt x="3225" y="9227"/>
                </a:moveTo>
                <a:cubicBezTo>
                  <a:pt x="3250" y="9194"/>
                  <a:pt x="3299" y="9175"/>
                  <a:pt x="3349" y="9153"/>
                </a:cubicBezTo>
                <a:cubicBezTo>
                  <a:pt x="3415" y="9237"/>
                  <a:pt x="3390" y="9250"/>
                  <a:pt x="3324" y="9327"/>
                </a:cubicBezTo>
                <a:cubicBezTo>
                  <a:pt x="3350" y="9327"/>
                  <a:pt x="3502" y="9318"/>
                  <a:pt x="3473" y="9401"/>
                </a:cubicBezTo>
                <a:cubicBezTo>
                  <a:pt x="3460" y="9439"/>
                  <a:pt x="3384" y="9491"/>
                  <a:pt x="3349" y="9500"/>
                </a:cubicBezTo>
              </a:path>
              <a:path w="6252" h="2209">
                <a:moveTo>
                  <a:pt x="6424" y="9500"/>
                </a:moveTo>
                <a:cubicBezTo>
                  <a:pt x="6424" y="9590"/>
                  <a:pt x="6430" y="9658"/>
                  <a:pt x="6424" y="9748"/>
                </a:cubicBezTo>
                <a:cubicBezTo>
                  <a:pt x="6424" y="9773"/>
                  <a:pt x="6424" y="9798"/>
                  <a:pt x="6424" y="9823"/>
                </a:cubicBezTo>
                <a:cubicBezTo>
                  <a:pt x="6524" y="9823"/>
                  <a:pt x="6603" y="9797"/>
                  <a:pt x="6697" y="9773"/>
                </a:cubicBezTo>
                <a:cubicBezTo>
                  <a:pt x="6705" y="9773"/>
                  <a:pt x="6714" y="9773"/>
                  <a:pt x="6722" y="9773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81760" y="3357720"/>
            <a:ext cx="847440" cy="706320"/>
          </a:xfrm>
          <a:custGeom>
            <a:avLst/>
            <a:gdLst/>
            <a:ahLst/>
            <a:rect l="l" t="t" r="r" b="b"/>
            <a:pathLst>
              <a:path w="2357" h="1960">
                <a:moveTo>
                  <a:pt x="14337" y="9451"/>
                </a:moveTo>
                <a:cubicBezTo>
                  <a:pt x="14337" y="9376"/>
                  <a:pt x="14357" y="9345"/>
                  <a:pt x="14436" y="9327"/>
                </a:cubicBezTo>
                <a:cubicBezTo>
                  <a:pt x="14706" y="9454"/>
                  <a:pt x="14747" y="9681"/>
                  <a:pt x="14486" y="9922"/>
                </a:cubicBezTo>
                <a:cubicBezTo>
                  <a:pt x="14328" y="10068"/>
                  <a:pt x="14241" y="10043"/>
                  <a:pt x="14114" y="9947"/>
                </a:cubicBezTo>
                <a:cubicBezTo>
                  <a:pt x="14302" y="9821"/>
                  <a:pt x="14406" y="9815"/>
                  <a:pt x="14610" y="9947"/>
                </a:cubicBezTo>
                <a:cubicBezTo>
                  <a:pt x="14645" y="9981"/>
                  <a:pt x="14667" y="9985"/>
                  <a:pt x="14709" y="9947"/>
                </a:cubicBezTo>
              </a:path>
              <a:path w="2357" h="1960">
                <a:moveTo>
                  <a:pt x="14908" y="9327"/>
                </a:moveTo>
                <a:cubicBezTo>
                  <a:pt x="14799" y="9408"/>
                  <a:pt x="14716" y="9733"/>
                  <a:pt x="14784" y="9897"/>
                </a:cubicBezTo>
                <a:cubicBezTo>
                  <a:pt x="14817" y="9922"/>
                  <a:pt x="14850" y="9946"/>
                  <a:pt x="14883" y="9971"/>
                </a:cubicBezTo>
                <a:cubicBezTo>
                  <a:pt x="15063" y="9873"/>
                  <a:pt x="15279" y="9682"/>
                  <a:pt x="15131" y="9426"/>
                </a:cubicBezTo>
                <a:cubicBezTo>
                  <a:pt x="15087" y="9349"/>
                  <a:pt x="14947" y="9376"/>
                  <a:pt x="14883" y="9376"/>
                </a:cubicBezTo>
              </a:path>
              <a:path w="2357" h="1960">
                <a:moveTo>
                  <a:pt x="15577" y="9649"/>
                </a:moveTo>
                <a:cubicBezTo>
                  <a:pt x="15484" y="9743"/>
                  <a:pt x="15452" y="9858"/>
                  <a:pt x="15429" y="9996"/>
                </a:cubicBezTo>
                <a:cubicBezTo>
                  <a:pt x="15546" y="9978"/>
                  <a:pt x="15771" y="9875"/>
                  <a:pt x="15602" y="9723"/>
                </a:cubicBezTo>
                <a:cubicBezTo>
                  <a:pt x="15537" y="9665"/>
                  <a:pt x="15478" y="9757"/>
                  <a:pt x="15478" y="9773"/>
                </a:cubicBezTo>
              </a:path>
              <a:path w="2357" h="1960">
                <a:moveTo>
                  <a:pt x="15925" y="9847"/>
                </a:moveTo>
                <a:cubicBezTo>
                  <a:pt x="15925" y="9733"/>
                  <a:pt x="15915" y="9629"/>
                  <a:pt x="16049" y="9599"/>
                </a:cubicBezTo>
                <a:cubicBezTo>
                  <a:pt x="16283" y="9546"/>
                  <a:pt x="16128" y="9802"/>
                  <a:pt x="16073" y="9872"/>
                </a:cubicBezTo>
                <a:cubicBezTo>
                  <a:pt x="16073" y="9880"/>
                  <a:pt x="16073" y="9889"/>
                  <a:pt x="16073" y="9897"/>
                </a:cubicBezTo>
                <a:cubicBezTo>
                  <a:pt x="16178" y="9855"/>
                  <a:pt x="16424" y="9996"/>
                  <a:pt x="16470" y="10145"/>
                </a:cubicBezTo>
                <a:cubicBezTo>
                  <a:pt x="16562" y="10442"/>
                  <a:pt x="16187" y="10362"/>
                  <a:pt x="16073" y="10319"/>
                </a:cubicBezTo>
                <a:cubicBezTo>
                  <a:pt x="16141" y="10114"/>
                  <a:pt x="16199" y="10020"/>
                  <a:pt x="16396" y="9922"/>
                </a:cubicBezTo>
              </a:path>
              <a:path w="2357" h="1960">
                <a:moveTo>
                  <a:pt x="14188" y="10393"/>
                </a:moveTo>
                <a:cubicBezTo>
                  <a:pt x="14547" y="10289"/>
                  <a:pt x="14897" y="10267"/>
                  <a:pt x="15280" y="10220"/>
                </a:cubicBezTo>
                <a:cubicBezTo>
                  <a:pt x="15632" y="10177"/>
                  <a:pt x="16105" y="10127"/>
                  <a:pt x="16421" y="10120"/>
                </a:cubicBezTo>
                <a:cubicBezTo>
                  <a:pt x="16429" y="10120"/>
                  <a:pt x="16438" y="10120"/>
                  <a:pt x="16446" y="10120"/>
                </a:cubicBezTo>
              </a:path>
              <a:path w="2357" h="1960">
                <a:moveTo>
                  <a:pt x="14833" y="10443"/>
                </a:moveTo>
                <a:cubicBezTo>
                  <a:pt x="14743" y="10391"/>
                  <a:pt x="14593" y="10358"/>
                  <a:pt x="14536" y="10492"/>
                </a:cubicBezTo>
                <a:cubicBezTo>
                  <a:pt x="14475" y="10634"/>
                  <a:pt x="14673" y="10669"/>
                  <a:pt x="14759" y="10691"/>
                </a:cubicBezTo>
                <a:cubicBezTo>
                  <a:pt x="14738" y="10709"/>
                  <a:pt x="14551" y="10837"/>
                  <a:pt x="14536" y="10765"/>
                </a:cubicBezTo>
                <a:cubicBezTo>
                  <a:pt x="14544" y="10749"/>
                  <a:pt x="14552" y="10732"/>
                  <a:pt x="14560" y="10716"/>
                </a:cubicBezTo>
              </a:path>
              <a:path w="2357" h="1960">
                <a:moveTo>
                  <a:pt x="14635" y="10443"/>
                </a:moveTo>
                <a:cubicBezTo>
                  <a:pt x="14635" y="10578"/>
                  <a:pt x="14649" y="10707"/>
                  <a:pt x="14660" y="10840"/>
                </a:cubicBezTo>
                <a:cubicBezTo>
                  <a:pt x="14660" y="10832"/>
                  <a:pt x="14660" y="10823"/>
                  <a:pt x="14660" y="10815"/>
                </a:cubicBezTo>
              </a:path>
              <a:path w="2357" h="1960">
                <a:moveTo>
                  <a:pt x="15032" y="10517"/>
                </a:moveTo>
                <a:cubicBezTo>
                  <a:pt x="15072" y="10647"/>
                  <a:pt x="15056" y="10665"/>
                  <a:pt x="15032" y="10790"/>
                </a:cubicBezTo>
                <a:cubicBezTo>
                  <a:pt x="15161" y="10790"/>
                  <a:pt x="15279" y="10783"/>
                  <a:pt x="15404" y="10765"/>
                </a:cubicBezTo>
              </a:path>
              <a:path w="2357" h="1960">
                <a:moveTo>
                  <a:pt x="15354" y="10443"/>
                </a:moveTo>
                <a:cubicBezTo>
                  <a:pt x="15332" y="10662"/>
                  <a:pt x="15351" y="10867"/>
                  <a:pt x="15354" y="11088"/>
                </a:cubicBezTo>
                <a:cubicBezTo>
                  <a:pt x="15354" y="11117"/>
                  <a:pt x="15335" y="11306"/>
                  <a:pt x="15379" y="11261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57200" y="2197080"/>
            <a:ext cx="5803920" cy="3581280"/>
          </a:xfrm>
          <a:custGeom>
            <a:avLst/>
            <a:gdLst/>
            <a:ahLst/>
            <a:rect l="l" t="t" r="r" b="b"/>
            <a:pathLst>
              <a:path w="16124" h="9948">
                <a:moveTo>
                  <a:pt x="16123" y="6102"/>
                </a:moveTo>
                <a:cubicBezTo>
                  <a:pt x="16149" y="6232"/>
                  <a:pt x="16202" y="6362"/>
                  <a:pt x="16222" y="6499"/>
                </a:cubicBezTo>
                <a:cubicBezTo>
                  <a:pt x="16222" y="6543"/>
                  <a:pt x="16225" y="6557"/>
                  <a:pt x="16197" y="6573"/>
                </a:cubicBezTo>
              </a:path>
              <a:path w="16124" h="9948">
                <a:moveTo>
                  <a:pt x="15875" y="10988"/>
                </a:moveTo>
                <a:cubicBezTo>
                  <a:pt x="15867" y="10988"/>
                  <a:pt x="15858" y="10988"/>
                  <a:pt x="15850" y="10988"/>
                </a:cubicBezTo>
              </a:path>
              <a:path w="16124" h="9948">
                <a:moveTo>
                  <a:pt x="15751" y="11385"/>
                </a:moveTo>
                <a:lnTo>
                  <a:pt x="15751" y="11385"/>
                </a:lnTo>
                <a:lnTo>
                  <a:pt x="15751" y="11385"/>
                </a:lnTo>
              </a:path>
              <a:path w="16124" h="9948">
                <a:moveTo>
                  <a:pt x="15751" y="11385"/>
                </a:moveTo>
                <a:lnTo>
                  <a:pt x="15751" y="11385"/>
                </a:lnTo>
              </a:path>
              <a:path w="16124" h="9948">
                <a:moveTo>
                  <a:pt x="18430" y="10443"/>
                </a:moveTo>
                <a:cubicBezTo>
                  <a:pt x="18512" y="10508"/>
                  <a:pt x="18553" y="10651"/>
                  <a:pt x="18579" y="10765"/>
                </a:cubicBezTo>
                <a:cubicBezTo>
                  <a:pt x="18579" y="10773"/>
                  <a:pt x="18579" y="10782"/>
                  <a:pt x="18579" y="10790"/>
                </a:cubicBezTo>
              </a:path>
              <a:path w="16124" h="9948">
                <a:moveTo>
                  <a:pt x="15404" y="9252"/>
                </a:moveTo>
                <a:cubicBezTo>
                  <a:pt x="15396" y="9252"/>
                  <a:pt x="15387" y="9252"/>
                  <a:pt x="15379" y="9252"/>
                </a:cubicBezTo>
              </a:path>
              <a:path w="16124" h="9948">
                <a:moveTo>
                  <a:pt x="15453" y="9550"/>
                </a:moveTo>
                <a:lnTo>
                  <a:pt x="15453" y="9550"/>
                </a:lnTo>
                <a:lnTo>
                  <a:pt x="15453" y="9550"/>
                </a:lnTo>
              </a:path>
              <a:path w="16124" h="9948">
                <a:moveTo>
                  <a:pt x="15776" y="9054"/>
                </a:moveTo>
                <a:cubicBezTo>
                  <a:pt x="15816" y="9165"/>
                  <a:pt x="15834" y="9297"/>
                  <a:pt x="15875" y="9401"/>
                </a:cubicBezTo>
                <a:cubicBezTo>
                  <a:pt x="15883" y="9409"/>
                  <a:pt x="15892" y="9418"/>
                  <a:pt x="15900" y="9426"/>
                </a:cubicBezTo>
              </a:path>
              <a:path w="16124" h="9948">
                <a:moveTo>
                  <a:pt x="19893" y="10021"/>
                </a:moveTo>
                <a:cubicBezTo>
                  <a:pt x="19893" y="10013"/>
                  <a:pt x="19893" y="10004"/>
                  <a:pt x="19893" y="9996"/>
                </a:cubicBezTo>
              </a:path>
              <a:path w="16124" h="9948">
                <a:moveTo>
                  <a:pt x="4291" y="13345"/>
                </a:moveTo>
                <a:cubicBezTo>
                  <a:pt x="4291" y="13272"/>
                  <a:pt x="4284" y="13263"/>
                  <a:pt x="4217" y="13246"/>
                </a:cubicBezTo>
                <a:cubicBezTo>
                  <a:pt x="4005" y="13191"/>
                  <a:pt x="3954" y="13351"/>
                  <a:pt x="3894" y="13519"/>
                </a:cubicBezTo>
                <a:cubicBezTo>
                  <a:pt x="4036" y="13552"/>
                  <a:pt x="4175" y="13580"/>
                  <a:pt x="4316" y="13618"/>
                </a:cubicBezTo>
                <a:cubicBezTo>
                  <a:pt x="4316" y="13816"/>
                  <a:pt x="4193" y="13979"/>
                  <a:pt x="3944" y="13940"/>
                </a:cubicBezTo>
                <a:cubicBezTo>
                  <a:pt x="3800" y="13868"/>
                  <a:pt x="3751" y="13849"/>
                  <a:pt x="3770" y="13717"/>
                </a:cubicBezTo>
              </a:path>
              <a:path w="16124" h="9948">
                <a:moveTo>
                  <a:pt x="3994" y="13122"/>
                </a:moveTo>
                <a:cubicBezTo>
                  <a:pt x="4122" y="13410"/>
                  <a:pt x="4242" y="13728"/>
                  <a:pt x="4316" y="14039"/>
                </a:cubicBezTo>
                <a:cubicBezTo>
                  <a:pt x="4316" y="14056"/>
                  <a:pt x="4316" y="14072"/>
                  <a:pt x="4316" y="14089"/>
                </a:cubicBezTo>
              </a:path>
              <a:path w="16124" h="9948">
                <a:moveTo>
                  <a:pt x="4688" y="13271"/>
                </a:moveTo>
                <a:cubicBezTo>
                  <a:pt x="4784" y="13219"/>
                  <a:pt x="5152" y="13066"/>
                  <a:pt x="5110" y="13345"/>
                </a:cubicBezTo>
                <a:cubicBezTo>
                  <a:pt x="5021" y="13502"/>
                  <a:pt x="5002" y="13546"/>
                  <a:pt x="4911" y="13618"/>
                </a:cubicBezTo>
                <a:cubicBezTo>
                  <a:pt x="4886" y="13626"/>
                  <a:pt x="4862" y="13635"/>
                  <a:pt x="4837" y="13643"/>
                </a:cubicBezTo>
                <a:cubicBezTo>
                  <a:pt x="4971" y="13643"/>
                  <a:pt x="5213" y="13648"/>
                  <a:pt x="5259" y="13816"/>
                </a:cubicBezTo>
                <a:cubicBezTo>
                  <a:pt x="5336" y="14095"/>
                  <a:pt x="4852" y="14086"/>
                  <a:pt x="4713" y="14039"/>
                </a:cubicBezTo>
                <a:cubicBezTo>
                  <a:pt x="4713" y="14031"/>
                  <a:pt x="4713" y="14023"/>
                  <a:pt x="4713" y="14015"/>
                </a:cubicBezTo>
              </a:path>
              <a:path w="16124" h="9948">
                <a:moveTo>
                  <a:pt x="3770" y="14684"/>
                </a:moveTo>
                <a:cubicBezTo>
                  <a:pt x="4519" y="14410"/>
                  <a:pt x="5271" y="14224"/>
                  <a:pt x="6052" y="14064"/>
                </a:cubicBezTo>
                <a:cubicBezTo>
                  <a:pt x="6077" y="14064"/>
                  <a:pt x="6085" y="14064"/>
                  <a:pt x="6052" y="14064"/>
                </a:cubicBezTo>
              </a:path>
              <a:path w="16124" h="9948">
                <a:moveTo>
                  <a:pt x="4192" y="14932"/>
                </a:moveTo>
                <a:cubicBezTo>
                  <a:pt x="4224" y="15182"/>
                  <a:pt x="4266" y="15425"/>
                  <a:pt x="4266" y="15677"/>
                </a:cubicBezTo>
              </a:path>
              <a:path w="16124" h="9948">
                <a:moveTo>
                  <a:pt x="4614" y="14908"/>
                </a:moveTo>
                <a:cubicBezTo>
                  <a:pt x="4841" y="14983"/>
                  <a:pt x="5192" y="15189"/>
                  <a:pt x="4911" y="15478"/>
                </a:cubicBezTo>
                <a:cubicBezTo>
                  <a:pt x="4768" y="15624"/>
                  <a:pt x="4662" y="15490"/>
                  <a:pt x="4589" y="15404"/>
                </a:cubicBezTo>
                <a:cubicBezTo>
                  <a:pt x="4794" y="15287"/>
                  <a:pt x="4906" y="15366"/>
                  <a:pt x="5135" y="15429"/>
                </a:cubicBezTo>
              </a:path>
              <a:path w="16124" h="9948">
                <a:moveTo>
                  <a:pt x="5904" y="14908"/>
                </a:moveTo>
                <a:cubicBezTo>
                  <a:pt x="5956" y="14752"/>
                  <a:pt x="6045" y="14767"/>
                  <a:pt x="6201" y="14759"/>
                </a:cubicBezTo>
                <a:cubicBezTo>
                  <a:pt x="6298" y="14968"/>
                  <a:pt x="6107" y="15085"/>
                  <a:pt x="5978" y="15255"/>
                </a:cubicBezTo>
                <a:cubicBezTo>
                  <a:pt x="5970" y="15271"/>
                  <a:pt x="5961" y="15288"/>
                  <a:pt x="5953" y="15304"/>
                </a:cubicBezTo>
                <a:cubicBezTo>
                  <a:pt x="6164" y="15277"/>
                  <a:pt x="6344" y="15196"/>
                  <a:pt x="6548" y="15131"/>
                </a:cubicBezTo>
              </a:path>
              <a:path w="16124" h="9948">
                <a:moveTo>
                  <a:pt x="7640" y="14337"/>
                </a:moveTo>
                <a:cubicBezTo>
                  <a:pt x="7811" y="14264"/>
                  <a:pt x="7866" y="14240"/>
                  <a:pt x="7987" y="14213"/>
                </a:cubicBezTo>
              </a:path>
              <a:path w="16124" h="9948">
                <a:moveTo>
                  <a:pt x="7987" y="14213"/>
                </a:moveTo>
                <a:lnTo>
                  <a:pt x="7987" y="14213"/>
                </a:lnTo>
              </a:path>
              <a:path w="16124" h="9948">
                <a:moveTo>
                  <a:pt x="5308" y="15751"/>
                </a:moveTo>
                <a:cubicBezTo>
                  <a:pt x="5378" y="15767"/>
                  <a:pt x="5556" y="15873"/>
                  <a:pt x="5631" y="15850"/>
                </a:cubicBezTo>
                <a:cubicBezTo>
                  <a:pt x="5631" y="15842"/>
                  <a:pt x="5631" y="15833"/>
                  <a:pt x="5631" y="15825"/>
                </a:cubicBezTo>
              </a:path>
              <a:path w="16124" h="9948">
                <a:moveTo>
                  <a:pt x="5507" y="15528"/>
                </a:moveTo>
                <a:cubicBezTo>
                  <a:pt x="5507" y="15571"/>
                  <a:pt x="5512" y="15596"/>
                  <a:pt x="5531" y="15627"/>
                </a:cubicBezTo>
              </a:path>
              <a:path w="16124" h="9948">
                <a:moveTo>
                  <a:pt x="5507" y="16024"/>
                </a:moveTo>
                <a:cubicBezTo>
                  <a:pt x="5507" y="16032"/>
                  <a:pt x="5507" y="16041"/>
                  <a:pt x="5507" y="16049"/>
                </a:cubicBezTo>
              </a:path>
              <a:path w="16124" h="9948">
                <a:moveTo>
                  <a:pt x="5507" y="16049"/>
                </a:moveTo>
                <a:lnTo>
                  <a:pt x="5507" y="16049"/>
                </a:lnTo>
              </a:path>
              <a:path w="16124" h="9948">
                <a:moveTo>
                  <a:pt x="5879" y="15726"/>
                </a:moveTo>
                <a:cubicBezTo>
                  <a:pt x="5905" y="15825"/>
                  <a:pt x="5927" y="15925"/>
                  <a:pt x="5953" y="16024"/>
                </a:cubicBezTo>
              </a:path>
              <a:path w="16124" h="9948">
                <a:moveTo>
                  <a:pt x="6052" y="15726"/>
                </a:moveTo>
                <a:cubicBezTo>
                  <a:pt x="6227" y="15682"/>
                  <a:pt x="6439" y="15711"/>
                  <a:pt x="6499" y="15925"/>
                </a:cubicBezTo>
                <a:cubicBezTo>
                  <a:pt x="6555" y="16123"/>
                  <a:pt x="6244" y="16028"/>
                  <a:pt x="6201" y="15999"/>
                </a:cubicBezTo>
                <a:cubicBezTo>
                  <a:pt x="6344" y="15874"/>
                  <a:pt x="6352" y="15999"/>
                  <a:pt x="6499" y="15999"/>
                </a:cubicBezTo>
                <a:cubicBezTo>
                  <a:pt x="6507" y="15991"/>
                  <a:pt x="6516" y="15982"/>
                  <a:pt x="6524" y="15974"/>
                </a:cubicBezTo>
              </a:path>
              <a:path w="16124" h="9948">
                <a:moveTo>
                  <a:pt x="5283" y="13395"/>
                </a:moveTo>
                <a:cubicBezTo>
                  <a:pt x="5387" y="13360"/>
                  <a:pt x="5453" y="13275"/>
                  <a:pt x="5531" y="13196"/>
                </a:cubicBezTo>
              </a:path>
              <a:path w="16124" h="9948">
                <a:moveTo>
                  <a:pt x="5333" y="13047"/>
                </a:moveTo>
                <a:lnTo>
                  <a:pt x="5333" y="13047"/>
                </a:lnTo>
                <a:lnTo>
                  <a:pt x="5333" y="13047"/>
                </a:lnTo>
              </a:path>
              <a:path w="16124" h="9948">
                <a:moveTo>
                  <a:pt x="5482" y="13519"/>
                </a:moveTo>
                <a:cubicBezTo>
                  <a:pt x="5482" y="13511"/>
                  <a:pt x="5482" y="13502"/>
                  <a:pt x="5482" y="13494"/>
                </a:cubicBezTo>
              </a:path>
              <a:path w="16124" h="9948">
                <a:moveTo>
                  <a:pt x="5705" y="12898"/>
                </a:moveTo>
                <a:cubicBezTo>
                  <a:pt x="5722" y="13022"/>
                  <a:pt x="5749" y="13182"/>
                  <a:pt x="5804" y="13295"/>
                </a:cubicBezTo>
                <a:cubicBezTo>
                  <a:pt x="5804" y="13287"/>
                  <a:pt x="5804" y="13279"/>
                  <a:pt x="5804" y="13271"/>
                </a:cubicBezTo>
              </a:path>
              <a:path w="16124" h="9948">
                <a:moveTo>
                  <a:pt x="5904" y="12874"/>
                </a:moveTo>
                <a:cubicBezTo>
                  <a:pt x="5922" y="12780"/>
                  <a:pt x="6018" y="12698"/>
                  <a:pt x="6127" y="12750"/>
                </a:cubicBezTo>
                <a:cubicBezTo>
                  <a:pt x="6302" y="12833"/>
                  <a:pt x="6285" y="13169"/>
                  <a:pt x="6077" y="13196"/>
                </a:cubicBezTo>
                <a:cubicBezTo>
                  <a:pt x="6052" y="13179"/>
                  <a:pt x="6028" y="13163"/>
                  <a:pt x="6003" y="13146"/>
                </a:cubicBezTo>
                <a:cubicBezTo>
                  <a:pt x="5930" y="12979"/>
                  <a:pt x="6151" y="13101"/>
                  <a:pt x="6226" y="13122"/>
                </a:cubicBezTo>
                <a:cubicBezTo>
                  <a:pt x="6259" y="13130"/>
                  <a:pt x="6292" y="13138"/>
                  <a:pt x="6325" y="13146"/>
                </a:cubicBezTo>
              </a:path>
              <a:path w="16124" h="9948">
                <a:moveTo>
                  <a:pt x="9004" y="13742"/>
                </a:moveTo>
                <a:cubicBezTo>
                  <a:pt x="9004" y="13734"/>
                  <a:pt x="9004" y="13725"/>
                  <a:pt x="9004" y="13717"/>
                </a:cubicBezTo>
              </a:path>
              <a:path w="16124" h="9948">
                <a:moveTo>
                  <a:pt x="15875" y="13022"/>
                </a:moveTo>
                <a:lnTo>
                  <a:pt x="15875" y="13022"/>
                </a:lnTo>
                <a:lnTo>
                  <a:pt x="15875" y="13022"/>
                </a:lnTo>
              </a:path>
              <a:path w="16124" h="9948">
                <a:moveTo>
                  <a:pt x="15875" y="13022"/>
                </a:moveTo>
                <a:lnTo>
                  <a:pt x="15875" y="13022"/>
                </a:lnTo>
              </a:path>
              <a:path w="16124" h="9948">
                <a:moveTo>
                  <a:pt x="15900" y="13469"/>
                </a:moveTo>
                <a:cubicBezTo>
                  <a:pt x="15900" y="13381"/>
                  <a:pt x="15917" y="13329"/>
                  <a:pt x="15974" y="13271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616120" y="3500280"/>
            <a:ext cx="992160" cy="1563840"/>
          </a:xfrm>
          <a:custGeom>
            <a:avLst/>
            <a:gdLst/>
            <a:ahLst/>
            <a:rect l="l" t="t" r="r" b="b"/>
            <a:pathLst>
              <a:path w="2754" h="4342">
                <a:moveTo>
                  <a:pt x="7392" y="9847"/>
                </a:moveTo>
                <a:cubicBezTo>
                  <a:pt x="7298" y="9941"/>
                  <a:pt x="7279" y="10034"/>
                  <a:pt x="7268" y="10170"/>
                </a:cubicBezTo>
                <a:cubicBezTo>
                  <a:pt x="7360" y="10156"/>
                  <a:pt x="7556" y="10095"/>
                  <a:pt x="7466" y="9947"/>
                </a:cubicBezTo>
                <a:cubicBezTo>
                  <a:pt x="7410" y="9855"/>
                  <a:pt x="7370" y="9920"/>
                  <a:pt x="7342" y="9823"/>
                </a:cubicBezTo>
              </a:path>
              <a:path w="2754" h="4342">
                <a:moveTo>
                  <a:pt x="7615" y="9748"/>
                </a:moveTo>
                <a:cubicBezTo>
                  <a:pt x="7721" y="9721"/>
                  <a:pt x="7778" y="9696"/>
                  <a:pt x="7838" y="9798"/>
                </a:cubicBezTo>
                <a:cubicBezTo>
                  <a:pt x="7905" y="9911"/>
                  <a:pt x="7789" y="9962"/>
                  <a:pt x="7714" y="10021"/>
                </a:cubicBezTo>
                <a:cubicBezTo>
                  <a:pt x="7706" y="10029"/>
                  <a:pt x="7697" y="10038"/>
                  <a:pt x="7689" y="10046"/>
                </a:cubicBezTo>
                <a:cubicBezTo>
                  <a:pt x="7762" y="10100"/>
                  <a:pt x="7827" y="10081"/>
                  <a:pt x="7913" y="10071"/>
                </a:cubicBezTo>
                <a:cubicBezTo>
                  <a:pt x="7921" y="10071"/>
                  <a:pt x="7930" y="10071"/>
                  <a:pt x="7938" y="10071"/>
                </a:cubicBezTo>
              </a:path>
              <a:path w="2754" h="4342">
                <a:moveTo>
                  <a:pt x="7491" y="14064"/>
                </a:moveTo>
                <a:cubicBezTo>
                  <a:pt x="7589" y="14050"/>
                  <a:pt x="7652" y="14026"/>
                  <a:pt x="7739" y="14064"/>
                </a:cubicBezTo>
              </a:path>
              <a:path w="2754" h="4342">
                <a:moveTo>
                  <a:pt x="8086" y="13146"/>
                </a:moveTo>
                <a:cubicBezTo>
                  <a:pt x="8111" y="13146"/>
                  <a:pt x="8119" y="13146"/>
                  <a:pt x="8136" y="13146"/>
                </a:cubicBezTo>
                <a:cubicBezTo>
                  <a:pt x="8117" y="13073"/>
                  <a:pt x="8054" y="13064"/>
                  <a:pt x="7987" y="13097"/>
                </a:cubicBezTo>
                <a:cubicBezTo>
                  <a:pt x="7925" y="13128"/>
                  <a:pt x="7897" y="13214"/>
                  <a:pt x="7863" y="13271"/>
                </a:cubicBezTo>
                <a:cubicBezTo>
                  <a:pt x="7931" y="13351"/>
                  <a:pt x="8053" y="13308"/>
                  <a:pt x="8136" y="13395"/>
                </a:cubicBezTo>
                <a:cubicBezTo>
                  <a:pt x="8158" y="13460"/>
                  <a:pt x="8166" y="13475"/>
                  <a:pt x="8161" y="13519"/>
                </a:cubicBezTo>
                <a:cubicBezTo>
                  <a:pt x="8080" y="13554"/>
                  <a:pt x="7990" y="13596"/>
                  <a:pt x="7913" y="13519"/>
                </a:cubicBezTo>
                <a:cubicBezTo>
                  <a:pt x="7913" y="13494"/>
                  <a:pt x="7913" y="13486"/>
                  <a:pt x="7913" y="13469"/>
                </a:cubicBezTo>
              </a:path>
              <a:path w="2754" h="4342">
                <a:moveTo>
                  <a:pt x="7987" y="13022"/>
                </a:moveTo>
                <a:cubicBezTo>
                  <a:pt x="7987" y="13213"/>
                  <a:pt x="8022" y="13382"/>
                  <a:pt x="8062" y="13568"/>
                </a:cubicBezTo>
                <a:cubicBezTo>
                  <a:pt x="8070" y="13601"/>
                  <a:pt x="8078" y="13634"/>
                  <a:pt x="8086" y="13667"/>
                </a:cubicBezTo>
              </a:path>
              <a:path w="2754" h="4342">
                <a:moveTo>
                  <a:pt x="8706" y="13345"/>
                </a:moveTo>
                <a:cubicBezTo>
                  <a:pt x="8550" y="13345"/>
                  <a:pt x="8533" y="13528"/>
                  <a:pt x="8508" y="13643"/>
                </a:cubicBezTo>
                <a:cubicBezTo>
                  <a:pt x="8487" y="13812"/>
                  <a:pt x="8465" y="13851"/>
                  <a:pt x="8533" y="13940"/>
                </a:cubicBezTo>
                <a:cubicBezTo>
                  <a:pt x="8774" y="13923"/>
                  <a:pt x="8794" y="13768"/>
                  <a:pt x="8731" y="13543"/>
                </a:cubicBezTo>
                <a:cubicBezTo>
                  <a:pt x="8696" y="13419"/>
                  <a:pt x="8682" y="13387"/>
                  <a:pt x="8582" y="13419"/>
                </a:cubicBezTo>
              </a:path>
              <a:path w="2754" h="4342">
                <a:moveTo>
                  <a:pt x="9153" y="13271"/>
                </a:moveTo>
                <a:cubicBezTo>
                  <a:pt x="9267" y="13175"/>
                  <a:pt x="9380" y="13171"/>
                  <a:pt x="9451" y="13345"/>
                </a:cubicBezTo>
                <a:cubicBezTo>
                  <a:pt x="9538" y="13557"/>
                  <a:pt x="9411" y="13717"/>
                  <a:pt x="9227" y="13717"/>
                </a:cubicBezTo>
                <a:cubicBezTo>
                  <a:pt x="9199" y="13542"/>
                  <a:pt x="9261" y="13538"/>
                  <a:pt x="9426" y="13618"/>
                </a:cubicBezTo>
                <a:cubicBezTo>
                  <a:pt x="9482" y="13655"/>
                  <a:pt x="9507" y="13650"/>
                  <a:pt x="9500" y="13692"/>
                </a:cubicBezTo>
              </a:path>
              <a:path w="2754" h="4342">
                <a:moveTo>
                  <a:pt x="9723" y="13171"/>
                </a:moveTo>
                <a:cubicBezTo>
                  <a:pt x="9678" y="13236"/>
                  <a:pt x="9661" y="13259"/>
                  <a:pt x="9649" y="13345"/>
                </a:cubicBezTo>
                <a:cubicBezTo>
                  <a:pt x="9745" y="13364"/>
                  <a:pt x="9821" y="13406"/>
                  <a:pt x="9872" y="13494"/>
                </a:cubicBezTo>
                <a:cubicBezTo>
                  <a:pt x="9935" y="13603"/>
                  <a:pt x="9777" y="13727"/>
                  <a:pt x="9674" y="13717"/>
                </a:cubicBezTo>
                <a:cubicBezTo>
                  <a:pt x="9610" y="13685"/>
                  <a:pt x="9590" y="13662"/>
                  <a:pt x="9599" y="13593"/>
                </a:cubicBezTo>
              </a:path>
              <a:path w="2754" h="4342">
                <a:moveTo>
                  <a:pt x="9674" y="13122"/>
                </a:moveTo>
                <a:cubicBezTo>
                  <a:pt x="9763" y="13077"/>
                  <a:pt x="9874" y="13024"/>
                  <a:pt x="9971" y="12973"/>
                </a:cubicBezTo>
                <a:cubicBezTo>
                  <a:pt x="9994" y="12950"/>
                  <a:pt x="9998" y="12942"/>
                  <a:pt x="10021" y="12948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955880" y="4759200"/>
            <a:ext cx="4446360" cy="758880"/>
          </a:xfrm>
          <a:custGeom>
            <a:avLst/>
            <a:gdLst/>
            <a:ahLst/>
            <a:rect l="l" t="t" r="r" b="b"/>
            <a:pathLst>
              <a:path w="12354" h="2109">
                <a:moveTo>
                  <a:pt x="5482" y="15032"/>
                </a:moveTo>
                <a:cubicBezTo>
                  <a:pt x="5436" y="15190"/>
                  <a:pt x="5414" y="15233"/>
                  <a:pt x="5482" y="15329"/>
                </a:cubicBezTo>
                <a:cubicBezTo>
                  <a:pt x="5619" y="15302"/>
                  <a:pt x="6005" y="15080"/>
                  <a:pt x="5755" y="14883"/>
                </a:cubicBezTo>
                <a:cubicBezTo>
                  <a:pt x="5629" y="14883"/>
                  <a:pt x="5602" y="14876"/>
                  <a:pt x="5531" y="14908"/>
                </a:cubicBezTo>
              </a:path>
              <a:path w="12354" h="2109">
                <a:moveTo>
                  <a:pt x="15007" y="13221"/>
                </a:moveTo>
                <a:cubicBezTo>
                  <a:pt x="15020" y="13279"/>
                  <a:pt x="15055" y="13611"/>
                  <a:pt x="15180" y="13593"/>
                </a:cubicBezTo>
                <a:cubicBezTo>
                  <a:pt x="15357" y="13567"/>
                  <a:pt x="15397" y="13346"/>
                  <a:pt x="15453" y="13221"/>
                </a:cubicBezTo>
              </a:path>
              <a:path w="12354" h="2109">
                <a:moveTo>
                  <a:pt x="17314" y="13965"/>
                </a:moveTo>
                <a:cubicBezTo>
                  <a:pt x="17491" y="13959"/>
                  <a:pt x="17617" y="13944"/>
                  <a:pt x="17785" y="13891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081920" y="4938840"/>
            <a:ext cx="884160" cy="652320"/>
          </a:xfrm>
          <a:custGeom>
            <a:avLst/>
            <a:gdLst/>
            <a:ahLst/>
            <a:rect l="l" t="t" r="r" b="b"/>
            <a:pathLst>
              <a:path w="2457" h="1812">
                <a:moveTo>
                  <a:pt x="19670" y="14015"/>
                </a:moveTo>
                <a:cubicBezTo>
                  <a:pt x="19931" y="13949"/>
                  <a:pt x="20193" y="13927"/>
                  <a:pt x="20464" y="13891"/>
                </a:cubicBezTo>
                <a:cubicBezTo>
                  <a:pt x="20860" y="13839"/>
                  <a:pt x="21354" y="13703"/>
                  <a:pt x="21754" y="13717"/>
                </a:cubicBezTo>
                <a:cubicBezTo>
                  <a:pt x="21787" y="13717"/>
                  <a:pt x="21796" y="13725"/>
                  <a:pt x="21779" y="13767"/>
                </a:cubicBezTo>
              </a:path>
              <a:path w="2457" h="1812">
                <a:moveTo>
                  <a:pt x="20489" y="14238"/>
                </a:moveTo>
                <a:cubicBezTo>
                  <a:pt x="20512" y="14430"/>
                  <a:pt x="20535" y="14636"/>
                  <a:pt x="20563" y="14833"/>
                </a:cubicBezTo>
                <a:cubicBezTo>
                  <a:pt x="20577" y="14930"/>
                  <a:pt x="20566" y="14998"/>
                  <a:pt x="20613" y="14982"/>
                </a:cubicBezTo>
              </a:path>
              <a:path w="2457" h="1812">
                <a:moveTo>
                  <a:pt x="21158" y="14610"/>
                </a:moveTo>
                <a:cubicBezTo>
                  <a:pt x="20973" y="14682"/>
                  <a:pt x="20949" y="14786"/>
                  <a:pt x="20960" y="14982"/>
                </a:cubicBezTo>
                <a:cubicBezTo>
                  <a:pt x="21115" y="15027"/>
                  <a:pt x="21303" y="14955"/>
                  <a:pt x="21208" y="14734"/>
                </a:cubicBezTo>
                <a:cubicBezTo>
                  <a:pt x="21140" y="14666"/>
                  <a:pt x="21123" y="14644"/>
                  <a:pt x="21059" y="14635"/>
                </a:cubicBezTo>
              </a:path>
              <a:path w="2457" h="1812">
                <a:moveTo>
                  <a:pt x="21431" y="14833"/>
                </a:moveTo>
                <a:cubicBezTo>
                  <a:pt x="21479" y="14720"/>
                  <a:pt x="21504" y="14648"/>
                  <a:pt x="21605" y="14560"/>
                </a:cubicBezTo>
                <a:cubicBezTo>
                  <a:pt x="21685" y="14507"/>
                  <a:pt x="21717" y="14494"/>
                  <a:pt x="21779" y="14560"/>
                </a:cubicBezTo>
                <a:cubicBezTo>
                  <a:pt x="21788" y="14759"/>
                  <a:pt x="21739" y="14764"/>
                  <a:pt x="21654" y="14932"/>
                </a:cubicBezTo>
                <a:cubicBezTo>
                  <a:pt x="21654" y="14940"/>
                  <a:pt x="21654" y="14949"/>
                  <a:pt x="21654" y="14957"/>
                </a:cubicBezTo>
                <a:cubicBezTo>
                  <a:pt x="21936" y="15059"/>
                  <a:pt x="22029" y="15173"/>
                  <a:pt x="22126" y="15453"/>
                </a:cubicBezTo>
                <a:cubicBezTo>
                  <a:pt x="21802" y="15562"/>
                  <a:pt x="21689" y="15550"/>
                  <a:pt x="21481" y="15280"/>
                </a:cubicBezTo>
                <a:cubicBezTo>
                  <a:pt x="21647" y="15093"/>
                  <a:pt x="22006" y="15006"/>
                  <a:pt x="22126" y="14858"/>
                </a:cubicBezTo>
                <a:cubicBezTo>
                  <a:pt x="22126" y="14901"/>
                  <a:pt x="22109" y="14904"/>
                  <a:pt x="22051" y="14858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32640" y="2152800"/>
            <a:ext cx="179280" cy="196560"/>
          </a:xfrm>
          <a:custGeom>
            <a:avLst/>
            <a:gdLst/>
            <a:ahLst/>
            <a:rect l="l" t="t" r="r" b="b"/>
            <a:pathLst>
              <a:path w="497" h="547">
                <a:moveTo>
                  <a:pt x="15949" y="6350"/>
                </a:moveTo>
                <a:cubicBezTo>
                  <a:pt x="16108" y="6316"/>
                  <a:pt x="16258" y="6248"/>
                  <a:pt x="16421" y="6226"/>
                </a:cubicBezTo>
              </a:path>
              <a:path w="497" h="547">
                <a:moveTo>
                  <a:pt x="16346" y="5978"/>
                </a:moveTo>
                <a:cubicBezTo>
                  <a:pt x="16259" y="6159"/>
                  <a:pt x="16191" y="6349"/>
                  <a:pt x="16098" y="6524"/>
                </a:cubicBezTo>
              </a:path>
              <a:path w="497" h="547">
                <a:moveTo>
                  <a:pt x="15925" y="6251"/>
                </a:moveTo>
                <a:cubicBezTo>
                  <a:pt x="16074" y="6292"/>
                  <a:pt x="16253" y="6375"/>
                  <a:pt x="16396" y="6449"/>
                </a:cubicBezTo>
                <a:cubicBezTo>
                  <a:pt x="16404" y="6457"/>
                  <a:pt x="16413" y="6466"/>
                  <a:pt x="16421" y="6474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09960" y="5000760"/>
            <a:ext cx="830160" cy="590400"/>
          </a:xfrm>
          <a:custGeom>
            <a:avLst/>
            <a:gdLst/>
            <a:ahLst/>
            <a:rect l="l" t="t" r="r" b="b"/>
            <a:pathLst>
              <a:path w="2308" h="1638">
                <a:moveTo>
                  <a:pt x="8359" y="14188"/>
                </a:moveTo>
                <a:cubicBezTo>
                  <a:pt x="8684" y="14059"/>
                  <a:pt x="9028" y="14055"/>
                  <a:pt x="9376" y="14015"/>
                </a:cubicBezTo>
                <a:cubicBezTo>
                  <a:pt x="9699" y="13977"/>
                  <a:pt x="10021" y="13928"/>
                  <a:pt x="10344" y="13891"/>
                </a:cubicBezTo>
                <a:cubicBezTo>
                  <a:pt x="10352" y="13891"/>
                  <a:pt x="10360" y="13891"/>
                  <a:pt x="10368" y="13891"/>
                </a:cubicBezTo>
              </a:path>
              <a:path w="2308" h="1638">
                <a:moveTo>
                  <a:pt x="8880" y="14263"/>
                </a:moveTo>
                <a:cubicBezTo>
                  <a:pt x="8954" y="14116"/>
                  <a:pt x="8986" y="14521"/>
                  <a:pt x="9004" y="14684"/>
                </a:cubicBezTo>
                <a:cubicBezTo>
                  <a:pt x="9016" y="14788"/>
                  <a:pt x="9018" y="14881"/>
                  <a:pt x="9029" y="14982"/>
                </a:cubicBezTo>
              </a:path>
              <a:path w="2308" h="1638">
                <a:moveTo>
                  <a:pt x="9971" y="14560"/>
                </a:moveTo>
                <a:cubicBezTo>
                  <a:pt x="9971" y="14560"/>
                  <a:pt x="9978" y="14414"/>
                  <a:pt x="9897" y="14511"/>
                </a:cubicBezTo>
                <a:cubicBezTo>
                  <a:pt x="9776" y="14656"/>
                  <a:pt x="9805" y="14806"/>
                  <a:pt x="9947" y="14883"/>
                </a:cubicBezTo>
                <a:cubicBezTo>
                  <a:pt x="10073" y="14746"/>
                  <a:pt x="9996" y="14597"/>
                  <a:pt x="10021" y="14560"/>
                </a:cubicBezTo>
                <a:cubicBezTo>
                  <a:pt x="10116" y="14417"/>
                  <a:pt x="10252" y="14497"/>
                  <a:pt x="10368" y="14536"/>
                </a:cubicBezTo>
                <a:cubicBezTo>
                  <a:pt x="10368" y="14662"/>
                  <a:pt x="10326" y="14736"/>
                  <a:pt x="10294" y="14784"/>
                </a:cubicBezTo>
                <a:cubicBezTo>
                  <a:pt x="10561" y="15026"/>
                  <a:pt x="10663" y="15110"/>
                  <a:pt x="10592" y="15453"/>
                </a:cubicBezTo>
                <a:cubicBezTo>
                  <a:pt x="10259" y="15560"/>
                  <a:pt x="10034" y="15462"/>
                  <a:pt x="10220" y="15032"/>
                </a:cubicBezTo>
                <a:cubicBezTo>
                  <a:pt x="10287" y="14877"/>
                  <a:pt x="10464" y="14703"/>
                  <a:pt x="10641" y="14684"/>
                </a:cubicBezTo>
                <a:cubicBezTo>
                  <a:pt x="10641" y="14692"/>
                  <a:pt x="10641" y="14701"/>
                  <a:pt x="10641" y="14709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4875120"/>
            <a:ext cx="1741320" cy="785880"/>
          </a:xfrm>
          <a:custGeom>
            <a:avLst/>
            <a:gdLst/>
            <a:ahLst/>
            <a:rect l="l" t="t" r="r" b="b"/>
            <a:pathLst>
              <a:path w="4838" h="2184">
                <a:moveTo>
                  <a:pt x="15925" y="15255"/>
                </a:moveTo>
                <a:cubicBezTo>
                  <a:pt x="15882" y="15298"/>
                  <a:pt x="15863" y="15329"/>
                  <a:pt x="15850" y="15379"/>
                </a:cubicBezTo>
              </a:path>
              <a:path w="4838" h="2184">
                <a:moveTo>
                  <a:pt x="15701" y="15726"/>
                </a:moveTo>
                <a:cubicBezTo>
                  <a:pt x="15709" y="15726"/>
                  <a:pt x="15718" y="15726"/>
                  <a:pt x="15726" y="15726"/>
                </a:cubicBezTo>
              </a:path>
              <a:path w="4838" h="2184">
                <a:moveTo>
                  <a:pt x="15726" y="15726"/>
                </a:moveTo>
                <a:lnTo>
                  <a:pt x="15726" y="15726"/>
                </a:lnTo>
              </a:path>
              <a:path w="4838" h="2184">
                <a:moveTo>
                  <a:pt x="20538" y="13543"/>
                </a:moveTo>
                <a:lnTo>
                  <a:pt x="20538" y="13543"/>
                </a:lnTo>
                <a:lnTo>
                  <a:pt x="20538" y="13543"/>
                </a:lnTo>
              </a:path>
              <a:path w="4838" h="2184">
                <a:moveTo>
                  <a:pt x="20538" y="13543"/>
                </a:moveTo>
                <a:lnTo>
                  <a:pt x="20538" y="13543"/>
                </a:ln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37200" y="3633840"/>
            <a:ext cx="115920" cy="27000"/>
          </a:xfrm>
          <a:custGeom>
            <a:avLst/>
            <a:gdLst/>
            <a:ahLst/>
            <a:rect l="l" t="t" r="r" b="b"/>
            <a:pathLst>
              <a:path w="323" h="75">
                <a:moveTo>
                  <a:pt x="16768" y="10170"/>
                </a:moveTo>
                <a:cubicBezTo>
                  <a:pt x="16844" y="10141"/>
                  <a:pt x="16936" y="10111"/>
                  <a:pt x="17016" y="10096"/>
                </a:cubicBezTo>
                <a:cubicBezTo>
                  <a:pt x="17057" y="10096"/>
                  <a:pt x="17065" y="10096"/>
                  <a:pt x="17090" y="1009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89760" y="3714840"/>
            <a:ext cx="98280" cy="9360"/>
          </a:xfrm>
          <a:custGeom>
            <a:avLst/>
            <a:gdLst/>
            <a:ahLst/>
            <a:rect l="l" t="t" r="r" b="b"/>
            <a:pathLst>
              <a:path w="274" h="26">
                <a:moveTo>
                  <a:pt x="16917" y="10344"/>
                </a:moveTo>
                <a:cubicBezTo>
                  <a:pt x="17010" y="10338"/>
                  <a:pt x="17097" y="10319"/>
                  <a:pt x="17190" y="10319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75240" y="3687840"/>
            <a:ext cx="679680" cy="36360"/>
          </a:xfrm>
          <a:custGeom>
            <a:avLst/>
            <a:gdLst/>
            <a:ahLst/>
            <a:rect l="l" t="t" r="r" b="b"/>
            <a:pathLst>
              <a:path w="1886" h="101">
                <a:moveTo>
                  <a:pt x="17711" y="10344"/>
                </a:moveTo>
                <a:cubicBezTo>
                  <a:pt x="17937" y="10344"/>
                  <a:pt x="18154" y="10302"/>
                  <a:pt x="18380" y="10294"/>
                </a:cubicBezTo>
                <a:cubicBezTo>
                  <a:pt x="18752" y="10281"/>
                  <a:pt x="19124" y="10252"/>
                  <a:pt x="19496" y="10244"/>
                </a:cubicBezTo>
                <a:cubicBezTo>
                  <a:pt x="19554" y="10244"/>
                  <a:pt x="19563" y="10244"/>
                  <a:pt x="19596" y="10244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643720" y="4017960"/>
            <a:ext cx="107640" cy="9360"/>
          </a:xfrm>
          <a:custGeom>
            <a:avLst/>
            <a:gdLst/>
            <a:ahLst/>
            <a:rect l="l" t="t" r="r" b="b"/>
            <a:pathLst>
              <a:path w="298" h="26">
                <a:moveTo>
                  <a:pt x="15677" y="11162"/>
                </a:moveTo>
                <a:cubicBezTo>
                  <a:pt x="15774" y="11162"/>
                  <a:pt x="15859" y="11169"/>
                  <a:pt x="15949" y="11187"/>
                </a:cubicBezTo>
                <a:cubicBezTo>
                  <a:pt x="15957" y="11187"/>
                  <a:pt x="15966" y="11187"/>
                  <a:pt x="15974" y="1118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69000" y="3990960"/>
            <a:ext cx="98280" cy="54000"/>
          </a:xfrm>
          <a:custGeom>
            <a:avLst/>
            <a:gdLst/>
            <a:ahLst/>
            <a:rect l="l" t="t" r="r" b="b"/>
            <a:pathLst>
              <a:path w="274" h="150">
                <a:moveTo>
                  <a:pt x="16024" y="11088"/>
                </a:moveTo>
                <a:cubicBezTo>
                  <a:pt x="16036" y="11133"/>
                  <a:pt x="16049" y="11158"/>
                  <a:pt x="16049" y="11212"/>
                </a:cubicBezTo>
                <a:cubicBezTo>
                  <a:pt x="16164" y="11246"/>
                  <a:pt x="16219" y="11199"/>
                  <a:pt x="16297" y="11112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857920" y="3963960"/>
            <a:ext cx="1440" cy="162000"/>
          </a:xfrm>
          <a:custGeom>
            <a:avLst/>
            <a:gdLst/>
            <a:ahLst/>
            <a:rect l="l" t="t" r="r" b="b"/>
            <a:pathLst>
              <a:path w="1" h="448">
                <a:moveTo>
                  <a:pt x="16272" y="11013"/>
                </a:moveTo>
                <a:cubicBezTo>
                  <a:pt x="16272" y="11162"/>
                  <a:pt x="16272" y="11311"/>
                  <a:pt x="16272" y="11460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81880" y="3786120"/>
            <a:ext cx="106200" cy="98640"/>
          </a:xfrm>
          <a:custGeom>
            <a:avLst/>
            <a:gdLst/>
            <a:ahLst/>
            <a:rect l="l" t="t" r="r" b="b"/>
            <a:pathLst>
              <a:path w="299" h="274">
                <a:moveTo>
                  <a:pt x="18529" y="10567"/>
                </a:moveTo>
                <a:cubicBezTo>
                  <a:pt x="18545" y="10518"/>
                  <a:pt x="18509" y="10489"/>
                  <a:pt x="18405" y="10517"/>
                </a:cubicBezTo>
                <a:cubicBezTo>
                  <a:pt x="18328" y="10556"/>
                  <a:pt x="18313" y="10555"/>
                  <a:pt x="18281" y="10592"/>
                </a:cubicBezTo>
                <a:cubicBezTo>
                  <a:pt x="18337" y="10610"/>
                  <a:pt x="18540" y="10588"/>
                  <a:pt x="18579" y="10666"/>
                </a:cubicBezTo>
                <a:cubicBezTo>
                  <a:pt x="18579" y="10683"/>
                  <a:pt x="18579" y="10699"/>
                  <a:pt x="18579" y="10716"/>
                </a:cubicBezTo>
                <a:cubicBezTo>
                  <a:pt x="18477" y="10760"/>
                  <a:pt x="18361" y="10826"/>
                  <a:pt x="18281" y="10765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86720" y="3759120"/>
            <a:ext cx="80640" cy="250920"/>
          </a:xfrm>
          <a:custGeom>
            <a:avLst/>
            <a:gdLst/>
            <a:ahLst/>
            <a:rect l="l" t="t" r="r" b="b"/>
            <a:pathLst>
              <a:path w="224" h="695">
                <a:moveTo>
                  <a:pt x="18852" y="10443"/>
                </a:moveTo>
                <a:cubicBezTo>
                  <a:pt x="18928" y="10635"/>
                  <a:pt x="19001" y="10811"/>
                  <a:pt x="19050" y="11013"/>
                </a:cubicBezTo>
                <a:cubicBezTo>
                  <a:pt x="19062" y="11062"/>
                  <a:pt x="19075" y="11163"/>
                  <a:pt x="19075" y="11112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527800" y="3367080"/>
            <a:ext cx="71280" cy="34920"/>
          </a:xfrm>
          <a:custGeom>
            <a:avLst/>
            <a:gdLst/>
            <a:ahLst/>
            <a:rect l="l" t="t" r="r" b="b"/>
            <a:pathLst>
              <a:path w="200" h="101">
                <a:moveTo>
                  <a:pt x="15354" y="9451"/>
                </a:moveTo>
                <a:cubicBezTo>
                  <a:pt x="15414" y="9427"/>
                  <a:pt x="15457" y="9364"/>
                  <a:pt x="15528" y="9351"/>
                </a:cubicBezTo>
                <a:cubicBezTo>
                  <a:pt x="15536" y="9351"/>
                  <a:pt x="15545" y="9351"/>
                  <a:pt x="15553" y="9351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16720" y="3313080"/>
            <a:ext cx="80640" cy="27000"/>
          </a:xfrm>
          <a:custGeom>
            <a:avLst/>
            <a:gdLst/>
            <a:ahLst/>
            <a:rect l="l" t="t" r="r" b="b"/>
            <a:pathLst>
              <a:path w="224" h="75">
                <a:moveTo>
                  <a:pt x="15602" y="9203"/>
                </a:moveTo>
                <a:cubicBezTo>
                  <a:pt x="15642" y="9223"/>
                  <a:pt x="15639" y="9274"/>
                  <a:pt x="15677" y="9277"/>
                </a:cubicBezTo>
                <a:cubicBezTo>
                  <a:pt x="15739" y="9282"/>
                  <a:pt x="15777" y="9260"/>
                  <a:pt x="15825" y="922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589800" y="3446640"/>
            <a:ext cx="162000" cy="214200"/>
          </a:xfrm>
          <a:custGeom>
            <a:avLst/>
            <a:gdLst/>
            <a:ahLst/>
            <a:rect l="l" t="t" r="r" b="b"/>
            <a:pathLst>
              <a:path w="447" h="596">
                <a:moveTo>
                  <a:pt x="18678" y="9599"/>
                </a:moveTo>
                <a:cubicBezTo>
                  <a:pt x="18732" y="9522"/>
                  <a:pt x="18511" y="9668"/>
                  <a:pt x="18479" y="9674"/>
                </a:cubicBezTo>
                <a:cubicBezTo>
                  <a:pt x="18376" y="9693"/>
                  <a:pt x="18331" y="9630"/>
                  <a:pt x="18331" y="9723"/>
                </a:cubicBezTo>
                <a:cubicBezTo>
                  <a:pt x="18331" y="9789"/>
                  <a:pt x="18331" y="9856"/>
                  <a:pt x="18331" y="9922"/>
                </a:cubicBezTo>
                <a:cubicBezTo>
                  <a:pt x="18437" y="9868"/>
                  <a:pt x="18505" y="9743"/>
                  <a:pt x="18653" y="9823"/>
                </a:cubicBezTo>
                <a:cubicBezTo>
                  <a:pt x="18820" y="9913"/>
                  <a:pt x="18779" y="10130"/>
                  <a:pt x="18604" y="10170"/>
                </a:cubicBezTo>
                <a:cubicBezTo>
                  <a:pt x="18495" y="10195"/>
                  <a:pt x="18397" y="10143"/>
                  <a:pt x="18306" y="10120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48640" y="3537000"/>
            <a:ext cx="90360" cy="98280"/>
          </a:xfrm>
          <a:custGeom>
            <a:avLst/>
            <a:gdLst/>
            <a:ahLst/>
            <a:rect l="l" t="t" r="r" b="b"/>
            <a:pathLst>
              <a:path w="249" h="274">
                <a:moveTo>
                  <a:pt x="19050" y="9847"/>
                </a:moveTo>
                <a:cubicBezTo>
                  <a:pt x="19050" y="9784"/>
                  <a:pt x="19017" y="10000"/>
                  <a:pt x="19025" y="10021"/>
                </a:cubicBezTo>
                <a:cubicBezTo>
                  <a:pt x="19042" y="10038"/>
                  <a:pt x="19058" y="10054"/>
                  <a:pt x="19075" y="10071"/>
                </a:cubicBezTo>
                <a:cubicBezTo>
                  <a:pt x="19161" y="10071"/>
                  <a:pt x="19383" y="9990"/>
                  <a:pt x="19248" y="9847"/>
                </a:cubicBezTo>
                <a:cubicBezTo>
                  <a:pt x="19183" y="9826"/>
                  <a:pt x="19167" y="9818"/>
                  <a:pt x="19124" y="9823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966000" y="3483000"/>
            <a:ext cx="123840" cy="133200"/>
          </a:xfrm>
          <a:custGeom>
            <a:avLst/>
            <a:gdLst/>
            <a:ahLst/>
            <a:rect l="l" t="t" r="r" b="b"/>
            <a:pathLst>
              <a:path w="348" h="373">
                <a:moveTo>
                  <a:pt x="19348" y="9723"/>
                </a:moveTo>
                <a:cubicBezTo>
                  <a:pt x="19444" y="9711"/>
                  <a:pt x="19541" y="9676"/>
                  <a:pt x="19621" y="9699"/>
                </a:cubicBezTo>
                <a:cubicBezTo>
                  <a:pt x="19607" y="9833"/>
                  <a:pt x="19555" y="9914"/>
                  <a:pt x="19472" y="10021"/>
                </a:cubicBezTo>
                <a:cubicBezTo>
                  <a:pt x="19464" y="10029"/>
                  <a:pt x="19455" y="10038"/>
                  <a:pt x="19447" y="10046"/>
                </a:cubicBezTo>
                <a:cubicBezTo>
                  <a:pt x="19528" y="10046"/>
                  <a:pt x="19593" y="10028"/>
                  <a:pt x="19670" y="10021"/>
                </a:cubicBezTo>
                <a:cubicBezTo>
                  <a:pt x="19678" y="10021"/>
                  <a:pt x="19687" y="10021"/>
                  <a:pt x="19695" y="10021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946920" y="3517920"/>
            <a:ext cx="152280" cy="36360"/>
          </a:xfrm>
          <a:custGeom>
            <a:avLst/>
            <a:gdLst/>
            <a:ahLst/>
            <a:rect l="l" t="t" r="r" b="b"/>
            <a:pathLst>
              <a:path w="423" h="100">
                <a:moveTo>
                  <a:pt x="19298" y="9872"/>
                </a:moveTo>
                <a:cubicBezTo>
                  <a:pt x="19440" y="9833"/>
                  <a:pt x="19574" y="9786"/>
                  <a:pt x="19720" y="9773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97320" y="4732200"/>
            <a:ext cx="142920" cy="216000"/>
          </a:xfrm>
          <a:custGeom>
            <a:avLst/>
            <a:gdLst/>
            <a:ahLst/>
            <a:rect l="l" t="t" r="r" b="b"/>
            <a:pathLst>
              <a:path w="398" h="597">
                <a:moveTo>
                  <a:pt x="14635" y="13146"/>
                </a:moveTo>
                <a:cubicBezTo>
                  <a:pt x="14520" y="13239"/>
                  <a:pt x="14486" y="13263"/>
                  <a:pt x="14436" y="13345"/>
                </a:cubicBezTo>
                <a:cubicBezTo>
                  <a:pt x="14539" y="13488"/>
                  <a:pt x="14695" y="13490"/>
                  <a:pt x="14833" y="13618"/>
                </a:cubicBezTo>
                <a:cubicBezTo>
                  <a:pt x="14631" y="13756"/>
                  <a:pt x="14651" y="13750"/>
                  <a:pt x="14436" y="13643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32240" y="4732200"/>
            <a:ext cx="71640" cy="216000"/>
          </a:xfrm>
          <a:custGeom>
            <a:avLst/>
            <a:gdLst/>
            <a:ahLst/>
            <a:rect l="l" t="t" r="r" b="b"/>
            <a:pathLst>
              <a:path w="199" h="597">
                <a:moveTo>
                  <a:pt x="14536" y="13146"/>
                </a:moveTo>
                <a:cubicBezTo>
                  <a:pt x="14602" y="13344"/>
                  <a:pt x="14660" y="13548"/>
                  <a:pt x="14734" y="13742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27800" y="4670280"/>
            <a:ext cx="27000" cy="303480"/>
          </a:xfrm>
          <a:custGeom>
            <a:avLst/>
            <a:gdLst/>
            <a:ahLst/>
            <a:rect l="l" t="t" r="r" b="b"/>
            <a:pathLst>
              <a:path w="76" h="844">
                <a:moveTo>
                  <a:pt x="15379" y="12973"/>
                </a:moveTo>
                <a:cubicBezTo>
                  <a:pt x="15338" y="13158"/>
                  <a:pt x="15415" y="13413"/>
                  <a:pt x="15429" y="13618"/>
                </a:cubicBezTo>
                <a:cubicBezTo>
                  <a:pt x="15429" y="13725"/>
                  <a:pt x="15429" y="13750"/>
                  <a:pt x="15429" y="1381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32240" y="5000760"/>
            <a:ext cx="635040" cy="169560"/>
          </a:xfrm>
          <a:custGeom>
            <a:avLst/>
            <a:gdLst/>
            <a:ahLst/>
            <a:rect l="l" t="t" r="r" b="b"/>
            <a:pathLst>
              <a:path w="1762" h="472">
                <a:moveTo>
                  <a:pt x="14536" y="14362"/>
                </a:moveTo>
                <a:cubicBezTo>
                  <a:pt x="15097" y="14175"/>
                  <a:pt x="15647" y="14046"/>
                  <a:pt x="16222" y="13915"/>
                </a:cubicBezTo>
                <a:cubicBezTo>
                  <a:pt x="16280" y="13897"/>
                  <a:pt x="16305" y="13870"/>
                  <a:pt x="16297" y="13915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03880" y="5241960"/>
            <a:ext cx="250920" cy="295200"/>
          </a:xfrm>
          <a:custGeom>
            <a:avLst/>
            <a:gdLst/>
            <a:ahLst/>
            <a:rect l="l" t="t" r="r" b="b"/>
            <a:pathLst>
              <a:path w="696" h="820">
                <a:moveTo>
                  <a:pt x="14858" y="14734"/>
                </a:moveTo>
                <a:cubicBezTo>
                  <a:pt x="14918" y="14646"/>
                  <a:pt x="14946" y="14609"/>
                  <a:pt x="15007" y="14560"/>
                </a:cubicBezTo>
                <a:cubicBezTo>
                  <a:pt x="15300" y="14700"/>
                  <a:pt x="15414" y="15001"/>
                  <a:pt x="15106" y="15280"/>
                </a:cubicBezTo>
                <a:cubicBezTo>
                  <a:pt x="14911" y="15366"/>
                  <a:pt x="14868" y="15405"/>
                  <a:pt x="14734" y="15354"/>
                </a:cubicBezTo>
                <a:cubicBezTo>
                  <a:pt x="14805" y="15001"/>
                  <a:pt x="14956" y="14875"/>
                  <a:pt x="15304" y="15106"/>
                </a:cubicBezTo>
                <a:cubicBezTo>
                  <a:pt x="15379" y="15180"/>
                  <a:pt x="15388" y="15188"/>
                  <a:pt x="15429" y="15230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554800" y="5214960"/>
            <a:ext cx="152280" cy="258840"/>
          </a:xfrm>
          <a:custGeom>
            <a:avLst/>
            <a:gdLst/>
            <a:ahLst/>
            <a:rect l="l" t="t" r="r" b="b"/>
            <a:pathLst>
              <a:path w="422" h="720">
                <a:moveTo>
                  <a:pt x="15503" y="14486"/>
                </a:moveTo>
                <a:cubicBezTo>
                  <a:pt x="15413" y="14799"/>
                  <a:pt x="15381" y="14971"/>
                  <a:pt x="15602" y="15205"/>
                </a:cubicBezTo>
                <a:cubicBezTo>
                  <a:pt x="15781" y="15076"/>
                  <a:pt x="16052" y="14758"/>
                  <a:pt x="15701" y="14585"/>
                </a:cubicBezTo>
                <a:cubicBezTo>
                  <a:pt x="15562" y="14585"/>
                  <a:pt x="15529" y="14561"/>
                  <a:pt x="15478" y="14635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840280" y="5313240"/>
            <a:ext cx="88920" cy="160560"/>
          </a:xfrm>
          <a:custGeom>
            <a:avLst/>
            <a:gdLst/>
            <a:ahLst/>
            <a:rect l="l" t="t" r="r" b="b"/>
            <a:pathLst>
              <a:path w="249" h="447">
                <a:moveTo>
                  <a:pt x="16321" y="14759"/>
                </a:moveTo>
                <a:cubicBezTo>
                  <a:pt x="16219" y="14933"/>
                  <a:pt x="16170" y="15069"/>
                  <a:pt x="16321" y="15205"/>
                </a:cubicBezTo>
                <a:cubicBezTo>
                  <a:pt x="16430" y="15104"/>
                  <a:pt x="16602" y="14853"/>
                  <a:pt x="16321" y="14784"/>
                </a:cubicBezTo>
                <a:cubicBezTo>
                  <a:pt x="16240" y="14810"/>
                  <a:pt x="16223" y="14818"/>
                  <a:pt x="16346" y="14808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46840" y="5295960"/>
            <a:ext cx="277920" cy="374760"/>
          </a:xfrm>
          <a:custGeom>
            <a:avLst/>
            <a:gdLst/>
            <a:ahLst/>
            <a:rect l="l" t="t" r="r" b="b"/>
            <a:pathLst>
              <a:path w="770" h="1043">
                <a:moveTo>
                  <a:pt x="16520" y="14833"/>
                </a:moveTo>
                <a:cubicBezTo>
                  <a:pt x="16607" y="14759"/>
                  <a:pt x="16779" y="14623"/>
                  <a:pt x="16892" y="14759"/>
                </a:cubicBezTo>
                <a:cubicBezTo>
                  <a:pt x="17017" y="14909"/>
                  <a:pt x="16821" y="15049"/>
                  <a:pt x="16743" y="15131"/>
                </a:cubicBezTo>
                <a:cubicBezTo>
                  <a:pt x="16564" y="15086"/>
                  <a:pt x="16916" y="15109"/>
                  <a:pt x="17041" y="15205"/>
                </a:cubicBezTo>
                <a:cubicBezTo>
                  <a:pt x="17242" y="15407"/>
                  <a:pt x="17313" y="15452"/>
                  <a:pt x="17289" y="15652"/>
                </a:cubicBezTo>
                <a:cubicBezTo>
                  <a:pt x="17079" y="15733"/>
                  <a:pt x="16451" y="15890"/>
                  <a:pt x="16694" y="15404"/>
                </a:cubicBezTo>
                <a:cubicBezTo>
                  <a:pt x="16760" y="15272"/>
                  <a:pt x="17053" y="15066"/>
                  <a:pt x="17165" y="15106"/>
                </a:cubicBezTo>
                <a:cubicBezTo>
                  <a:pt x="17165" y="15123"/>
                  <a:pt x="17165" y="15139"/>
                  <a:pt x="17165" y="1515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232680" y="4964040"/>
            <a:ext cx="117360" cy="19080"/>
          </a:xfrm>
          <a:custGeom>
            <a:avLst/>
            <a:gdLst/>
            <a:ahLst/>
            <a:rect l="l" t="t" r="r" b="b"/>
            <a:pathLst>
              <a:path w="323" h="51">
                <a:moveTo>
                  <a:pt x="17314" y="13841"/>
                </a:moveTo>
                <a:cubicBezTo>
                  <a:pt x="17370" y="13798"/>
                  <a:pt x="17542" y="13785"/>
                  <a:pt x="17611" y="13791"/>
                </a:cubicBezTo>
                <a:cubicBezTo>
                  <a:pt x="17619" y="13799"/>
                  <a:pt x="17628" y="13808"/>
                  <a:pt x="17636" y="1381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607000" y="5562720"/>
            <a:ext cx="127080" cy="46080"/>
          </a:xfrm>
          <a:custGeom>
            <a:avLst/>
            <a:gdLst/>
            <a:ahLst/>
            <a:rect l="l" t="t" r="r" b="b"/>
            <a:pathLst>
              <a:path w="349" h="125">
                <a:moveTo>
                  <a:pt x="15577" y="15453"/>
                </a:moveTo>
                <a:cubicBezTo>
                  <a:pt x="15665" y="15453"/>
                  <a:pt x="15745" y="15493"/>
                  <a:pt x="15825" y="15528"/>
                </a:cubicBezTo>
                <a:cubicBezTo>
                  <a:pt x="15899" y="15564"/>
                  <a:pt x="15932" y="15610"/>
                  <a:pt x="15925" y="15553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59280" y="5572080"/>
            <a:ext cx="162000" cy="135000"/>
          </a:xfrm>
          <a:custGeom>
            <a:avLst/>
            <a:gdLst/>
            <a:ahLst/>
            <a:rect l="l" t="t" r="r" b="b"/>
            <a:pathLst>
              <a:path w="448" h="373">
                <a:moveTo>
                  <a:pt x="16123" y="15478"/>
                </a:moveTo>
                <a:cubicBezTo>
                  <a:pt x="16201" y="15478"/>
                  <a:pt x="16219" y="15463"/>
                  <a:pt x="16247" y="15503"/>
                </a:cubicBezTo>
                <a:cubicBezTo>
                  <a:pt x="16186" y="15655"/>
                  <a:pt x="16119" y="15730"/>
                  <a:pt x="15999" y="15850"/>
                </a:cubicBezTo>
                <a:cubicBezTo>
                  <a:pt x="16184" y="15826"/>
                  <a:pt x="16270" y="15767"/>
                  <a:pt x="16446" y="1567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884920" y="5589720"/>
            <a:ext cx="98280" cy="98280"/>
          </a:xfrm>
          <a:custGeom>
            <a:avLst/>
            <a:gdLst/>
            <a:ahLst/>
            <a:rect l="l" t="t" r="r" b="b"/>
            <a:pathLst>
              <a:path w="274" h="274">
                <a:moveTo>
                  <a:pt x="16446" y="15577"/>
                </a:moveTo>
                <a:cubicBezTo>
                  <a:pt x="16363" y="15680"/>
                  <a:pt x="16321" y="15696"/>
                  <a:pt x="16371" y="15776"/>
                </a:cubicBezTo>
                <a:cubicBezTo>
                  <a:pt x="16464" y="15782"/>
                  <a:pt x="16812" y="15649"/>
                  <a:pt x="16545" y="15528"/>
                </a:cubicBezTo>
                <a:cubicBezTo>
                  <a:pt x="16487" y="15528"/>
                  <a:pt x="16429" y="15528"/>
                  <a:pt x="16371" y="15528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634000" y="4714920"/>
            <a:ext cx="100080" cy="8100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15652" y="13320"/>
                </a:moveTo>
                <a:cubicBezTo>
                  <a:pt x="15748" y="13238"/>
                  <a:pt x="15842" y="13187"/>
                  <a:pt x="15925" y="1309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813280" y="4626000"/>
            <a:ext cx="142920" cy="115920"/>
          </a:xfrm>
          <a:custGeom>
            <a:avLst/>
            <a:gdLst/>
            <a:ahLst/>
            <a:rect l="l" t="t" r="r" b="b"/>
            <a:pathLst>
              <a:path w="398" h="323">
                <a:moveTo>
                  <a:pt x="16148" y="12898"/>
                </a:moveTo>
                <a:cubicBezTo>
                  <a:pt x="16204" y="12861"/>
                  <a:pt x="16208" y="12844"/>
                  <a:pt x="16247" y="12849"/>
                </a:cubicBezTo>
                <a:cubicBezTo>
                  <a:pt x="16254" y="12975"/>
                  <a:pt x="16212" y="13050"/>
                  <a:pt x="16197" y="13171"/>
                </a:cubicBezTo>
                <a:cubicBezTo>
                  <a:pt x="16322" y="13094"/>
                  <a:pt x="16434" y="13019"/>
                  <a:pt x="16545" y="12923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919840" y="4616280"/>
            <a:ext cx="81000" cy="90720"/>
          </a:xfrm>
          <a:custGeom>
            <a:avLst/>
            <a:gdLst/>
            <a:ahLst/>
            <a:rect l="l" t="t" r="r" b="b"/>
            <a:pathLst>
              <a:path w="224" h="249">
                <a:moveTo>
                  <a:pt x="16470" y="12849"/>
                </a:moveTo>
                <a:cubicBezTo>
                  <a:pt x="16448" y="12940"/>
                  <a:pt x="16437" y="12966"/>
                  <a:pt x="16470" y="13022"/>
                </a:cubicBezTo>
                <a:cubicBezTo>
                  <a:pt x="16559" y="13067"/>
                  <a:pt x="16771" y="13017"/>
                  <a:pt x="16644" y="12874"/>
                </a:cubicBezTo>
                <a:cubicBezTo>
                  <a:pt x="16577" y="12851"/>
                  <a:pt x="16559" y="12846"/>
                  <a:pt x="16520" y="12824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973920" y="4724280"/>
            <a:ext cx="108000" cy="125640"/>
          </a:xfrm>
          <a:custGeom>
            <a:avLst/>
            <a:gdLst/>
            <a:ahLst/>
            <a:rect l="l" t="t" r="r" b="b"/>
            <a:pathLst>
              <a:path w="299" h="348">
                <a:moveTo>
                  <a:pt x="19670" y="13146"/>
                </a:moveTo>
                <a:cubicBezTo>
                  <a:pt x="19556" y="13126"/>
                  <a:pt x="19507" y="13151"/>
                  <a:pt x="19397" y="13196"/>
                </a:cubicBezTo>
                <a:cubicBezTo>
                  <a:pt x="19457" y="13286"/>
                  <a:pt x="19518" y="13296"/>
                  <a:pt x="19621" y="13345"/>
                </a:cubicBezTo>
                <a:cubicBezTo>
                  <a:pt x="19594" y="13425"/>
                  <a:pt x="19468" y="13547"/>
                  <a:pt x="19372" y="13444"/>
                </a:cubicBezTo>
                <a:cubicBezTo>
                  <a:pt x="19380" y="13428"/>
                  <a:pt x="19389" y="13411"/>
                  <a:pt x="19397" y="13395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35840" y="4687920"/>
            <a:ext cx="9360" cy="187200"/>
          </a:xfrm>
          <a:custGeom>
            <a:avLst/>
            <a:gdLst/>
            <a:ahLst/>
            <a:rect l="l" t="t" r="r" b="b"/>
            <a:pathLst>
              <a:path w="26" h="522">
                <a:moveTo>
                  <a:pt x="19571" y="13022"/>
                </a:moveTo>
                <a:cubicBezTo>
                  <a:pt x="19571" y="13191"/>
                  <a:pt x="19562" y="13352"/>
                  <a:pt x="19546" y="13519"/>
                </a:cubicBezTo>
                <a:cubicBezTo>
                  <a:pt x="19546" y="13527"/>
                  <a:pt x="19546" y="13535"/>
                  <a:pt x="19546" y="13543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224840" y="4732200"/>
            <a:ext cx="98280" cy="223920"/>
          </a:xfrm>
          <a:custGeom>
            <a:avLst/>
            <a:gdLst/>
            <a:ahLst/>
            <a:rect l="l" t="t" r="r" b="b"/>
            <a:pathLst>
              <a:path w="274" h="622">
                <a:moveTo>
                  <a:pt x="20290" y="13146"/>
                </a:moveTo>
                <a:cubicBezTo>
                  <a:pt x="20194" y="13178"/>
                  <a:pt x="20156" y="13329"/>
                  <a:pt x="20117" y="13444"/>
                </a:cubicBezTo>
                <a:cubicBezTo>
                  <a:pt x="20073" y="13618"/>
                  <a:pt x="20052" y="13658"/>
                  <a:pt x="20092" y="13767"/>
                </a:cubicBezTo>
                <a:cubicBezTo>
                  <a:pt x="20280" y="13695"/>
                  <a:pt x="20393" y="13473"/>
                  <a:pt x="20340" y="13246"/>
                </a:cubicBezTo>
                <a:cubicBezTo>
                  <a:pt x="20270" y="13152"/>
                  <a:pt x="20252" y="13117"/>
                  <a:pt x="20166" y="13171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483320" y="4687920"/>
            <a:ext cx="133560" cy="196920"/>
          </a:xfrm>
          <a:custGeom>
            <a:avLst/>
            <a:gdLst/>
            <a:ahLst/>
            <a:rect l="l" t="t" r="r" b="b"/>
            <a:pathLst>
              <a:path w="373" h="547">
                <a:moveTo>
                  <a:pt x="20786" y="13097"/>
                </a:moveTo>
                <a:cubicBezTo>
                  <a:pt x="20829" y="13054"/>
                  <a:pt x="20860" y="13035"/>
                  <a:pt x="20910" y="13022"/>
                </a:cubicBezTo>
                <a:cubicBezTo>
                  <a:pt x="21092" y="13152"/>
                  <a:pt x="21130" y="13371"/>
                  <a:pt x="20910" y="13543"/>
                </a:cubicBezTo>
                <a:cubicBezTo>
                  <a:pt x="20877" y="13551"/>
                  <a:pt x="20844" y="13560"/>
                  <a:pt x="20811" y="13568"/>
                </a:cubicBezTo>
                <a:cubicBezTo>
                  <a:pt x="20799" y="13414"/>
                  <a:pt x="20863" y="13308"/>
                  <a:pt x="21034" y="13419"/>
                </a:cubicBezTo>
                <a:cubicBezTo>
                  <a:pt x="21097" y="13482"/>
                  <a:pt x="21107" y="13499"/>
                  <a:pt x="21158" y="13519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43880" y="4660920"/>
            <a:ext cx="152280" cy="214200"/>
          </a:xfrm>
          <a:custGeom>
            <a:avLst/>
            <a:gdLst/>
            <a:ahLst/>
            <a:rect l="l" t="t" r="r" b="b"/>
            <a:pathLst>
              <a:path w="422" h="596">
                <a:moveTo>
                  <a:pt x="21431" y="12948"/>
                </a:moveTo>
                <a:cubicBezTo>
                  <a:pt x="21285" y="13140"/>
                  <a:pt x="21262" y="13232"/>
                  <a:pt x="21233" y="13469"/>
                </a:cubicBezTo>
                <a:cubicBezTo>
                  <a:pt x="21449" y="13525"/>
                  <a:pt x="21785" y="13447"/>
                  <a:pt x="21654" y="13097"/>
                </a:cubicBezTo>
                <a:cubicBezTo>
                  <a:pt x="21536" y="12979"/>
                  <a:pt x="21503" y="12936"/>
                  <a:pt x="21382" y="12998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t Rate Worksh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16:24:54Z</dcterms:created>
  <dc:creator>ccps</dc:creator>
  <dc:description/>
  <dc:language>en-US</dc:language>
  <cp:lastModifiedBy>demcgra</cp:lastModifiedBy>
  <dcterms:modified xsi:type="dcterms:W3CDTF">2012-05-24T15:25:57Z</dcterms:modified>
  <cp:revision>11</cp:revision>
  <dc:subject/>
  <dc:title>Unit 13</dc:title>
</cp:coreProperties>
</file>